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794E-A5E1-436C-A2EB-C4D02F4D9B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40D-DC4D-49C8-AD0E-1B12E23F0954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C48-165B-45CF-AC86-9339D012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638-15E6-4D16-8DBB-7D6897B5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C82C2-87D0-40FD-AA6D-AFF1751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63975-3B61-41C7-B997-C1891EE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1C40A-9AC5-4528-AED4-036CDD4C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900E0-512A-4CFC-BC12-0067DD9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2FBA9-A09B-4755-B7BF-A06DC02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F0424-180D-47CC-BE40-9B1042C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6A45E-349A-4EC1-8258-C51E87EF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3DC9D-61CF-4A1A-A7D5-B6E8A699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49472-C50F-408F-99BC-EC54361C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398A4-B10F-4CAD-80F9-92F9EED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C67-F087-42FC-B913-DE623386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62B8D-5A2E-44E5-8387-865AE53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57CF0-6245-47E3-A893-8BF7963F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E9570-2D74-4BB4-9498-381EE1B0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7A263-20C8-4061-8A72-F470A577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5E38D-0C8D-4A9D-8F78-53E38E2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F81E-E1CD-4A8B-AB72-ECEFEB5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D0C27-7E8E-4C36-9579-B7B6917A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9A3EA-2517-4FD9-8C5B-0557E81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E3B4D-6E76-4BF9-9343-0C18EE77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D34A0-2F36-4F20-80AF-19F09A8C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BB4-6AC6-43B6-87FB-78A6CC8B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BC3B5-F3C0-4D9C-9A37-C29BBF51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34645-B7D6-488C-AF1D-F5C614B0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583F8-3D1C-486D-9678-2C4A734A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7B4D5-BFAE-4505-8B19-56123E77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39110-040D-46AB-8BE8-AD7E8E30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0EA0-B0BF-4492-BD4D-07F3C6F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19221-74F7-4CA8-9C29-B62FED3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E741-5A17-4872-A9E4-F40B9899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63C9-BA2E-4B24-BBBE-99EDFA1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A399F-51F4-4A9D-A494-B4057F2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DD7-0DC0-4A0A-9F95-05BB45BA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02777-D247-4A68-87C8-BB59B7C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64BAA-02E2-463B-AC05-238CB44A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4DBB9-12AB-49BE-83D2-12BB6ADD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B25CC-3FCA-4EBC-B5B8-10C8A212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0616D-E94E-4AA7-99D1-2BD4744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09BCF-9193-437A-B98C-412EB8B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735CE-0E3E-4C8C-A0AF-00160792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CB511-E137-4BEC-8966-86378E2E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D9D38-146E-46AB-9F3B-AED31766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67550-0CB7-40F8-865A-F89C211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C2D-E157-4D7E-BC15-B1AB863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8501B-DCAC-4687-8A81-66CA688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C08B9-14C9-4B86-83B6-98FE730C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768A5-9BAD-43FC-ABDA-D3F638F5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92A30-323A-4D0E-8B2F-86C28880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67CCF-19D0-47C4-A3A3-F6D04C19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ED22-28A2-42CB-8C8B-E2E243A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F396-28D9-4083-9D32-D6E3BD29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46D3-8024-4596-8C50-C62B6AC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9583-E3EB-4449-8F5D-3A886642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A628-4A43-49C7-BA81-F1CC9949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173-F7A8-491E-9955-B637318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C918-BD70-44BA-A310-301AED7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B279-1875-469E-AD30-F30DA6F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ED4F-83C9-45E4-8ECC-47F491B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9BC-C303-48D9-9CB0-1DE42012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5B8-E652-4B78-997A-67ED3CFF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8E1A-7EA2-4471-BDFD-E641F5D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94E2-43C6-4DCF-968C-14ECB98A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5B79-557C-4CBA-B410-2B568D2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093B-C50A-4F9A-A587-504F097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0F7C-63D2-4392-9210-81CB1357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08A-539D-4DA0-99E2-13BCC92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1C21-F506-47A9-B26C-8EF99B4D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DD1B-11CF-4B16-A550-638CD1E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4A78-C204-45A9-8160-D83EF9DF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86A7-4DF0-4733-BF93-60644FA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F9C6-010A-43BA-9584-990F59C9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D92B-DED0-42F3-BF93-CED6C904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437A-6C84-4724-A978-65AA3A8B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A583-6C8E-4E0C-979A-FD9EF41C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4E90-356B-4C01-87F6-DC2B1CC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4A7D-D3D0-42AD-B8B0-4C863D6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200-4577-4CA8-807B-721FC754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F980-D485-40F6-B0A9-4B63CDA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3C1C-C862-4F96-8704-49D07D80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0AD5-368B-4631-BFF6-25EBD3DC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E75F-7E01-4047-8EF2-25EDE1E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4523-786F-4DD0-80DC-FB074E5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3618-A37C-4A5E-B159-40020BA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C33F-6C95-466D-9225-ADD4783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B369-47B2-4F52-8B08-B9F78DC1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A6C7-56C5-41A9-BF03-7B86D7A4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400E4-18A0-4A99-916E-8EF09DDB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83A-81C5-477B-A93D-C4B185A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9B15-7300-4C54-917C-3B9730FF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28DFC-F376-46E2-B60F-F041A77E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0B8B-962E-4EA2-A948-90234C50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AABB-6235-41A6-BAB1-418C4B4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41C3-F834-442A-910A-92BC36A5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B13E-80E9-4824-8702-D35FC36F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E3BD-1718-4C86-8BE5-338B173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C48E-9838-4760-A9A8-F98348A3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A9F87-0DCA-443F-BC20-01E3E5A6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5F9D-A76C-4D52-90B8-12B20791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10A-9101-4AA3-B9A4-3527D0D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20DC4-6ED4-46F9-A49E-97BD4819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0653-14A1-49EE-8109-21549B34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F580-7EB6-4065-AC15-E3000A1A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874B-D177-494F-AC2B-AAB89118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3DB8-AB88-4785-93F1-3EBE08BA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46F96-C9FE-44A0-8E4C-3ACB868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68A6D-BA92-439E-84A4-05DA06A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F2FDA-999B-4068-8679-A8F15EB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6555-0FDF-4E17-B972-501553F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F55F5-ACC4-40B7-B158-C988EC1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270-E64F-45AE-A5B6-2433478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166FF-CD84-4603-9A84-B0242F90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E941-0532-473E-B8E2-34A451E9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58FBF-6888-4433-8358-BF641A8E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851C-1336-463B-AE45-15CEB705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3C9E-2A11-4EF4-9102-942972BD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3AAE-6083-4E12-980D-9B3F73B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D2657-869B-44B0-9957-DEC6437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EBBD-42A2-4051-B661-F345881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507CA-B5B5-4BB3-8CFB-25A1D64D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AD18D-5C4B-4377-A6DB-FED7FA3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A9B-F81D-4CE3-9B90-654DFE5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164F-5817-41E5-BAB1-33071149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77BE-173A-428B-A228-B213F92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61FE7-4920-4138-BA6B-25B854E5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086D-B591-4D07-A961-16F78E42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7953-24D3-4AFA-A578-287AB029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6D1C-B366-407F-9D13-271846A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A708-6D10-41B0-9EE5-8BF0314E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C5E9A-7E51-4044-B37E-CB6CC453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9BB6-C98E-4CBF-8B74-BF457DA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0ED7-42CC-4F5F-A504-A09D6F1B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85D-D193-41B4-A3D1-2DD13EF1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9F81-E32D-4939-A9A1-905C059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64795-25AD-4155-A1E5-83FCD27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ECC6-F940-4402-8F97-AC9F9A9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2120-D1BD-4891-A1D7-8295EC2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AE0E-B97B-442E-8292-8406D08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A6D8-D1FD-42F5-B04A-AC434DB0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9419-295E-4673-B52B-EE4C3955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69842-629F-41BA-B984-35BEC0E3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6F8A6-4D16-489A-84D2-1CF1EAA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EE63-4BE6-4779-B19F-8C2A052C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9F75-5529-492D-8450-D363F2D3196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492-2A38-4EA0-B6F0-DA8569C4D51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2B87-941F-4EFB-AFF6-23B157B1F65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8F0-1364-44D7-918C-09751993207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5B4-2748-41B4-86AD-1A06015472C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D55B-FB16-4E89-8B82-008DCEFDB7D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2DE-9030-41FD-BD4E-6CB67EEDEED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CF4C-7BA9-43D6-8BB2-442C76B6CCC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9A88-DB03-4070-A52F-C108EE22A02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7165-E4F7-4677-9FEC-7666AAA98A1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7665-3A5A-4FBC-B73F-55E1550D717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A20-5DFD-482A-8B80-193A7533988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Review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are reviewers chosen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s on the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st cases, the AC tries to find the most expert reviewers for th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s reading the paper carefu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does the paper ci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 a bit about the area, and who the experts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to people and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some cases, automatic assignment from a 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ules for reviewing anyth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d the instructions to find out what you are being asked to do and w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 receive no instructions and are not clear about what you are being invited to do, ask for more information or decline the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the work not the person (unless you have been asked to do this), and don’t try to be cle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mit your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s objective as possible and take account of (and declare) any conflicts of intere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Get the invi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Determine whether you can do the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Read the paper for a general over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Read the publication’s review crite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Read the paper again, asking yourself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22392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next s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Decide on your score for th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. Write your review, arguing for or against th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. Decide on your expert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. Submit your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ee questions to ask of every research repor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I understand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question and the methods clearly expla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I believe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conclusions justified by the data and are the methods val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I ca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question important and inter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research problem or ques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problem/question well motivate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solution/answer appropriate to the ques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evaluation appropria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the conclusions vali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work new compared to previous work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work exciting and interest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work well presente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paper adequately refer to previous wor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the research be published in this venu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ten specific questions will be given to you in the review 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domain-specific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s on the ven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e of your review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ften specified by the publ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Summary of review and dec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reasons for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Summary of paper and main contrib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author claim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The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of earlier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Summ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nline review system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ur of P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get invited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 your name to the review database for your con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k your advisor to practice on their reviewing du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en </a:t>
            </a:r>
            <a:r>
              <a:rPr b="0" i="1" lang="en-US" sz="4000" spc="-1" strike="noStrike">
                <a:solidFill>
                  <a:srgbClr val="5a6378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 to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some cases you should not accept the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You have a conflict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You are not enough of an exp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en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You will not be able to complete the review properly in the required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 are going to refuse, best to do so right a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peer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revie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view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revie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rXiv - a peer review counter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Xiv.org is an archive of preprints in physics and m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500,000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er 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maintain qua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f-govern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orsements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rXiv - a counter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ck of peer-review, while a concern to some, is not considered a hindrance to those who use the arXiv. Many authors exercise care in what they post. A majority of the e-prints are also submitted to journals for publication, but some work, including some very influential papers, remain purely as e-prints and are never published in a peer-reviewed journal. A well-known example is a potential proof of the Poincaré conjecture uploaded by Grigori Perelman in November 2002. Perelman appears content to forgo the traditional peer-reviewed journal process, stating "If anybody is interested in my way of solving the problem, it's all there [on the arXiv] - let them go and read about it.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the arXiv does contain some dubious e-prints, such as those claiming to refute famous theorems or proving famous conjectures such as Fermat's last theorem using only high school mathematics, they are "surprisingly rare”. The arXiv generally re-classifies these works, e.g. in "General mathematics", rather than deleting them. Prominent parapsychologists - for example, Nobel laureate Brian Josephson, have complained that this reclassification amounts to academic censorship, and that the arXiv ought to have no bar to entry.”        - Wikip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is peer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ormal system whereby a piece of academic work is scrutinised by people who were not involved in its creation but are considered knowledgeable about the subject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so used to describe professional appraisal processes used to assess the performance of an individual, team, or department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ager, Godlee, and Jeff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review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gree of form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ial review for a publication or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review for a collea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onym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you review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ant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son (for hiring or promo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papers, type of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erence paper, journal article, book chapter,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y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er review is a cornerstone of sci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do we need review at al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(the research community) need to judge whether a proposed piece of work is in fact a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vie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the experts who can best judge the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not judge everything for yourself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enough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erences and journals provide authority about what is worth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y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there are resources or prizes at stake, there is a need to decide on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number of spaces at a con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number of pages in a jou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budget for a grant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number of Ph.D. dissertation scholar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ademic organizations are cheap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ney to pay expert revie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eer review is voluntary and unp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y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yourself up to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get to look at the lates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an’t talk about it thoug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 your car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ing is one of the chec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review proces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I – a large conference on H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layer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ogram co-chairs (“the chai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 chairs (“the ACs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? number of submissions /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condary AC for a paper (“the 2AC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bmitted papers (“the pape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thors of the papers (“the autho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eers who review the papers (“the reviewe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review proces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ime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tember 20: paper submission dead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tember 25: papers assigned to ACs by cha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tember 30: papers assigned to reviewers by A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tober 30: review deadline (for reviewe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5: meta-review deadline (for A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10: reviews released to authors for rebut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15: rebuttal deadline (for autho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15-25: discussion period (reviewers and A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25: assignment of 2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ember 5: program committee (PC)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ember 12: decisions sent to auth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10-29T20:21:43Z</dcterms:modified>
  <cp:revision>214</cp:revision>
  <dc:subject/>
  <dc:title>CMPT 105 Building Interactive Systems</dc:title>
</cp:coreProperties>
</file>