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C03-DDD6-412B-910B-EB3CA78B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9B4-43B6-42B0-9874-367FC580374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8E7-6D34-4018-BCB0-82A34FE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A0D-5606-4F9D-ABD2-5B26232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02CAE-06D4-428D-A884-0CD6F43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470A7-1141-4032-AEDB-911B18E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57CE-777A-4782-A679-EE66A897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E3ED5-2613-4774-9FC1-CB9ABED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8A16A-9104-47C7-94E2-30D6BC9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979E-8047-41BE-A985-4EE9AFA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4A24-0CC5-4686-B6ED-16F8039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21119-BC92-4504-B67B-15D1A508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7C21-6098-4A0F-8520-ED980EC6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11AC-DE7E-474C-94E3-1A5D24AA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BC4-D825-4D46-BA09-16DD338B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33ABF-E68A-4B07-98D6-7EF634C7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3AF37-EC7B-4739-8ED9-DB94D63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28B7-9BF9-4B02-ABE0-D9504B12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C9467-B40D-4BE8-BEE9-45D3D9D7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8443A-CF37-4E74-A5BC-AD5C0F38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098BA-6A7C-4122-A133-14A5D79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5C29D-5157-4271-A439-BF870FC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74258-A743-41D9-A2FE-CC1EF159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FECE-5703-4C1F-A14D-AC729A2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D309B-E828-4B67-A208-C7ED5B9D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4C4-F087-4BAE-B251-C03EEAD3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480E1-961B-435B-8541-62255B49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3482A-F10D-42CC-927E-F8D10EA4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8FE2-F18F-468C-B358-0146427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FB01-4A6E-45D8-9F9A-FB219BE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85CEB-1C7F-49CE-A8C3-B0F13C7C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D277-6B16-4760-A201-A14971C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5989-5206-4A95-974A-0035EB6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F3D16-46C5-4889-BFA6-2986715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B4CE-23CA-4061-873E-6911F2E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AE47E-AB77-4656-9196-82CD466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39F7-6449-49F4-908C-9D3A0C76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0C863-C9EA-43B0-8740-C5CDF17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93B0D-7DAD-45D9-A9F3-A53A685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AE39-7589-4428-BCC8-0F359E8A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785A-9638-4573-B644-368B66E9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61C63-2A44-4CFF-9FE9-18DF043D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90599-AB0A-47C0-AE13-500309B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FD328-C094-4CB1-A2AD-A4A9AFD1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CAD52-12E6-4801-AC75-6FBC1CB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90DCF-E4B1-4F35-99C7-B307AAD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DE587-CC65-477C-AA08-798198E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4B3-885B-4F28-8A8E-A1A8E778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87B3E-2583-4DAA-8402-1FEC3AB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86B3B-DF10-489C-AC9F-680B9A6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ED9CF-F822-487C-9554-D9EE140C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01BD-CAFA-41B7-9801-57272D97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58556-85B3-4797-9463-C7FA1858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69B-0AF0-45E5-9C73-52D0BCB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93E3-C882-4698-B855-DA269DD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9176-5382-4CF1-B88F-03CEC5A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645-54D6-4327-A5BE-A095D80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523-EF16-4AEC-B15D-B19427C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0EE-4CC9-4223-AF0B-D930D1C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49C9-63C0-41A7-8B02-F0881B2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31C-020B-479F-A3C1-6AFA1C6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215D-6835-4BD2-9DC8-6817EC2B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8485-C213-415C-B1FD-759E811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2D51-6AE1-49AF-BF5A-9238429E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6F01-989B-4D0D-AB8B-2D6E6499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A840-FA3B-4097-8357-2D5407B5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E899-76DB-43CC-91A7-D93B60F5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5E7A-6D46-4F50-BE50-0B53D19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ABE4-2AD1-4F3D-B36F-59462032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477-24B7-46BB-82A2-56E3AE7D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8576-B8FF-4E29-9583-091207A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1B9A-0F00-4477-BE0B-2D741F0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D848-C9C4-4330-B5B0-006D6AA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7627-E555-45DF-BAB6-0BDAA6D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072D-9716-49E7-A27B-C8982E87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4CB8-18DC-4504-96A2-402B3D55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0FA0-63B3-419F-A5F0-E3E0D590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05E3-1CF8-4124-9A83-DD8E2974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DD87-A52C-490E-BF05-1CD1406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A9C4-5DBB-4500-9FCC-B38EA94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C45-7238-4016-A847-507A4C58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3619-4541-4A89-BBD9-0102958F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155B-F6EF-4F11-8452-D8F3A68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D1AB-55BE-4438-BC51-5199A23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7401F-C35B-4988-843F-17FA6BF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7359-2191-4C41-AA79-E157FF3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42FD8-A7CF-448E-AF8C-F94FCE9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632D-652C-4AA3-B217-5C23A80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0231-4C0B-4DA0-AA95-7BBEF627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0D74-B423-4DD7-B901-984E6839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5BCA-A0A7-4A7A-B5FD-A540C04C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C46-EFF5-4873-A233-E2189609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DAE1D-7DFC-4003-A524-53C2A3AD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8789-074B-4BFF-8956-05C28B4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EB05-96A3-47F8-AB03-E8F288C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E5FF8-2F12-4702-8184-67FD4DC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90F6-D958-4A51-A45A-F1F41DD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EB73-4719-43F2-BA3F-9E3A1EE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33BC-0F36-452C-B640-FD35F09B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9CBB-1149-4A66-A9A1-CEBCCCB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8224-7576-4FAA-AB84-0913C34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7FF4-7B3C-4604-8EEF-E56337CE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20C-19BC-4DEE-9FCA-316072C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5D95-156D-499A-A8E1-22E652A3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1256-459C-4196-97A5-C73E88B4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6FFB-8602-49F6-BACE-3E8E0C6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1A77-B1DA-41C3-B7A5-58B369E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CC4F-3F3A-44CA-A84D-181665CC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3A47D-F571-4CC4-AB7F-6AE9005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4D3F4-7A32-4290-8919-70CAE1A8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0888-87E4-4220-AB93-5C358706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81F9-1075-4239-A5F7-E765184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E8C1-956E-403B-91F6-6D8A631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73E-304B-42B1-9C29-1E7177D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7E70-812C-4AB4-A854-462C4D2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3DA2-3C0F-4137-BA4E-3692D448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6530-1902-422E-AD77-2E6D88E9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4157-3DA1-4826-A675-E74BAF4F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9CF8-072A-4274-8FA5-7520ECD9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46FCF-5848-4B76-AEE9-2435551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C5F4-ACEC-432D-9F0D-276470E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58A1B-B6C0-4947-8DA4-8247B9B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80EC-A2A6-4D7F-90A6-37E455D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5F5D-9970-446B-8DAC-D847C1AD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812-841C-43E5-A52B-6FE7657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F472-2761-4F9A-A914-D0815EF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71BA-F934-4547-85FE-001034A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2A0B-23FC-4875-8987-EC0847A3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B32C-8FFC-4CC1-9954-FBE75E8D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6088D-33F3-4C03-AEC9-5E07849F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4342-9BBC-4B0A-B21C-F7F5FFAD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0D6A-2BD9-45B4-AB9A-8D2DF0A4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9CEB-E0BE-403F-99AE-F8FDDB2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1BCD-9AE5-4912-BEC9-B669C42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C6C9-F78B-49A6-9B36-9652CDB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FD6-AAA7-47B2-8396-ED08F5F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00AEE-3143-4796-B01D-32E79E0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FE134-0738-44C1-B252-5263C20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3E7C-3C52-4FF5-9E18-C73E532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EE0CE-BCB3-4197-A41C-1A18D03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0C0B-6A58-4B26-BBA2-F76B3A34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42827-95DB-4891-94F7-8D5F5E74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8836-9A2B-409E-B858-68C36A2D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DF139-98C0-4149-BCC4-18FFFB18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055E-404F-4C04-B3C3-781ED58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C075C-57FB-4FF7-9EB6-C21EA6A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788-433F-496A-B402-AD0921362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23D-32EC-4381-BBCE-0D807A1E6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E75-C79C-4C83-B784-D36E2FAFC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32E-6CE5-461A-B4C2-452E7EFDE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004-8372-45BC-91A9-FC240A21C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7BD-F937-4B01-A917-CAA28CADC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A851-E59F-463C-B6A6-58C89A17B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2B65-866B-4D7E-A218-B70A47EF3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058-6EF7-499A-837E-2442AC510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8855-B1F9-4764-8B6A-202E808A3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A373-C2CC-4B93-BED9-62052E46F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79A-3459-4364-8286-417821777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hoosing a research topic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ng research idea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you have any idea how to solve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you understand the mechanism underlying the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you know when you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lved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will you st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any cases; how much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the solution be evaluate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stable hypoth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ystem develops creative expression in childr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measures would you 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ng research idea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mportance of the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re important the problem, the more important your results will b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‘important’ mea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important” usually also means “harder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ng research idea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sky versus safe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ntribution or revolutionary ide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should you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Scoping and scal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r first formulation of a research problem will probably be too br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to narrow 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the things that would have to be done in order to solv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don’t know how you would do one of the steps, you may have a new research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laying it saf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 know which of these three is best” v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I bet that new technique X is bes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ell me your problem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2113200"/>
          </a:xfrm>
          <a:prstGeom prst="rect">
            <a:avLst/>
          </a:prstGeom>
          <a:ln w="28440">
            <a:solidFill>
              <a:srgbClr val="5a6378"/>
            </a:solidFill>
            <a:miter/>
          </a:ln>
        </p:spPr>
      </p:pic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2209680" y="2362320"/>
            <a:ext cx="4876920" cy="2112840"/>
          </a:xfrm>
          <a:prstGeom prst="rect">
            <a:avLst/>
          </a:prstGeom>
          <a:ln w="28440">
            <a:solidFill>
              <a:srgbClr val="5a6378"/>
            </a:solidFill>
            <a:miter/>
          </a:ln>
        </p:spPr>
      </p:pic>
      <p:pic>
        <p:nvPicPr>
          <p:cNvPr id="521" name="Picture 4" descr=""/>
          <p:cNvPicPr/>
          <p:nvPr/>
        </p:nvPicPr>
        <p:blipFill>
          <a:blip r:embed="rId3"/>
          <a:stretch/>
        </p:blipFill>
        <p:spPr>
          <a:xfrm>
            <a:off x="2209680" y="4572000"/>
            <a:ext cx="4876920" cy="2112840"/>
          </a:xfrm>
          <a:prstGeom prst="rect">
            <a:avLst/>
          </a:prstGeom>
          <a:ln w="28440">
            <a:solidFill>
              <a:srgbClr val="5a63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a research top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ng up with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to evaluate ideas for top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hat is a research topic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pecific question / problem that you are going to answer / solve in your proj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nknown which type of link preview most accurately represents the linked pag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specific than the gener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determine the destination page of a vague web link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ch more specific than the overall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avigation on the web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roblem statement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must be able to state your problem as a problem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currently have difficulty doing X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nknown whether X is tru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servers currently cannot determine X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are wit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improve the throughput of a notification serv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interests are in robot motion algorithm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 sensitivity can help systems make decision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Problem-based research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’s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 cares about the problem and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’s the solutio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you show that the solution is a good on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Ideas for research problem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a research notebo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d previous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ain prior work to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ild th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small research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your own experi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(carefully) at ‘hot areas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Habits and best practice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erve uninterrupted time to thi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ideas d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thra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nk in terms of problems / solutions / evalu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Evaluating research idea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ce you have a research idea, how do you know whether it’s any goo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it in fact a research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we already know the solu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science underlying the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anyone care about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ney, Happiness, Saf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09-24T14:49:54Z</dcterms:modified>
  <cp:revision>111</cp:revision>
  <dc:subject/>
  <dc:title>CMPT 105 Building Interactive Systems</dc:title>
</cp:coreProperties>
</file>