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7"/>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51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move the slide</a:t>
            </a:r>
            <a:endParaRPr b="0" lang="en-US" sz="4000" spc="-1" strike="noStrike">
              <a:solidFill>
                <a:srgbClr val="5a6378"/>
              </a:solidFill>
              <a:latin typeface="Calibri"/>
            </a:endParaRPr>
          </a:p>
        </p:txBody>
      </p:sp>
      <p:sp>
        <p:nvSpPr>
          <p:cNvPr id="51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7F16-8B65-4F3B-85BF-5B30BB07E173}"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2DDD-7E9A-4E52-837A-3A43FFCB499D}" type="slidenum">
              <a:rPr b="0" lang="en-CA" sz="1300" spc="-1" strike="noStrike">
                <a:solidFill>
                  <a:srgbClr val="000000"/>
                </a:solidFill>
                <a:latin typeface="Calibri"/>
              </a:rPr>
              <a:t>&lt;number&gt;</a:t>
            </a:fld>
            <a:endParaRPr b="0" lang="en-US" sz="1300" spc="-1" strike="noStrike">
              <a:solidFill>
                <a:srgbClr val="000000"/>
              </a:solidFill>
              <a:latin typeface="Arial"/>
            </a:endParaRPr>
          </a:p>
        </p:txBody>
      </p:sp>
      <p:sp>
        <p:nvSpPr>
          <p:cNvPr id="576" name="PlaceHolder 1"/>
          <p:cNvSpPr>
            <a:spLocks noGrp="1"/>
          </p:cNvSpPr>
          <p:nvPr>
            <p:ph type="sldImg"/>
          </p:nvPr>
        </p:nvSpPr>
        <p:spPr>
          <a:xfrm>
            <a:off x="1257480" y="720720"/>
            <a:ext cx="4800600" cy="3600360"/>
          </a:xfrm>
          <a:prstGeom prst="rect">
            <a:avLst/>
          </a:prstGeom>
          <a:ln w="0">
            <a:noFill/>
          </a:ln>
        </p:spPr>
      </p:sp>
      <p:sp>
        <p:nvSpPr>
          <p:cNvPr id="5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04615-3DED-420C-B408-98B8B63FC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8A115-EA3D-4CB1-8F9C-97D8C422A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0FC817-812D-4F34-B139-3F84D71D3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CF34CA-7C89-4601-A64C-DDC03ED23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094B4-ECDF-4ED3-BCEA-268307E05F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236AFA-6408-4B29-974F-FB0E24122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96CA61-56FC-4BDC-B27F-7D879413FC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C140F1-191D-4B06-BDD8-B4EE78906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5DE474-93F9-4FD8-AA31-834301C4A8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7C5920-FFF8-4F46-95F6-F6B03C81FD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007377-85A2-4E30-A390-52B8E5C14D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1ABA03-883C-4D73-BB5C-E6F53B7BEF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CA6BA-8EE1-4A76-93D2-416E4F64D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B3731D-8C8F-45F2-8389-1DB0DBB487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EB1570-23FC-447A-8FE5-4BD171A4E1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172486-4875-4A58-8E8D-7C305883A2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81BD81-2AB2-4829-A176-7510F46517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B7806B-540C-4285-AF9E-851028CC99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C8C990-D212-4C0E-9B88-38ABBBB5ED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1AD666-FAE0-452E-A964-7FA02F0438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634EA7-5E3A-4D2A-A736-6EB05DFB55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8FA878-A6C9-4A00-BAE2-34E5672253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086B7A-5BE4-433F-A588-6DE698E196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A901B-5BF0-4D37-BB26-4FB5A6819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CD6153-594C-4410-9E2F-5F2891E4F2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564B1A-DCB5-4C84-9A59-106CE5927A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D405EC-EB39-4F08-8615-07C5E4C4CD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EBA4D0-F840-424D-90E7-E5CA19A172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B413FC-06D8-4089-B62D-C3FDA11903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D6B35F-E2E3-4933-B22C-EA4C7C9522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ED5562-3614-415F-9AFC-FF742514DF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FE1843-078E-4DD3-8D68-81D4A7E89F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56FFD3-7C08-43D0-9FFD-3219A4D89C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63A762-9E70-4CC9-A82D-D2288D9E45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A51F8-B232-48CB-BE3E-553A92C0D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F2F8EB-05A7-46AA-A77E-F52390CB09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FE2524-4047-4331-A0A9-1BE581DC13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CD9678-A254-47FB-B2BD-16639CACE1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71D737-4A1A-46D3-8791-A32A6A6BDA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85211B-0EBB-4DBF-8FDB-77F98E18E9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5BA13D-685A-4AEC-BC4B-31B8445011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4AAB2F-FCF6-402E-966C-45B26539F3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F3DB2F-C49B-4D65-AB05-7E38F2297F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0024B5-1FEA-4935-B273-43DF92BCE4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F3E58D-FC0C-4424-9369-E4738FFD8B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49276-B7DC-4BD9-A586-457025226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0CB363-D22D-4F75-8C36-0654C053E5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0E7DA6-0D8D-4FE2-B071-28A9F20654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CD4A59-CBEA-487A-B2C1-BEA58570CC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2E6F2D-E1A8-42B7-B984-A10E630DD7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AE84A4-C311-43BB-B159-1FD8FBB62D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E1754-8A62-4075-A1B4-6395E22D4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BFADA-7604-4A9C-9206-947C67AD1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E574D-897E-4BC3-ADF3-B0DDA4DAC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923F3-480E-44B3-BEFB-891A35221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C9A95-D02A-4465-9534-E178369F4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5A53-D47F-4AF6-808A-4EF33BB34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618D8-A384-40F0-9366-0D9839688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4C887-479F-4FE3-9822-3EC508706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D4AF1-3A4D-49F0-A4D8-D5540D88C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3CF2D-0077-4D43-99E0-2BFC4057E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FF346-6E05-4FDC-A56E-0136686D5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C61CE6-CC53-4DFD-BE31-F0195081C0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4E5CF-83EB-4C03-A87A-CE34F63EA9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E96F7-A1CE-45C2-842C-1677A2BAB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690DDD-0C90-4C99-89A6-225B467F8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F47A1-328E-4C6B-8923-22EB168F8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701BE-3B3A-4FD9-8D50-B209DEEB9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5B8E5-787A-45FE-A63C-B9D176D1C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022B1-FF8B-4B17-9F88-C289C33B8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0EC3F-9ED4-4991-8095-209082B08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427C7-28F9-4164-9BBC-1DBD21D49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FDAF6-E98F-4073-A565-0CE78D10B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ACA4F-FD70-4D79-9C52-85317426DC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727883-881C-44DA-A706-A18CCBB91A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F2D488-AD5F-4C55-BD9E-43FA73470B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F838C6-07EA-4117-866E-5657CE6C1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91D1F-6269-4997-817F-E7898D74EB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1A8E6-306F-4FA0-80DF-78BDD1AF1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BD8D4-7765-43A9-A82B-C7068F4DD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50198-1E7D-4BDE-9E6A-85C93B50A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AB41B1-D32F-47FD-A53A-3AA3BB23F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5C4C0-01AE-4E1B-B47C-5015F459F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B8220-F1C2-4B1E-A636-3A21D785C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D2303-C3EF-46E1-9566-A79654464A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98F86-DAEE-4B61-8D1E-3C16F71D7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D78185-4398-4E42-90A4-1D4CF33788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5F23DB-64AC-42B5-AB09-0A7658487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963D9F-BA46-4838-8234-A4152B26BE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E4E07-71CE-44A7-8485-287E5FEC8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0085B-7AA8-49B3-A677-B0F3537012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8F1BE6-032D-4559-BF4B-4CB559E7F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AC5D9D-38E2-4E13-871E-C35D6A8B73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EAD88-FF98-4193-BAAD-AC397FC85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D86FC4-80EF-4475-8F74-B37AD64582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EA1AA-E4D5-41E1-B3D2-5CC4EFD9E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6C34B-EE08-437A-9395-07D2619CC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7D227-D897-4CA8-BAD1-2D575C1F9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739C1-10DE-4DED-8839-7BC503487B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B13C1E-241F-4C3F-BFD6-9568949378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4FBA7-DA43-4579-98B8-E68D4C6CE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77C8F-8B8B-4848-8453-06C8A78325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880FE7-8BD1-4537-8D3F-685B9F675B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D4018-419B-40B7-87DA-43EC042C3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725FB5-D534-4FA6-BC26-D2EE165FED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7A61F3-FBBA-431B-A76D-88511D74CB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D0837-0D32-4ABD-8878-E04D352645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C53301-5852-4973-8925-E3B618860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2646B-3B01-4D41-91E2-A89C24971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8595C-410E-40F0-834B-FD8BD49E8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4DD3B-6430-4A0C-B248-123F8A4AF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685A-B265-4F3E-BA1D-2154C7F9C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645419-0B92-4821-BBB7-5135D06D4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388E4B-C954-4519-A409-B6BA066ABC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E102E1-D850-4ABF-9BF9-5F85257A03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B0D1D3-B428-48BA-A5F7-619BD2F65C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BCA91F-9187-41E0-993F-781575D42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39CE82-96BB-46C1-9026-A97C95FC8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1D9C4-FF46-4FAA-9B23-E06BAC0CC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AA6E38-2616-495E-9226-B38FAC89F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BB9F68-C522-4206-ADB8-C1BD4AF4C4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0485B-4AC5-4D06-B474-7FEBA346D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8BE2-5DAC-4CAB-AFE8-96A4BA35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6EAEBB-8653-4DDE-AB67-E886D99F9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71BAA-F775-41A1-AEC9-9315E2958F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E05CD-E603-45CD-85D3-07737C5333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DE7741-C806-4D95-9A43-3B8439B3D0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9DA753-9B06-4104-AF29-1540225E2B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075114-4A20-40CB-8F9F-054F9CBFFA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1F3A29-C0AE-4241-ACD7-BB4CFA4DEC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1ED361-FDEF-47DA-AEE8-479C92B5FF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B91F9E-35F9-4E3D-9C68-3985AD9A6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A2B6F9-5F74-49F4-BAC1-D9A5657599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E7CCF-C7C2-453A-911F-CAD15438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CCE2C5-9797-4C80-B05B-E784FFFC62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5F927-D41D-4F27-A383-AF208E81A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4384F-1DC9-4596-9787-1431BB202D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80657-FABE-439A-8D40-111C3C601B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DBE826-BC6D-435E-AABF-6EB5EE6FC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438C45-0C13-4D1C-BB6C-B1C64AD043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029249-EB4E-45FD-92AE-FC3428D9A0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DE26F2-17D0-43B9-A8C5-FBC9E8814E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CF447-DBB8-452D-85B4-13F32AFCA8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84C485-9CFB-4A22-8D70-5F31B284A3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tangle 9"/>
          <p:cNvSpPr/>
          <p:nvPr/>
        </p:nvSpPr>
        <p:spPr>
          <a:xfrm>
            <a:off x="0" y="0"/>
            <a:ext cx="9144000" cy="6858000"/>
          </a:xfrm>
          <a:prstGeom prst="rect">
            <a:avLst/>
          </a:prstGeom>
          <a:solidFill>
            <a:srgbClr val="60b5cc"/>
          </a:solidFill>
          <a:ln w="1260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7632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BCAC-C7C3-44AB-830F-EA4E1D5BBC12}"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85" name="Rectangle 8"/>
          <p:cNvSpPr/>
          <p:nvPr/>
        </p:nvSpPr>
        <p:spPr>
          <a:xfrm flipV="1">
            <a:off x="68400" y="4682160"/>
            <a:ext cx="9007200" cy="91800"/>
          </a:xfrm>
          <a:prstGeom prst="rect">
            <a:avLst/>
          </a:prstGeom>
          <a:solidFill>
            <a:srgbClr val="f0a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
          <p:cNvSpPr/>
          <p:nvPr/>
        </p:nvSpPr>
        <p:spPr>
          <a:xfrm>
            <a:off x="68400" y="4649760"/>
            <a:ext cx="900720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
          <p:cNvSpPr/>
          <p:nvPr/>
        </p:nvSpPr>
        <p:spPr>
          <a:xfrm>
            <a:off x="68400" y="4773600"/>
            <a:ext cx="9007200" cy="4752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4A35-98D6-42D6-B45C-3E0B599B4196}"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4450-D0F2-47AE-BBF2-B314CBA462DB}"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0E3D-02A0-4ED9-8978-3E8568E88A84}"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solidFill>
            <a:srgbClr val="ffffff"/>
          </a:solid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f6d3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e886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404B-1D70-4491-889F-73E0AD627446}"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1" name="PlaceHolder 3"/>
          <p:cNvSpPr>
            <a:spLocks noGrp="1"/>
          </p:cNvSpPr>
          <p:nvPr>
            <p:ph type="dt" idx="7"/>
          </p:nvPr>
        </p:nvSpPr>
        <p:spPr>
          <a:xfrm>
            <a:off x="59432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6854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ECEE-096D-4F3E-BF3F-A42E8DB0D8CB}"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Rounded Rectangle 10"/>
          <p:cNvGrpSpPr/>
          <p:nvPr/>
        </p:nvGrpSpPr>
        <p:grpSpPr>
          <a:xfrm>
            <a:off x="60480" y="60480"/>
            <a:ext cx="9028080" cy="6711840"/>
            <a:chOff x="60480" y="60480"/>
            <a:chExt cx="9028080" cy="6711840"/>
          </a:xfrm>
        </p:grpSpPr>
        <p:pic>
          <p:nvPicPr>
            <p:cNvPr id="132" name="Rounded Rectangle 10" descr=""/>
            <p:cNvPicPr/>
            <p:nvPr/>
          </p:nvPicPr>
          <p:blipFill>
            <a:blip r:embed="rId2"/>
            <a:stretch/>
          </p:blipFill>
          <p:spPr>
            <a:xfrm>
              <a:off x="60480" y="60480"/>
              <a:ext cx="902808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f0ad00"/>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CEBD-BC02-4C58-B82D-F5AE33429B5E}"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67B9-54B5-4F7F-9FAF-7BEACEFBFD62}"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EDE4-7CBD-480C-9F96-84EFA0FD7387}"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8D68-46A3-422E-A4B9-51DD2B6F3450}"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4"/>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79F3-5897-48AA-98B7-C753A4751A45}"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4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27"/>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E2DD-97E7-4998-9639-5D7A36E7EC38}"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MPT 880/890</a:t>
            </a:r>
            <a:br>
              <a:rPr sz="4000"/>
            </a:br>
            <a:r>
              <a:rPr b="0" lang="en-US" sz="4000" spc="-1" strike="noStrike">
                <a:solidFill>
                  <a:srgbClr val="5a6378"/>
                </a:solidFill>
                <a:latin typeface="Calibri"/>
              </a:rPr>
              <a:t>Writing labs</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an argument?</a:t>
            </a:r>
            <a:endParaRPr b="0" lang="en-US" sz="4000" spc="-1" strike="noStrike">
              <a:solidFill>
                <a:srgbClr val="5a6378"/>
              </a:solidFill>
              <a:latin typeface="Calibri"/>
            </a:endParaRPr>
          </a:p>
        </p:txBody>
      </p:sp>
      <p:pic>
        <p:nvPicPr>
          <p:cNvPr id="535" name="Picture 2" descr=""/>
          <p:cNvPicPr/>
          <p:nvPr/>
        </p:nvPicPr>
        <p:blipFill>
          <a:blip r:embed="rId1"/>
          <a:srcRect l="27576" t="24599" r="48712" b="44995"/>
          <a:stretch/>
        </p:blipFill>
        <p:spPr>
          <a:xfrm>
            <a:off x="2394000" y="2027160"/>
            <a:ext cx="4356000" cy="3413160"/>
          </a:xfrm>
          <a:prstGeom prst="rect">
            <a:avLst/>
          </a:prstGeom>
          <a:ln w="28440">
            <a:solidFill>
              <a:srgbClr val="f0ad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an argument?</a:t>
            </a:r>
            <a:endParaRPr b="0" lang="en-US" sz="4000" spc="-1" strike="noStrike">
              <a:solidFill>
                <a:srgbClr val="5a6378"/>
              </a:solidFill>
              <a:latin typeface="Calibri"/>
            </a:endParaRPr>
          </a:p>
        </p:txBody>
      </p:sp>
      <p:sp>
        <p:nvSpPr>
          <p:cNvPr id="537"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ttempt to convince the reader of something</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have ‘something to say,’ a point to mak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than just statements of fac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guments are based on making </a:t>
            </a:r>
            <a:r>
              <a:rPr b="0" i="1" lang="en-US" sz="2600" spc="-1" strike="noStrike">
                <a:solidFill>
                  <a:srgbClr val="000000"/>
                </a:solidFill>
                <a:latin typeface="Calibri"/>
              </a:rPr>
              <a:t>claim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cency-based caches have lower fault rates than frequency-based cache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alos help users understand the locations of off-screen objects of interes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nterpreting information visualizations is a substantial problem for colour-blind user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 conversation with a skeptic</a:t>
            </a:r>
            <a:endParaRPr b="0" lang="en-US" sz="4000" spc="-1" strike="noStrike">
              <a:solidFill>
                <a:srgbClr val="5a6378"/>
              </a:solidFill>
              <a:latin typeface="Calibri"/>
            </a:endParaRPr>
          </a:p>
        </p:txBody>
      </p:sp>
      <p:sp>
        <p:nvSpPr>
          <p:cNvPr id="539"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Recency-based caches have lower fault rates than frequency-based cach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h really? Why do you say that?</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Halos help users understand the locations of off-screen objects of interest”</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at so? Convince m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Interpreting information visualizations is a substantial problem for colour-blind user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don’t believe you.</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structure of an argument</a:t>
            </a:r>
            <a:endParaRPr b="0" lang="en-US" sz="4000" spc="-1" strike="noStrike">
              <a:solidFill>
                <a:srgbClr val="5a6378"/>
              </a:solidFill>
              <a:latin typeface="Calibri"/>
            </a:endParaRPr>
          </a:p>
        </p:txBody>
      </p:sp>
      <p:sp>
        <p:nvSpPr>
          <p:cNvPr id="541"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son(s) for the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 for the reas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important to understand the argument before you write the paragraph / paper!</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the argument out in point form firs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Questions (for the writer)</a:t>
            </a:r>
            <a:endParaRPr b="0" lang="en-US" sz="4000" spc="-1" strike="noStrike">
              <a:solidFill>
                <a:srgbClr val="5a6378"/>
              </a:solidFill>
              <a:latin typeface="Calibri"/>
            </a:endParaRPr>
          </a:p>
        </p:txBody>
      </p:sp>
      <p:sp>
        <p:nvSpPr>
          <p:cNvPr id="543" name=""/>
          <p:cNvSpPr txBox="1"/>
          <p:nvPr/>
        </p:nvSpPr>
        <p:spPr>
          <a:xfrm>
            <a:off x="685440" y="1447920"/>
            <a:ext cx="80010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my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reasons support my 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evidence supports my reas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 I acknowledge and respond to likely objecti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principle makes my reasons relevant to my clai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a claim?</a:t>
            </a:r>
            <a:endParaRPr b="0" lang="en-US" sz="4000" spc="-1" strike="noStrike">
              <a:solidFill>
                <a:srgbClr val="5a6378"/>
              </a:solidFill>
              <a:latin typeface="Calibri"/>
            </a:endParaRPr>
          </a:p>
        </p:txBody>
      </p:sp>
      <p:sp>
        <p:nvSpPr>
          <p:cNvPr id="545"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entence that asserts something is true or false</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Lurkers are a drain on the resources of an online community”</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i="1" lang="en-US" sz="2600" spc="-1" strike="noStrike">
                <a:solidFill>
                  <a:srgbClr val="000000"/>
                </a:solidFill>
                <a:latin typeface="Calibri"/>
              </a:rPr>
              <a:t>main claim </a:t>
            </a:r>
            <a:r>
              <a:rPr b="0" lang="en-US" sz="2600" spc="-1" strike="noStrike">
                <a:solidFill>
                  <a:srgbClr val="000000"/>
                </a:solidFill>
                <a:latin typeface="Calibri"/>
              </a:rPr>
              <a:t>of your paper is the claim that is supported by the entire paper</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Auditory cues reduce the time it takes users to locate the mouse cursor”</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a reason?</a:t>
            </a:r>
            <a:endParaRPr b="0" lang="en-US" sz="4000" spc="-1" strike="noStrike">
              <a:solidFill>
                <a:srgbClr val="5a6378"/>
              </a:solidFill>
              <a:latin typeface="Calibri"/>
            </a:endParaRPr>
          </a:p>
        </p:txBody>
      </p:sp>
      <p:sp>
        <p:nvSpPr>
          <p:cNvPr id="547"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entence supporting a claim</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swers the question “why?” after a claim</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wareness is an important design principle for distributed groupware” [claim]</a:t>
            </a:r>
            <a:endParaRPr b="0" lang="en-US" sz="20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hy?”</a:t>
            </a:r>
            <a:endParaRPr b="0" lang="en-US" sz="20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ecause awareness allows more efficient communication”</a:t>
            </a:r>
            <a:endParaRPr b="0" lang="en-US" sz="20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a reason is also a claim!</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may be supported by another reas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at some point, the support will be </a:t>
            </a:r>
            <a:r>
              <a:rPr b="0" i="1" lang="en-US" sz="2400" spc="-1" strike="noStrike">
                <a:solidFill>
                  <a:srgbClr val="000000"/>
                </a:solidFill>
                <a:latin typeface="Calibri"/>
              </a:rPr>
              <a:t>evid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evidence?</a:t>
            </a:r>
            <a:endParaRPr b="0" lang="en-US" sz="4000" spc="-1" strike="noStrike">
              <a:solidFill>
                <a:srgbClr val="5a6378"/>
              </a:solidFill>
              <a:latin typeface="Calibri"/>
            </a:endParaRPr>
          </a:p>
        </p:txBody>
      </p:sp>
      <p:sp>
        <p:nvSpPr>
          <p:cNvPr id="549"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tences that state facts, findings, or resul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ctual data</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hing that can be measured or see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isheye views provide a better sense of context than traditional zoom view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ecause they provide visibility of the entire dataset at all time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ere is a demonstration showing that they provide better vis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ort out the parts</a:t>
            </a:r>
            <a:endParaRPr b="0" lang="en-US" sz="4000" spc="-1" strike="noStrike">
              <a:solidFill>
                <a:srgbClr val="5a6378"/>
              </a:solidFill>
              <a:latin typeface="Calibri"/>
            </a:endParaRPr>
          </a:p>
        </p:txBody>
      </p:sp>
      <p:sp>
        <p:nvSpPr>
          <p:cNvPr id="551"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V violence can have harmful effects on childre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those exposed to lots of TV tend to adopt the values of what they se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exposure to violent images makes children unable to distinguish fantasy from reality</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mith (1997) found that children ages 5-7 who watched more than three hours of violent TV per day were 25% more likely to say that what they saw on television was really happen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Responding to objections</a:t>
            </a:r>
            <a:endParaRPr b="0" lang="en-US" sz="4000" spc="-1" strike="noStrike">
              <a:solidFill>
                <a:srgbClr val="5a6378"/>
              </a:solidFill>
              <a:latin typeface="Calibri"/>
            </a:endParaRPr>
          </a:p>
        </p:txBody>
      </p:sp>
      <p:sp>
        <p:nvSpPr>
          <p:cNvPr id="553"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But what about X?”</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must anticipate your readers’ objections and address the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I have solved problem Y”</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ut is your solution feasibl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ut will your solution cost more mone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ut will it work in all case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ut will it cause more problems than it solve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But is it better than the current method of solving 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utline</a:t>
            </a:r>
            <a:endParaRPr b="0" lang="en-US" sz="4000" spc="-1" strike="noStrike">
              <a:solidFill>
                <a:srgbClr val="5a6378"/>
              </a:solidFill>
              <a:latin typeface="Calibri"/>
            </a:endParaRPr>
          </a:p>
        </p:txBody>
      </p:sp>
      <p:sp>
        <p:nvSpPr>
          <p:cNvPr id="520" name="PlaceHolder 2"/>
          <p:cNvSpPr>
            <a:spLocks noGrp="1"/>
          </p:cNvSpPr>
          <p:nvPr>
            <p:ph/>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ing problems in paragraph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gumen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should be an argument and what shouldn’t?</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im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s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onnecting reasons to claims</a:t>
            </a:r>
            <a:endParaRPr b="0" lang="en-US" sz="4000" spc="-1" strike="noStrike">
              <a:solidFill>
                <a:srgbClr val="5a6378"/>
              </a:solidFill>
              <a:latin typeface="Calibri"/>
            </a:endParaRPr>
          </a:p>
        </p:txBody>
      </p:sp>
      <p:sp>
        <p:nvSpPr>
          <p:cNvPr id="555"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Health-care costs will continue to rise in the northern hemisphere because of global warming”</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h? How does global warming have anything to do with health-care cost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eason doesn’t support your claim</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arrants</a:t>
            </a:r>
            <a:r>
              <a:rPr b="0" lang="en-US" sz="2600" spc="-1" strike="noStrike">
                <a:solidFill>
                  <a:srgbClr val="000000"/>
                </a:solidFill>
                <a:latin typeface="Calibri"/>
              </a:rPr>
              <a:t> provide a general principle that establishes the relevance of your reason to your claim</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hen there are fewer hard freezes in a region, subtropical insects and therefore subtropical diseases become more common, and these are very expensive to tre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Up Arrow 11"/>
          <p:cNvSpPr/>
          <p:nvPr/>
        </p:nvSpPr>
        <p:spPr>
          <a:xfrm rot="10800000">
            <a:off x="1028880" y="3048120"/>
            <a:ext cx="761760" cy="1218960"/>
          </a:xfrm>
          <a:prstGeom prst="upArrow">
            <a:avLst>
              <a:gd name="adj1" fmla="val 50000"/>
              <a:gd name="adj2" fmla="val 50006"/>
            </a:avLst>
          </a:prstGeom>
          <a:solidFill>
            <a:srgbClr val="f0ad00"/>
          </a:solidFill>
          <a:ln w="1260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arrants</a:t>
            </a:r>
            <a:endParaRPr b="0" lang="en-US" sz="4000" spc="-1" strike="noStrike">
              <a:solidFill>
                <a:srgbClr val="5a6378"/>
              </a:solidFill>
              <a:latin typeface="Calibri"/>
            </a:endParaRPr>
          </a:p>
        </p:txBody>
      </p:sp>
      <p:sp>
        <p:nvSpPr>
          <p:cNvPr id="558" name="TextBox 3"/>
          <p:cNvSpPr/>
          <p:nvPr/>
        </p:nvSpPr>
        <p:spPr>
          <a:xfrm>
            <a:off x="1180080" y="1600200"/>
            <a:ext cx="7210800" cy="368280"/>
          </a:xfrm>
          <a:prstGeom prst="rect">
            <a:avLst/>
          </a:prstGeom>
          <a:solidFill>
            <a:srgbClr val="60b5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general circumstance    leads to          This general consequence</a:t>
            </a:r>
            <a:endParaRPr b="0" lang="en-US" sz="1800" spc="-1" strike="noStrike">
              <a:solidFill>
                <a:srgbClr val="000000"/>
              </a:solidFill>
              <a:latin typeface="Arial"/>
            </a:endParaRPr>
          </a:p>
        </p:txBody>
      </p:sp>
      <p:sp>
        <p:nvSpPr>
          <p:cNvPr id="559" name="TextBox 4"/>
          <p:cNvSpPr/>
          <p:nvPr/>
        </p:nvSpPr>
        <p:spPr>
          <a:xfrm>
            <a:off x="1256040" y="5715000"/>
            <a:ext cx="7198920" cy="368280"/>
          </a:xfrm>
          <a:prstGeom prst="rect">
            <a:avLst/>
          </a:prstGeom>
          <a:solidFill>
            <a:srgbClr val="60b5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pecific circumstance    lets us infer    This specific consequence</a:t>
            </a:r>
            <a:endParaRPr b="0" lang="en-US" sz="1800" spc="-1" strike="noStrike">
              <a:solidFill>
                <a:srgbClr val="000000"/>
              </a:solidFill>
              <a:latin typeface="Arial"/>
            </a:endParaRPr>
          </a:p>
        </p:txBody>
      </p:sp>
      <p:sp>
        <p:nvSpPr>
          <p:cNvPr id="560" name="TextBox 5"/>
          <p:cNvSpPr/>
          <p:nvPr/>
        </p:nvSpPr>
        <p:spPr>
          <a:xfrm>
            <a:off x="1219320" y="4362480"/>
            <a:ext cx="2743200" cy="1191240"/>
          </a:xfrm>
          <a:prstGeom prst="rect">
            <a:avLst/>
          </a:prstGeom>
          <a:solidFill>
            <a:srgbClr val="60b5cc"/>
          </a:solidFill>
          <a:ln w="9360">
            <a:solidFill>
              <a:srgbClr val="f0ad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warming is reducing the number of hard freezes in the northern hemisphere</a:t>
            </a:r>
            <a:endParaRPr b="0" lang="en-US" sz="1800" spc="-1" strike="noStrike">
              <a:solidFill>
                <a:srgbClr val="000000"/>
              </a:solidFill>
              <a:latin typeface="Arial"/>
            </a:endParaRPr>
          </a:p>
        </p:txBody>
      </p:sp>
      <p:sp>
        <p:nvSpPr>
          <p:cNvPr id="561" name="TextBox 6"/>
          <p:cNvSpPr/>
          <p:nvPr/>
        </p:nvSpPr>
        <p:spPr>
          <a:xfrm>
            <a:off x="5715000" y="4419720"/>
            <a:ext cx="2743200" cy="916920"/>
          </a:xfrm>
          <a:prstGeom prst="rect">
            <a:avLst/>
          </a:prstGeom>
          <a:solidFill>
            <a:srgbClr val="60b5cc"/>
          </a:solidFill>
          <a:ln w="9360">
            <a:solidFill>
              <a:srgbClr val="f0ad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are costs will rise in the northern hemisphere</a:t>
            </a:r>
            <a:endParaRPr b="0" lang="en-US" sz="1800" spc="-1" strike="noStrike">
              <a:solidFill>
                <a:srgbClr val="000000"/>
              </a:solidFill>
              <a:latin typeface="Arial"/>
            </a:endParaRPr>
          </a:p>
        </p:txBody>
      </p:sp>
      <p:sp>
        <p:nvSpPr>
          <p:cNvPr id="562" name="TextBox 7"/>
          <p:cNvSpPr/>
          <p:nvPr/>
        </p:nvSpPr>
        <p:spPr>
          <a:xfrm>
            <a:off x="1143000" y="2068560"/>
            <a:ext cx="2743200" cy="368280"/>
          </a:xfrm>
          <a:prstGeom prst="rect">
            <a:avLst/>
          </a:prstGeom>
          <a:solidFill>
            <a:srgbClr val="60b5cc"/>
          </a:solidFill>
          <a:ln w="9360">
            <a:solidFill>
              <a:srgbClr val="f0ad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hard freezes</a:t>
            </a:r>
            <a:endParaRPr b="0" lang="en-US" sz="1800" spc="-1" strike="noStrike">
              <a:solidFill>
                <a:srgbClr val="000000"/>
              </a:solidFill>
              <a:latin typeface="Arial"/>
            </a:endParaRPr>
          </a:p>
        </p:txBody>
      </p:sp>
      <p:sp>
        <p:nvSpPr>
          <p:cNvPr id="563" name="TextBox 8"/>
          <p:cNvSpPr/>
          <p:nvPr/>
        </p:nvSpPr>
        <p:spPr>
          <a:xfrm>
            <a:off x="5638680" y="2097000"/>
            <a:ext cx="2743200" cy="642600"/>
          </a:xfrm>
          <a:prstGeom prst="rect">
            <a:avLst/>
          </a:prstGeom>
          <a:solidFill>
            <a:srgbClr val="60b5cc"/>
          </a:solidFill>
          <a:ln w="9360">
            <a:solidFill>
              <a:srgbClr val="f0ad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xpensive sub-tropical diseases</a:t>
            </a:r>
            <a:endParaRPr b="0" lang="en-US" sz="1800" spc="-1" strike="noStrike">
              <a:solidFill>
                <a:srgbClr val="000000"/>
              </a:solidFill>
              <a:latin typeface="Arial"/>
            </a:endParaRPr>
          </a:p>
        </p:txBody>
      </p:sp>
      <p:sp>
        <p:nvSpPr>
          <p:cNvPr id="564" name="Up Arrow 9"/>
          <p:cNvSpPr/>
          <p:nvPr/>
        </p:nvSpPr>
        <p:spPr>
          <a:xfrm>
            <a:off x="3063960" y="2514600"/>
            <a:ext cx="761760" cy="1219320"/>
          </a:xfrm>
          <a:prstGeom prst="upArrow">
            <a:avLst>
              <a:gd name="adj1" fmla="val 50000"/>
              <a:gd name="adj2" fmla="val 50021"/>
            </a:avLst>
          </a:prstGeom>
          <a:solidFill>
            <a:srgbClr val="f0ad00"/>
          </a:solidFill>
          <a:ln w="1260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0"/>
          <p:cNvSpPr/>
          <p:nvPr/>
        </p:nvSpPr>
        <p:spPr>
          <a:xfrm>
            <a:off x="1143000" y="312408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good instance of this</a:t>
            </a:r>
            <a:endParaRPr b="0" lang="en-US" sz="1400" spc="-1" strike="noStrike">
              <a:solidFill>
                <a:srgbClr val="000000"/>
              </a:solidFill>
              <a:latin typeface="Arial"/>
            </a:endParaRPr>
          </a:p>
        </p:txBody>
      </p:sp>
      <p:sp>
        <p:nvSpPr>
          <p:cNvPr id="566" name="Up Arrow 12"/>
          <p:cNvSpPr/>
          <p:nvPr/>
        </p:nvSpPr>
        <p:spPr>
          <a:xfrm rot="10800000">
            <a:off x="5638320" y="3200040"/>
            <a:ext cx="762120" cy="1219320"/>
          </a:xfrm>
          <a:prstGeom prst="upArrow">
            <a:avLst>
              <a:gd name="adj1" fmla="val 50000"/>
              <a:gd name="adj2" fmla="val 49997"/>
            </a:avLst>
          </a:prstGeom>
          <a:solidFill>
            <a:srgbClr val="f0ad00"/>
          </a:solidFill>
          <a:ln w="1260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Up Arrow 13"/>
          <p:cNvSpPr/>
          <p:nvPr/>
        </p:nvSpPr>
        <p:spPr>
          <a:xfrm>
            <a:off x="7674120" y="2666880"/>
            <a:ext cx="761760" cy="1219320"/>
          </a:xfrm>
          <a:prstGeom prst="upArrow">
            <a:avLst>
              <a:gd name="adj1" fmla="val 50000"/>
              <a:gd name="adj2" fmla="val 50021"/>
            </a:avLst>
          </a:prstGeom>
          <a:solidFill>
            <a:srgbClr val="f0ad00"/>
          </a:solidFill>
          <a:ln w="1260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4"/>
          <p:cNvSpPr/>
          <p:nvPr/>
        </p:nvSpPr>
        <p:spPr>
          <a:xfrm>
            <a:off x="5753160" y="327672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good instance of th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re warrants always necessary?</a:t>
            </a:r>
            <a:endParaRPr b="0" lang="en-US" sz="4000" spc="-1" strike="noStrike">
              <a:solidFill>
                <a:srgbClr val="5a6378"/>
              </a:solidFill>
              <a:latin typeface="Calibri"/>
            </a:endParaRPr>
          </a:p>
        </p:txBody>
      </p:sp>
      <p:sp>
        <p:nvSpPr>
          <p:cNvPr id="570"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alway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depends on what your readers are likely to accept</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controversial claims may need more reason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l-accepted claims may need no reason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Everyone knows that …”</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sons that are not obvious need warran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oint is to think about your read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xample</a:t>
            </a:r>
            <a:endParaRPr b="0" lang="en-US" sz="4000" spc="-1" strike="noStrike">
              <a:solidFill>
                <a:srgbClr val="5a6378"/>
              </a:solidFill>
              <a:latin typeface="Calibri"/>
            </a:endParaRPr>
          </a:p>
        </p:txBody>
      </p:sp>
      <p:sp>
        <p:nvSpPr>
          <p:cNvPr id="572" name=""/>
          <p:cNvSpPr txBox="1"/>
          <p:nvPr/>
        </p:nvSpPr>
        <p:spPr>
          <a:xfrm>
            <a:off x="685800" y="1447920"/>
            <a:ext cx="777240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ightly-coupled interaction is common in the real world, the precision timing and exact movements required for this degree of coordination are extremely difficult to achieve in distributed groupware. This is largely because of the presence of network delay: delay makes it difficult for people to coordinate their actions, because the visual information that shows what other people are doing arrives late, and the shared action quickly become disorganized. The interdependency and the fine granularity of tightly-coupled interaction makes this type of coordination sensitive to latencies as low as 100-200ms [2], which are still frequently seen in Internet applications. </a:t>
            </a:r>
            <a:endParaRPr b="0" lang="en-US" sz="24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xercise</a:t>
            </a:r>
            <a:endParaRPr b="0" lang="en-US" sz="4000" spc="-1" strike="noStrike">
              <a:solidFill>
                <a:srgbClr val="5a6378"/>
              </a:solidFill>
              <a:latin typeface="Calibri"/>
            </a:endParaRPr>
          </a:p>
        </p:txBody>
      </p:sp>
      <p:sp>
        <p:nvSpPr>
          <p:cNvPr id="574"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claim, reason(s), warrants, and evidence about which programming language should be taught in first-year computer science class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lude (for practice) all the elemen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up the evidence (but make it sound believa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22" name=""/>
          <p:cNvSpPr txBox="1"/>
          <p:nvPr/>
        </p:nvSpPr>
        <p:spPr>
          <a:xfrm>
            <a:off x="685800" y="1447920"/>
            <a:ext cx="7772400" cy="4572000"/>
          </a:xfrm>
          <a:prstGeom prst="rect">
            <a:avLst/>
          </a:prstGeom>
          <a:noFill/>
          <a:ln w="0">
            <a:noFill/>
          </a:ln>
        </p:spPr>
        <p:txBody>
          <a:bodyPr anchor="t">
            <a:normAutofit fontScale="94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ther key aspect of this thesis is availability. This is defined as how accessible an individual is.  It is in many ways the other half of the natural interaction of awareness. While others are aware of you, you are available to them. In this context, it is the level of social interaction that you are capable of or willing to be a part of. Whereas awareness is the interpretation by others of data about you, availability relates more to the raw data (embodiment, location, activity) about you as an individual. Where awareness is the metaphor for the social status you provide, availability contains the semantic information that you pres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24"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d the paragraph and think about:</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topic of the paragraph?</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argument?</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writer trying to accomplish in the paragraph</a:t>
            </a:r>
            <a:endParaRPr b="0" lang="en-US" sz="20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or convince?</a:t>
            </a:r>
            <a:endParaRPr b="0" lang="en-US" sz="20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only inform, then why?</a:t>
            </a:r>
            <a:endParaRPr b="0" lang="en-US" sz="20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main point stated early? </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opic sentence’</a:t>
            </a:r>
            <a:endParaRPr b="0" lang="en-US" sz="20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the sentences support the paragraph’s argumen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the sentences themselves say?</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what expectations do they implicitly introdu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26"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hange will allow us to better leverage our talent base in an area where developmental roles are under way and strategically focuses us toward the upcoming Business System transition where Systems literacy and accuracy will be essential to maintain and to further improve service levels to our customer base going forwa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28" name=""/>
          <p:cNvSpPr txBox="1"/>
          <p:nvPr/>
        </p:nvSpPr>
        <p:spPr>
          <a:xfrm>
            <a:off x="685800" y="1447920"/>
            <a:ext cx="7772400" cy="4572000"/>
          </a:xfrm>
          <a:prstGeom prst="rect">
            <a:avLst/>
          </a:prstGeom>
          <a:noFill/>
          <a:ln w="0">
            <a:noFill/>
          </a:ln>
        </p:spPr>
        <p:txBody>
          <a:bodyPr anchor="t">
            <a:normAutofit fontScale="98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 our society, it has been shown that there is an individual. An individual with individual thoughts and actions. But who determines whether or not he is correct in their choices? Are our thoughts brain washed through the media with it’s hellish ideas or our closet friends that try to direct us in the right direction? No one may ever know what is right or wrong. So what is ethical relativism anyway? And who is behind all of the madness of ethical relativism? It has been said that relativist’s are believed to think that relativism is true. Ethical Relativism is of a mind to say that whatever one’s culture says is right is the right thing for him or her to do. One might conclude that the world we human beings live in is not without a variety of many different and diverse cultures with different cultural practices and hence different moralities. Studying ethics from a philosophical point of view, ethical relativist’s might conclude that your wasting your time just like philosophers have always wasted they’re 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30" name=""/>
          <p:cNvSpPr txBox="1"/>
          <p:nvPr/>
        </p:nvSpPr>
        <p:spPr>
          <a:xfrm>
            <a:off x="685800" y="1447920"/>
            <a:ext cx="777240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simplify the process of designing augmented interactions for WIMP interfaces, we present a conceptual framework that is based on a high-level view of a user’s interaction with a GUI. The framework has at its core the idea of an </a:t>
            </a:r>
            <a:r>
              <a:rPr b="0" i="1" lang="en-US" sz="2400" spc="-1" strike="noStrike">
                <a:solidFill>
                  <a:srgbClr val="000000"/>
                </a:solidFill>
                <a:latin typeface="Calibri"/>
              </a:rPr>
              <a:t>interaction</a:t>
            </a:r>
            <a:r>
              <a:rPr b="0" lang="en-US" sz="2400" spc="-1" strike="noStrike">
                <a:solidFill>
                  <a:srgbClr val="000000"/>
                </a:solidFill>
                <a:latin typeface="Calibri"/>
              </a:rPr>
              <a:t>, which we define as a combination of an </a:t>
            </a:r>
            <a:r>
              <a:rPr b="0" i="1" lang="en-US" sz="2400" spc="-1" strike="noStrike">
                <a:solidFill>
                  <a:srgbClr val="000000"/>
                </a:solidFill>
                <a:latin typeface="Calibri"/>
              </a:rPr>
              <a:t>object</a:t>
            </a:r>
            <a:r>
              <a:rPr b="0" lang="en-US" sz="2400" spc="-1" strike="noStrike">
                <a:solidFill>
                  <a:srgbClr val="000000"/>
                </a:solidFill>
                <a:latin typeface="Calibri"/>
              </a:rPr>
              <a:t> in the interface with one or more </a:t>
            </a:r>
            <a:r>
              <a:rPr b="0" i="1" lang="en-US" sz="2400" spc="-1" strike="noStrike">
                <a:solidFill>
                  <a:srgbClr val="000000"/>
                </a:solidFill>
                <a:latin typeface="Calibri"/>
              </a:rPr>
              <a:t>actions</a:t>
            </a:r>
            <a:r>
              <a:rPr b="0" lang="en-US" sz="2400" spc="-1" strike="noStrike">
                <a:solidFill>
                  <a:srgbClr val="000000"/>
                </a:solidFill>
                <a:latin typeface="Calibri"/>
              </a:rPr>
              <a:t>, each of which have a characteristic degree of freedom. Interactions are undertaken in service of a user </a:t>
            </a:r>
            <a:r>
              <a:rPr b="0" i="1" lang="en-US" sz="2400" spc="-1" strike="noStrike">
                <a:solidFill>
                  <a:srgbClr val="000000"/>
                </a:solidFill>
                <a:latin typeface="Calibri"/>
              </a:rPr>
              <a:t>task</a:t>
            </a:r>
            <a:r>
              <a:rPr b="0" lang="en-US" sz="2400" spc="-1" strike="noStrike">
                <a:solidFill>
                  <a:srgbClr val="000000"/>
                </a:solidFill>
                <a:latin typeface="Calibri"/>
              </a:rPr>
              <a:t>, and are supported by </a:t>
            </a:r>
            <a:r>
              <a:rPr b="0" i="1" lang="en-US" sz="2400" spc="-1" strike="noStrike">
                <a:solidFill>
                  <a:srgbClr val="000000"/>
                </a:solidFill>
                <a:latin typeface="Calibri"/>
              </a:rPr>
              <a:t>input mechanisms</a:t>
            </a:r>
            <a:r>
              <a:rPr b="0" lang="en-US" sz="2400" spc="-1" strike="noStrike">
                <a:solidFill>
                  <a:srgbClr val="000000"/>
                </a:solidFill>
                <a:latin typeface="Calibri"/>
              </a:rPr>
              <a:t> that provide the actual input data. In the following sections we describe each part of the framework in more detail, starting with the idea of an interaction.</a:t>
            </a:r>
            <a:endParaRPr b="0" lang="en-US" sz="2400" spc="-1" strike="noStrike">
              <a:solidFill>
                <a:srgbClr val="000000"/>
              </a:solidFill>
              <a:latin typeface="Calibri"/>
            </a:endParaRPr>
          </a:p>
          <a:p>
            <a:pPr>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32" name=""/>
          <p:cNvSpPr txBox="1"/>
          <p:nvPr/>
        </p:nvSpPr>
        <p:spPr>
          <a:xfrm>
            <a:off x="685800" y="1447920"/>
            <a:ext cx="784872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une immense schools of small, silvery fish called capelin enter the hundreds of bays that dot the eastern coast of Newfoundland to perform a fascinating ceremony. The males and females separately approach the gravel beaches and are borne ashore in waves so laden with their bodies as to be virtual walls of fish. There, on the gravel, the females lay their eggs and the males fertilize them; then most of the fish di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rguments</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gutwin</dc:creator>
  <dc:description/>
  <dc:language>en-US</dc:language>
  <cp:lastModifiedBy>Carl Gutwin</cp:lastModifiedBy>
  <dcterms:modified xsi:type="dcterms:W3CDTF">2008-09-26T07:51:52Z</dcterms:modified>
  <cp:revision>110</cp:revision>
  <dc:subject/>
  <dc:title>CMPT 105 Building Interactive Systems</dc:title>
</cp:coreProperties>
</file>