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C2EE-1B38-4B0F-9776-3127BBA7F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F9A7-D131-4327-9128-A1A58075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6E6A-B732-49C3-BCDF-3C71FBFA7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C4E7-B3D7-4A05-B41B-25891D540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57F3-30B7-427B-9ACA-2051D38C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44AB-196A-4CE2-92BD-3F8A9847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67AB-A7FD-48DD-B6CA-E10E72DB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3804-C210-4E98-8FFE-1CD6010E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48C8-7940-492F-916F-111B0283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7310-3612-452A-A3D3-E2852F27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4455-C604-4E01-B644-9750405B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CBEE-8A69-4455-9693-23F38A87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A76F-F864-4AFC-AB60-CCBC66EE9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Grid service broker fo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cheduling e-Scien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lications on global dat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55640" y="3886200"/>
            <a:ext cx="6048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Calibri"/>
              </a:rPr>
              <a:t>Authors: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rikumar Venugopal, Rajkumar Buyya and Lyle Win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Calibri"/>
              </a:rPr>
              <a:t>Presented by: Mehadi Has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ase Studies and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elle experiment, built and operated by a collaboration of 400 researchers across 50 institutes from 10 countries, is probing CP-violation by studying the decay of the B-mesons produced in the KEKB accelerat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creasing efficiencies of the KEKB accelerator have led to an increase in the rate of data production from the Belle experiment which can be tens of terabytes in siz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es increasingly complex problems for the processing and access of data at geographically remote institutions effici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ase Studies and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832360" cy="30528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2787120" y="5516640"/>
            <a:ext cx="32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B0 →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∗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∗−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s decay cha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ase Studies and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387840" cy="36687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1258920" y="5661000"/>
            <a:ext cx="67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tralian Belle Analysis Data Grid testb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cheduling scenarios were evaluate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ing with computation limited to only those resources with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ing without considering location of data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scheduling that optimizes computation based on the location of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000" y="5987520"/>
            <a:ext cx="8002440" cy="3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time taken for each scheduling strate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69166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5661000"/>
            <a:ext cx="821844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on of resource performance under different scheduling strateg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640872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5733720"/>
            <a:ext cx="8291520" cy="3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bandwidth from University of Adelaide to other resources in the testb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662472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bus broker discovers computational and data resources, schedules jobs based on optimization of data transfer and returns results back to the us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to a data-intensive environment, which is the analysis of the Belle HEP experimental data and different strategies were presented with impressive resul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cheduling strategy is proposed considering the network conditions and has produced the best possible outcome by executing the jobs within the least amount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-science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-Used in next generation scientific studies and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ls with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ive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across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scale storage and computational require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high-availability and fault-tolerance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hat is Grid Comput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the creation of virtual organizations by bringing together communities with common object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 platforms support sharing, exchange, discovery, selection and aggregation of geographically/Internet-wide distributed heterogeneous resources—such as computers, databases, visualization devices and scientific instru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hat is Grid Comput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4000" y="6205320"/>
            <a:ext cx="8002440" cy="3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rid Comp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gridcomp"/>
          <p:cNvPicPr/>
          <p:nvPr/>
        </p:nvPicPr>
        <p:blipFill>
          <a:blip r:embed="rId1"/>
          <a:stretch/>
        </p:blipFill>
        <p:spPr>
          <a:xfrm>
            <a:off x="1258920" y="1341360"/>
            <a:ext cx="669780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hat is Grid Comp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Gri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ve evolved to tackle the twin challenges of large datasets and multiple data repositories at distributed locations in data-intensive computing environment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allen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ity involved in the creation and composition of applications and their deployment on distributed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dea (Introduction to Gridbu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ing services relevant to data-intensive environ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utomatic discovery multiple data sources for client requests and selects the best one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upports legacy applications to execute unlike other broker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latform independ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elated works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torage Resource Broker (SRB), Grid Data Mirroring Package (GDMP), Giggle which provide storage of datasets over the network and accessing them but they do not handle execution of applic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actus, developed for MPI coded programs makes it very specific to a certain system and there is no compatibility for legacy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RBA based Grid-computing environment named NILE is limited to a certain domain that are scheduled on appropriate resour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None of the Grid-computing environments discussed here has the ability to select the best data repositories from different heterogeneous systems based on the availability of  resour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938240" y="1600200"/>
            <a:ext cx="5267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2268360" y="2205000"/>
            <a:ext cx="2808360" cy="18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Bro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6516720" y="1557360"/>
            <a:ext cx="863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G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6516720" y="2205000"/>
            <a:ext cx="863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"/>
          <p:cNvSpPr/>
          <p:nvPr/>
        </p:nvSpPr>
        <p:spPr>
          <a:xfrm flipV="1">
            <a:off x="5076720" y="1773360"/>
            <a:ext cx="1440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 flipV="1">
            <a:off x="5076720" y="2421000"/>
            <a:ext cx="1440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1116000" y="1341360"/>
            <a:ext cx="719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826920" y="1484280"/>
            <a:ext cx="7923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16"/>
          <p:cNvGrpSpPr/>
          <p:nvPr/>
        </p:nvGrpSpPr>
        <p:grpSpPr>
          <a:xfrm>
            <a:off x="611280" y="4941720"/>
            <a:ext cx="865080" cy="719280"/>
            <a:chOff x="611280" y="4941720"/>
            <a:chExt cx="865080" cy="719280"/>
          </a:xfrm>
        </p:grpSpPr>
        <p:sp>
          <p:nvSpPr>
            <p:cNvPr id="67" name="Oval 11"/>
            <p:cNvSpPr/>
            <p:nvPr/>
          </p:nvSpPr>
          <p:spPr>
            <a:xfrm>
              <a:off x="611280" y="4941720"/>
              <a:ext cx="504720" cy="719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2"/>
            <p:cNvSpPr/>
            <p:nvPr/>
          </p:nvSpPr>
          <p:spPr>
            <a:xfrm>
              <a:off x="826920" y="4941720"/>
              <a:ext cx="505080" cy="719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13"/>
            <p:cNvSpPr/>
            <p:nvPr/>
          </p:nvSpPr>
          <p:spPr>
            <a:xfrm>
              <a:off x="1044720" y="4941720"/>
              <a:ext cx="431640" cy="719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14"/>
          <p:cNvSpPr/>
          <p:nvPr/>
        </p:nvSpPr>
        <p:spPr>
          <a:xfrm>
            <a:off x="2050920" y="4941720"/>
            <a:ext cx="144144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5"/>
          <p:cNvSpPr/>
          <p:nvPr/>
        </p:nvSpPr>
        <p:spPr>
          <a:xfrm>
            <a:off x="4572000" y="4869000"/>
            <a:ext cx="1368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8"/>
          <p:cNvSpPr/>
          <p:nvPr/>
        </p:nvSpPr>
        <p:spPr>
          <a:xfrm>
            <a:off x="6877080" y="3284640"/>
            <a:ext cx="50472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9"/>
          <p:cNvSpPr/>
          <p:nvPr/>
        </p:nvSpPr>
        <p:spPr>
          <a:xfrm>
            <a:off x="7093080" y="3284640"/>
            <a:ext cx="50472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1"/>
          <p:cNvSpPr/>
          <p:nvPr/>
        </p:nvSpPr>
        <p:spPr>
          <a:xfrm flipH="1" flipV="1">
            <a:off x="1547640" y="198864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2"/>
          <p:cNvSpPr/>
          <p:nvPr/>
        </p:nvSpPr>
        <p:spPr>
          <a:xfrm flipH="1">
            <a:off x="899640" y="3645000"/>
            <a:ext cx="136836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3"/>
          <p:cNvSpPr/>
          <p:nvPr/>
        </p:nvSpPr>
        <p:spPr>
          <a:xfrm>
            <a:off x="2771640" y="407664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4"/>
          <p:cNvSpPr/>
          <p:nvPr/>
        </p:nvSpPr>
        <p:spPr>
          <a:xfrm>
            <a:off x="4356000" y="4076640"/>
            <a:ext cx="9367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6"/>
          <p:cNvSpPr/>
          <p:nvPr/>
        </p:nvSpPr>
        <p:spPr>
          <a:xfrm>
            <a:off x="3492360" y="537372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7"/>
          <p:cNvSpPr/>
          <p:nvPr/>
        </p:nvSpPr>
        <p:spPr>
          <a:xfrm>
            <a:off x="1908000" y="5157720"/>
            <a:ext cx="13687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8"/>
          <p:cNvSpPr/>
          <p:nvPr/>
        </p:nvSpPr>
        <p:spPr>
          <a:xfrm>
            <a:off x="4788000" y="5013360"/>
            <a:ext cx="1368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9"/>
          <p:cNvSpPr/>
          <p:nvPr/>
        </p:nvSpPr>
        <p:spPr>
          <a:xfrm flipV="1">
            <a:off x="5867280" y="3933720"/>
            <a:ext cx="108108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1"/>
          <p:cNvSpPr/>
          <p:nvPr/>
        </p:nvSpPr>
        <p:spPr>
          <a:xfrm>
            <a:off x="5076720" y="3645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5"/>
          <p:cNvSpPr/>
          <p:nvPr/>
        </p:nvSpPr>
        <p:spPr>
          <a:xfrm>
            <a:off x="6084720" y="2708280"/>
            <a:ext cx="17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Data catalo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6"/>
          <p:cNvSpPr/>
          <p:nvPr/>
        </p:nvSpPr>
        <p:spPr>
          <a:xfrm>
            <a:off x="7220160" y="41688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esource 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7"/>
          <p:cNvSpPr/>
          <p:nvPr/>
        </p:nvSpPr>
        <p:spPr>
          <a:xfrm>
            <a:off x="5131080" y="5681520"/>
            <a:ext cx="29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Data Compute resourc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8"/>
          <p:cNvSpPr/>
          <p:nvPr/>
        </p:nvSpPr>
        <p:spPr>
          <a:xfrm>
            <a:off x="1696680" y="5877000"/>
            <a:ext cx="220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Unassigned jobs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9"/>
          <p:cNvSpPr/>
          <p:nvPr/>
        </p:nvSpPr>
        <p:spPr>
          <a:xfrm>
            <a:off x="450720" y="5681520"/>
            <a:ext cx="12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omp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0"/>
          <p:cNvSpPr/>
          <p:nvPr/>
        </p:nvSpPr>
        <p:spPr>
          <a:xfrm>
            <a:off x="593640" y="7840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ask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1"/>
          <p:cNvSpPr/>
          <p:nvPr/>
        </p:nvSpPr>
        <p:spPr>
          <a:xfrm>
            <a:off x="5435640" y="1628640"/>
            <a:ext cx="43164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2"/>
          <p:cNvSpPr/>
          <p:nvPr/>
        </p:nvSpPr>
        <p:spPr>
          <a:xfrm>
            <a:off x="5580000" y="2205000"/>
            <a:ext cx="43200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3"/>
          <p:cNvSpPr/>
          <p:nvPr/>
        </p:nvSpPr>
        <p:spPr>
          <a:xfrm>
            <a:off x="1547640" y="2205000"/>
            <a:ext cx="43200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44"/>
          <p:cNvSpPr/>
          <p:nvPr/>
        </p:nvSpPr>
        <p:spPr>
          <a:xfrm>
            <a:off x="1258920" y="3860640"/>
            <a:ext cx="43164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45"/>
          <p:cNvSpPr/>
          <p:nvPr/>
        </p:nvSpPr>
        <p:spPr>
          <a:xfrm>
            <a:off x="2771640" y="4292640"/>
            <a:ext cx="43200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6"/>
          <p:cNvSpPr/>
          <p:nvPr/>
        </p:nvSpPr>
        <p:spPr>
          <a:xfrm>
            <a:off x="3851280" y="5373720"/>
            <a:ext cx="43164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47"/>
          <p:cNvSpPr/>
          <p:nvPr/>
        </p:nvSpPr>
        <p:spPr>
          <a:xfrm>
            <a:off x="4859280" y="4149720"/>
            <a:ext cx="43200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48"/>
          <p:cNvSpPr/>
          <p:nvPr/>
        </p:nvSpPr>
        <p:spPr>
          <a:xfrm>
            <a:off x="5580000" y="3213000"/>
            <a:ext cx="43200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49"/>
          <p:cNvSpPr/>
          <p:nvPr/>
        </p:nvSpPr>
        <p:spPr>
          <a:xfrm>
            <a:off x="6372360" y="4292640"/>
            <a:ext cx="43164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0"/>
          <p:cNvSpPr/>
          <p:nvPr/>
        </p:nvSpPr>
        <p:spPr>
          <a:xfrm rot="20412600">
            <a:off x="5722920" y="1052280"/>
            <a:ext cx="173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dentify characterist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of compute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1"/>
          <p:cNvSpPr/>
          <p:nvPr/>
        </p:nvSpPr>
        <p:spPr>
          <a:xfrm>
            <a:off x="7379280" y="227664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ntains LD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2"/>
          <p:cNvSpPr/>
          <p:nvPr/>
        </p:nvSpPr>
        <p:spPr>
          <a:xfrm>
            <a:off x="7593120" y="3429000"/>
            <a:ext cx="131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et the job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3"/>
          <p:cNvSpPr/>
          <p:nvPr/>
        </p:nvSpPr>
        <p:spPr>
          <a:xfrm>
            <a:off x="-1440" y="4292640"/>
            <a:ext cx="125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redict jo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mpletio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4"/>
          <p:cNvSpPr/>
          <p:nvPr/>
        </p:nvSpPr>
        <p:spPr>
          <a:xfrm rot="2362800">
            <a:off x="3846240" y="4377960"/>
            <a:ext cx="15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ext unassigned 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5"/>
          <p:cNvSpPr/>
          <p:nvPr/>
        </p:nvSpPr>
        <p:spPr>
          <a:xfrm>
            <a:off x="1906560" y="1785960"/>
            <a:ext cx="185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Find LDFs for each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6"/>
          <p:cNvSpPr/>
          <p:nvPr/>
        </p:nvSpPr>
        <p:spPr>
          <a:xfrm>
            <a:off x="5124240" y="3665520"/>
            <a:ext cx="169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elect the optimal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07:50:43Z</dcterms:created>
  <dc:creator>*</dc:creator>
  <dc:description/>
  <dc:language>en-US</dc:language>
  <cp:lastModifiedBy>mehadihasan</cp:lastModifiedBy>
  <dcterms:modified xsi:type="dcterms:W3CDTF">2009-12-04T18:03:50Z</dcterms:modified>
  <cp:revision>112</cp:revision>
  <dc:subject/>
  <dc:title>A Grid service broker for scheduling e-Science applications on global data Grids</dc:title>
</cp:coreProperties>
</file>