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A7A-F420-418A-94E9-D6CF92FB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77E-01B7-4496-BD2F-ECF0D6B2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ED6F3-EFF6-458E-AD72-687B7A21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E681D-CCF6-4969-88E3-C67C50D1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6C455-07B9-4322-852E-924FBD5C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C1E50-DC16-4831-A6AE-072FF66A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6B8E0-FB38-491F-A6EE-FF2585C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969B8-D478-4D9A-B55D-9E436759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2999E-13FD-4559-9EF3-FB72487A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07CF3-0A91-4AF2-80E1-3B3E2B0C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352F2-54F4-487E-B871-2769A1C1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C38FE-0AD5-4301-B26A-5F7AC9FA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6FA-F73E-4D94-A4FD-30334684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79720-D9A1-4B6E-81E4-C82BD059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D135E-C44A-49B9-A2DD-094856CA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306F8-35D9-4EE2-B8ED-7AF55100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7C44C-CDAB-42D8-9573-8D9B78E3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E0C4F-01C8-4FC9-9061-12C0B08E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2B56E-818A-41F5-8DA5-BB979B2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A8988-4C22-443E-BF7D-8308CB2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3E484-6AB6-49DD-A8EF-B30EF78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51ADB-34F9-42B4-835F-258408A4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1947D-62B5-4469-9FF5-FFD3A100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2A9-0544-483B-BC24-6C14044D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16A95-5F99-41C2-95B8-5B68FC13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1604A-6455-44C4-A71B-A550BFA4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E1AF5-44B9-4B8D-9D1E-95251F2A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1567C-8DCE-4200-B197-6944B71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3BB8E-3695-478A-B289-A49C55AE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9D0E8-BD54-4373-8B43-F0285C6E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199DF-867A-49AC-B042-B3A342AD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CBE64-3423-477D-9999-70A73FD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43E20-B813-4D08-ABDD-73C8F7A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204D6-E138-411B-A666-A12CA654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4AD2-77FE-4191-87D3-98783E03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1874D-AB77-4FA8-BDC0-7053252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BF1A9-9B98-40A2-9C9C-7FF01906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4091B-3316-45CC-9A7C-A0FDC3E5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9628C-DD9A-4248-A804-664FD698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45DDC-4EB1-480C-B835-70F22E8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1364C-92F9-4228-B7BE-684B8BAF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0F030-85D8-4DBF-B748-EFC33AEA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4F436-2EF9-43DD-9143-E5C65CB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90C85-DD15-4BB5-B343-02236881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BF96A-A363-4B40-8EE8-A3BFA022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79B8-EE79-47EE-B395-D64B28C7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1FAF7-2E7B-47D7-B629-37257AE2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14CB6-72B4-4AE0-989B-4C8F838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40FAA-9F00-4F2D-9C62-1EB5322D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65026-1474-46AB-B5FF-26720895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9DCAA-D33A-4561-AC07-157DE7FB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0C5C-B542-4E2A-87CA-F252A9E5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5A53-2108-4CFA-BD21-63B1CB6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EA4B-1FD4-40F3-87F4-14070719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20B4-0CA1-42FE-A501-B445699C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7D43-81F2-4E21-8CAD-65CB0BC2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532-68D5-4B77-8500-3CACA039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C63B-AB1D-4F0B-8A57-3FAE9EE0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2E4E-B2C4-4034-8A3F-321D329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EF2B-24E4-42B9-8568-B2371165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025A-AC37-46BA-9A4F-7E5670BF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FCFE-7798-4F64-862A-D57D1ADC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C9EE-0CEC-464D-B48F-A6FD1861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9102-DAAB-4CD6-B2E3-01B99EC7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98AA-F000-4965-9D18-A7677C7C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C98A-5CFC-444B-8CCA-BFC87B41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675A-2D75-47F3-AF42-3EBB4CC5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C64-6E6C-481E-B650-F4132A9A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9BE0-6C5C-4467-92CF-F99EB2DE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FFE2-008F-4A41-8A3E-48672649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7C69-616C-42A6-89CF-5CBCB0F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5B05-2419-4CB6-B575-43D220CA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5B69-94CA-4B21-A34F-AF6CAC60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D393-68B2-4B87-871F-25E64A9D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55CD-9137-456F-87F1-9A308EF8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B5D6-085B-4403-A0D6-48679546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D759-ADF2-4F2F-8B74-1923A049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AF936-AB71-4A7F-94CA-85FC819C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39F-834A-4AB4-AE09-90C162FB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C7BDA-6D60-4B7A-A143-43108F6A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4F3E-FCBF-4111-AD74-339234F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2512-8EBF-46D7-9386-EC237A0B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50E9-CDA7-4286-A32C-AD842DF0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0DFD-E878-47ED-B90E-F9B4FB6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5E90-285F-4909-94A7-33D16677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F1E0-0D45-473E-A789-BC292E29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6C57D-26DC-4D2B-9415-AE084565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D12D-09C8-4050-985F-D4F08095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837F6-BCBB-4881-BD38-BD8A949A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F8F-DD37-4CBE-A13F-BD0E8BE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52F10-6027-40B1-9946-578CBB0F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2273D-4F03-4D5C-9916-AA00428F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0F1F-5F54-4A1B-8C4E-76DC5A7F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29C9-0605-47B0-B671-78D6F441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DA1D9-59C4-499E-8C0F-40AD961E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D2E2-59DD-4950-8CCC-45789F97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8E3CF-D2E8-4CC5-9F23-5AE9CAB5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564F-AACC-4890-B75E-3652D5F0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B514E-DCAA-49B1-B6F7-1080A33B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D37E-54FC-4FDB-94A3-1F579A27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D4F-DEC6-4D94-81F8-21A39C68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E0FB7-2FB2-4217-B3A3-8325A1C1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E72D-A56D-44AB-982A-6687F646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8DE7A-CDF3-4BC4-89E4-F69CD581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FA1A1-43F6-4873-8248-6F9E0C62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3ABA9-F781-461C-A0F6-842BA313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41E78-9D9B-4AE8-A4BD-C961F750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B7FA8-5776-4659-BD44-1A90C6FE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6BFD3-5D8D-4626-A8DC-E07658D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06B1-CAEC-49B7-8D16-AB737BF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BFCBD-DED8-4802-8045-128D837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185-E654-4595-960D-2A8B09E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D041-4B68-4A9A-BBE0-83F8A4BF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8827A-B99D-4865-AFEB-55D7076E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CB09F-E019-47EA-BE19-5240F7E1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59C82-21EC-4821-A809-2AF12788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5F054-04FB-4B9B-BAD2-3756436B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E4373-1BCC-4942-B147-C4A7E0FE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314A3-D031-41C3-8075-036AA8C3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EDD55-BC6E-4F7C-AEDA-C3D3DD16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B0FC5-6C24-4FD5-B48C-26B24C84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0633-1C85-4C87-B8A2-ACC4C1AB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0D4-6236-4B99-AA78-404AF285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BAA0A-B08E-4AB6-9266-04F23FBB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1277E-3BD0-4217-9BB8-000C6AF3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7576E-603A-4A87-ADEC-E4EC7A50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FC53-BAD1-4A17-A0CC-83863F10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A740-E0EB-410A-93CF-E9732D3E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39612-8EFA-43D9-BCD0-A513E399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3D166-E13B-4706-A96C-D64A6C18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55E55-BE36-443E-9A1B-A7383692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42431-5D92-480B-BE20-4CE49D27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DF1C6-C0A0-48DA-B542-91CCBA7F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E6A-5DE7-4E1C-B4CD-42BB9E5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C8234-94AE-4224-B0CB-B13760CD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78E19-918C-4CBF-93F9-0585083E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AB172-DE88-4845-8289-43062C9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FB2CF-583F-4DFE-9885-F97BEA1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F5C31-9C8D-4D67-A5D1-D31A2222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0BE3D-FAC0-4059-8C5C-BF053B5B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23FC1-1A05-4721-86C4-7FD13B58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476B0-B31E-4E69-8A63-7D0B4783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CEEA1-9F10-4F07-AE4C-157D6A94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CA53A-E33D-4DA8-8258-04FD037C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741F-CC84-4A2C-A7DC-BE2D0BC15D41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616E-9A92-4C04-A105-C86FD86927D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D4B0-F6EF-4BC0-8000-342E2D3DB9F9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2A0F-F8C4-482B-8291-6B67A2A213E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FB1A-27E9-4FE8-BDBB-FD7240A281C7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B23B-793B-48F1-BA9A-269EDE944C5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DC4D-0B00-45B9-B2C8-646F85FA1255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711A-3DDF-4016-85D4-1276675C7EC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CDE-BC13-4686-86B1-10A5EAF93562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8821-2528-4FF5-A551-07C7BB8A5DF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3513-4678-4CF7-8618-22A81DF97416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7C1-2DCD-48E4-A0B9-1981E5AB5D7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8E12-0789-4A44-BD7F-FB182ADFEAE8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D86E-CB5E-4302-A83B-B72C0E7AFB3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5347-218C-4686-B555-D0A48B442E41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AEB0-9683-454B-9BE8-5232C3BBEFC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C551-F835-4DA2-9B1F-224AE82E54C4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17BB-BCBF-4374-A5FF-8B3C5581FA0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4704-C9A9-40AD-B81D-124624DBE0BF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5386-228C-411D-B9EF-935BAC088F4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5807-4356-4B74-BB3A-5F7D83CC3F5A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A31C-90E8-4942-8782-32AD93B7A03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C2B6-0171-4869-906D-17A2A6472534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5181-CF72-4599-844B-C42B259326F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Term in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at did we do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us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ce and Computer Sc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: From libraries to experiments to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, experience, and 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ing, summarizing, revie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summaries, arguments, papers, pre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at is still left to do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no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 research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a "2 page paper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ing and presenting a 10 minute 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u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CMPT 880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jo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.Sc. or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 te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car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8:28:07Z</dcterms:created>
  <dc:creator>gutwin</dc:creator>
  <dc:description/>
  <dc:language>en-US</dc:language>
  <cp:lastModifiedBy>Michael Horsch</cp:lastModifiedBy>
  <dcterms:modified xsi:type="dcterms:W3CDTF">2009-11-25T20:22:59Z</dcterms:modified>
  <cp:revision>224</cp:revision>
  <dc:subject/>
  <dc:title>CMPT 105 Building Interactive Systems</dc:title>
</cp:coreProperties>
</file>