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AA77-6D99-43BA-9E3C-FF574497C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D1B8-3984-4FF8-9E55-9A9B8E55273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3271-3590-4746-98A6-33944B3D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9120-F653-48C0-8212-EE94C1D6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3B2F7-8B8E-4353-87F4-36BEB7FF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3CBF2-B0E9-4BF5-AE22-5A7F39F1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064A3-40A3-499C-98E2-E8249987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76616-92F5-49D1-A0D7-FA08FF32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BFD67-CCEE-48BB-B58C-A2965862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534AA-87B8-4F10-9D36-CB882904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56895-B8AF-4EB0-91CF-B5F2491A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F6B92-1741-492D-A49B-95CE0F9E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BA031-8E81-4E52-BC1D-127B9CD5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1AC3C-BE9E-42C2-B407-42041B1C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88DD-D210-4ACC-8A24-75C1148F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F38E4-9940-4F93-A831-01FED8BA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C8C18-0B93-43A7-AC16-5BF2F956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BA161-5297-432E-902B-C2B1096B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19CF2-E024-44C6-8CC4-01ECE4CD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D3F05-C133-4E06-A638-6ECD0CD7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2B180-934C-4A54-9413-326463A6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FED31-F745-4C83-9448-7945F917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DE4A9-0E44-4F1A-A554-A59EC79E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EC05D-9142-47AC-BCAA-EF34D355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DA1AD-7301-464F-885C-0E9A22D3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D700-0CD8-4900-9149-9E633FFD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D040C-6E74-474C-B614-3033BF7F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45AC6-3512-4112-BFC2-97254FF5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2AE38-0540-4BF0-8669-5D89DB35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1343B-70BB-4D73-82CF-DC9BDE94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58CAF-31F2-44D8-8D38-53D69FED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7A990-7930-4963-8F27-C14AF439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7843D-8D6A-449A-9D15-019CD361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DBFAD-8CAF-476E-84BA-6C03E144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24891-1106-473D-81FA-55A9FC78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5120A-DA46-4D1E-B5AA-F7B3E48C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8AB6-D290-45B9-AF3E-4F5B5B57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1D3FA-A541-42FE-A305-59DF12B7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F9010-96A8-4488-AC8B-991E2683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B8EFB-FB12-4D62-B780-08471B69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A7A02-EA47-454B-A366-7C600BCB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9F90E-0289-4268-A967-3248C054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C4E28-F782-4FAC-8B58-76B40C85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D0799-E4B7-4266-AD5F-47E37B20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25197-C69B-4962-AD0E-F5EEB21A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4DB83-3488-4F9B-850D-FB6EAC08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12350-C8EF-4CFC-AED5-3BF6CDC4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B498-6568-4DD2-B657-41646BC4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96215-0722-419A-81AC-2B746D2D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958B2-CF81-4B5F-AD1E-E50B95AA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D83C0-AA34-4343-AF90-DA0A1B69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01045-0AC0-42CB-BB51-225A3762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E28F4-0E35-4250-8C4B-C63FC886A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C228-FF99-4F02-812E-68CB6B5A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E1CF-8ACB-47DC-AD71-D11AE620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BAE8-492D-4A92-8D2E-EF7C5F10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404E-A624-4EB8-ADE2-6EEE05B4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BAB0-D572-4285-A8BC-DD7BD38F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8DD9-B81F-4926-9AF4-0A2A1348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83E2-066C-4953-8EE7-A2BBD1B6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501A-6744-4CE4-BDE3-98D1837F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4985-BF83-4DD4-9773-13ACA25E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A130-D810-409F-8B9C-88649BB0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9E9E-99B5-4517-8D04-AFFABE9C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AEB51-F338-4655-A0DF-1E5A2C67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77692-63A0-4E39-B715-5B3142BE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06EB8-C11A-4A6A-806D-7AF686B2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BAD6D-0AF5-403C-922D-C066CE0C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13603-5D46-480C-93E3-B890D9C4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1739-0027-4818-A81B-A1F02619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3049E-9E13-4868-A906-5C67B445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72049-6518-441B-8721-4D5BF4B6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3EDE4-D8F5-44C2-B6E6-E93E1568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DB5AB-F8B7-433F-ACF0-DD7D8CAA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688D2-49D6-42BD-8720-FC419BD2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DEA14-8B3D-44D1-BA5A-F60B748A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F633A-EA33-4A3D-BEB4-176C9C2F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339BE-94CF-40C7-8BB4-D2BA7C1E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281DA-B6A0-4EC9-A65E-1C41DF72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0C074-4E4F-408C-9C87-96517F8E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E813-77BA-40BE-91BF-7AB7F559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9E3D0-E862-4548-B9B4-44E3BB4E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36D6F-3236-4CB8-B243-1EAD2C79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78E19-8C1A-4D16-9B32-CF948545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1C326-9258-4ECC-ABB0-96010B76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AC145-DBCD-4637-A841-81525EEA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2A629-29C6-4CB8-9A38-E6993256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03125-24FC-41FD-8365-B6F4F7ED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ED2D4-A00A-41FD-BC3D-39D750FA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C34E1-417B-4589-9CA1-DFF1F9B6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E8DFC-2D9A-49AF-98A4-7E425781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920F-363F-4FF9-9DA6-92D202B7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45C72-1A4B-4138-BA4B-4016FF4D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0AEB4-BA44-4B4A-8938-5165180B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D65EF-2E49-4A9C-AE40-C3DB54C8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5BA63-95A5-4C96-8148-F5FE5597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D24EE-A6B0-423D-92EF-D44A0EB0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74A21-DA9E-4F05-996C-312D78DB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5F8EC-9DEC-4247-ADF7-4AB01CAA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50464-CB46-4FB4-9597-C3DFB9BB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4F7A2-835E-4AE3-9CB4-8BB2679E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A3F5E-CB45-4FB5-A79D-3A3ED49C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7ABD-A27F-4E5C-8B13-0B64FE39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50ECB-DBD5-4FD8-9AD5-A764D324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5DF12-4BE7-452B-9293-B6BE0288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DDE70-BBC9-41F1-951E-B8E826A5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F19BA-DF64-4BD0-8AC3-F98F5F02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50E0F-299F-491D-96E8-41740802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FD281-F0F5-4DDE-85A2-2762AED9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F5C99-081D-482C-AF5F-FA7191FC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4E4B9-BE04-4835-8594-46B14C65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D5242-F0CE-403D-88E5-BEEB7953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4A6AE-C251-4F93-91B3-4B317011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3E47-F460-44D4-8BAA-D8B5FC21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E387D-3EC6-4B00-A3ED-0D5C24E9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18DD3-4076-4B66-96D6-A6664BE5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8A8A8-8622-49B8-94E1-4FD38B3C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2774E-2775-40AB-8D3F-A44195C2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1CFAF-750B-4F09-BD87-6F0E5901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F22E5-7132-488E-8D57-DABB06F1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828B2-E4A5-4FF9-8D24-5851450D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CB34A-73E6-4B61-ADB4-60662A4B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E45A3-6165-409C-A913-063BF2C0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8AA1C-B07F-4C6D-BE22-6E913077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CB8F-8F72-4323-8EA2-1B47A244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F3B4F-2FB7-4E32-A1E8-6E3C68C9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A30D4-EF33-4ACA-87B8-E8490C4E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13A0D-0431-4943-B864-72E1D74A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01096-B692-469B-8D47-95D50E72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2CD22-1D1F-4C96-BC2B-7915954D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DA165-94B1-4C4B-BC21-77934CC3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95C74-0FAF-410F-8D6D-B9E04875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9C577-91B8-40DA-BF6A-551218A3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7DF52-68A8-43F7-AF64-320D7A60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8F649-0816-4322-8A67-02F938E8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52CE-0B51-4FF7-9955-70D00811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81E17-D2F4-4314-A6E4-2C54A07A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B09EB-6AA5-4723-AD42-970677B8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056B9-68EC-4083-A327-2FFBA624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B5C30-B65C-49B5-AA45-0E3FAB11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AD868-7EAA-4817-BFCD-CE6DC52F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AB1CE-A748-494E-BDD2-B389334D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C8DE0-DB4B-437D-8C8E-EB69E4A6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0CD10-6221-400E-A851-9002E185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814FF-3225-411D-AFDB-339BC111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4055E-890A-4C46-8C20-F006025A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0b5cc"/>
          </a:solidFill>
          <a:ln w="1260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7632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A97F-D673-4FDF-8DFF-D246A687F95A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B315-73D0-42D6-A0C2-4872A33B6D49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9EB7-D544-47EE-9F36-C21D64A41EB2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70CC-D9E3-424A-B361-63D23D28B79D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solidFill>
            <a:srgbClr val="ffffff"/>
          </a:solidFill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2BAD-8201-4C70-982E-88A28E67BC15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9432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6854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4027-3DFC-4D18-A5A6-AE4B427C75ED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9D76-1C82-47FE-ABCE-A9D94A91518C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B66D-9FB1-47ED-B6C7-BD0883AC3B32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FACC-EF72-46EE-8F5F-5BF06DE7307F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63AB-A86F-4C1B-9D8D-D78F286F5487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D7CA-B176-4CB0-AE92-8A30BBF9FF1F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4657-566D-40CD-95B0-DAD413DE6CEE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XILI9Q1jIw" TargetMode="External"/><Relationship Id="rId2" Type="http://schemas.openxmlformats.org/officeDocument/2006/relationships/hyperlink" Target="http://www.youtube.com/watch?v=PZoPdBh8KUs" TargetMode="Externa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a5a"/>
                </a:solidFill>
                <a:latin typeface="Calibri"/>
              </a:rPr>
              <a:t>CMPT 880/890</a:t>
            </a:r>
            <a:br>
              <a:rPr sz="4000"/>
            </a:br>
            <a:r>
              <a:rPr b="0" lang="en-US" sz="4000" spc="-1" strike="noStrike">
                <a:solidFill>
                  <a:srgbClr val="434a5a"/>
                </a:solidFill>
                <a:latin typeface="Calibri"/>
              </a:rPr>
              <a:t>Giving presentation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Your messag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do you want people to remember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t up the presentation so that people remember your mess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’s an Argu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o’s your audienc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onten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ich stuff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much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order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onten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ich stuff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much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order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fits the story you want to tell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fits your argumen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supports your messag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Methodology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2 participa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n age 26.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computer science and psych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women, 13 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ll factorial within-participants de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tin square for counterbalanc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t brea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Methodology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2 participa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n age 26.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computer science and psych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women, 13 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ll factorial within-participants de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tin square for counterbalanc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t brea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3"/>
          <p:cNvSpPr/>
          <p:nvPr/>
        </p:nvSpPr>
        <p:spPr>
          <a:xfrm>
            <a:off x="2533680" y="409680"/>
            <a:ext cx="3679920" cy="63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3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Related work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lossophobia first studied by Johansen (196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in symptoms of glossophob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ar [Gudmundsdottir 1977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mbling [Axelson 1978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nocking knees [Rabiyat 1980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Related work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lossophobia first studied by Johansen (196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in symptoms of glossophob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ar [Gudmundsdottir 1977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mbling [Axelson 1978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nocking knees [Rabiyat 1980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3"/>
          <p:cNvSpPr/>
          <p:nvPr/>
        </p:nvSpPr>
        <p:spPr>
          <a:xfrm>
            <a:off x="2533680" y="409680"/>
            <a:ext cx="3679920" cy="63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3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Basic elements of presentation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your goal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your messag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content will you presen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will you provide contex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your speaking styl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visuals will you us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3"/>
          <p:cNvSpPr/>
          <p:nvPr/>
        </p:nvSpPr>
        <p:spPr>
          <a:xfrm>
            <a:off x="457200" y="2895480"/>
            <a:ext cx="5105520" cy="457200"/>
          </a:xfrm>
          <a:prstGeom prst="rect">
            <a:avLst/>
          </a:prstGeom>
          <a:solidFill>
            <a:srgbClr val="f0ad00"/>
          </a:solidFill>
          <a:ln w="1260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Basic elements of presentation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your goal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your messag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content will you presen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will you provide contex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your speaking styl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visuals will you us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ontex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re are w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re have we be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re are we going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The messag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ve a goal and a message in every talk you give. Once you have those, everything else is eas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3"/>
          <p:cNvSpPr/>
          <p:nvPr/>
        </p:nvSpPr>
        <p:spPr>
          <a:xfrm>
            <a:off x="457200" y="2895480"/>
            <a:ext cx="5105520" cy="457200"/>
          </a:xfrm>
          <a:prstGeom prst="rect">
            <a:avLst/>
          </a:prstGeom>
          <a:solidFill>
            <a:srgbClr val="f0ad00"/>
          </a:solidFill>
          <a:ln w="1260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Basic elements of presentation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your goal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your messag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content will you presen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will you provide contex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your speaking styl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visuals will you us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Speaking styl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oice: volume, pacing, enthusia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ok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aze dir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rvousn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ssophob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in doubt, write it ou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Visual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h, PowerPoint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o looks bad when your slides don’t show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your laptop doesn’t work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there’s no USB port on the computer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your movie doesn’t pl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your pictures come up black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the colours are washed out and unreadabl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t the idea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’s the solutio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Preparation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y everything out beforeh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the projector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actice your tal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ral times if necess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The messag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oal: have one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ssage: drive it home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The messag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oal: have one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ssage: drive it home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most important of all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The messag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oal: have one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ssage: drive it home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most important of all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y “Thank You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The messag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oal: have one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ssage: drive it home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most important of all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y “Thank You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 your audience knows when to cla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Outlin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ypes of present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sic elements of present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aking sty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su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But firs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68bba"/>
                </a:solidFill>
                <a:uFillTx/>
                <a:latin typeface="Calibri"/>
                <a:hlinkClick r:id="rId1"/>
              </a:rPr>
              <a:t>http://www.youtube.com/watch?v=wXILI9Q1jI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68bba"/>
                </a:solidFill>
                <a:uFillTx/>
                <a:latin typeface="Calibri"/>
                <a:hlinkClick r:id="rId2"/>
              </a:rPr>
              <a:t>http://www.youtube.com/watch?v=PZoPdBh8K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Types of presentation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Types of presentation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evator spee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ference tal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sis defense tal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ass pres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ob tal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partment semin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vited tal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ynote addr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itch to inves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Basic elements of presentation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your goal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your messag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content will you presen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will you provide contex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your speaking styl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visuals will you us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Your goal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y are you giving the presentatio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t up the presentation to achieve your go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Your messag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do you want people to remember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t up the presentation so that people remember your mess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utwin</dc:creator>
  <dc:description/>
  <dc:language>en-US</dc:language>
  <cp:lastModifiedBy>Carl Gutwin</cp:lastModifiedBy>
  <dcterms:modified xsi:type="dcterms:W3CDTF">2008-11-19T20:22:36Z</dcterms:modified>
  <cp:revision>222</cp:revision>
  <dc:subject/>
  <dc:title>CMPT 105 Building Interactive Systems</dc:title>
</cp:coreProperties>
</file>