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5AD-BCA8-400D-A6D8-C6C35C3C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819-E37C-465C-9944-8139C5F0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C96-D37B-40FB-9C6D-0E0913A3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8A9-2159-4F1C-8B1C-7CE2C8FE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BD7C-9199-4FC6-AAF8-9D681885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2212-755E-4178-BE26-B48EDB22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7A46-D5E3-4CAE-8CFB-AFA9E538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F354-F0A6-4165-B6C7-BC5F1474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D644-1056-4702-92D7-8FF9EC68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B051-E441-4D3F-8B52-4BC3FB01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7A86-B7A9-4BE8-A427-8743A2D8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49E-6850-49BF-AFAA-9CA729ED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E4AB-D53D-4119-B14B-A64835A9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83CB-6003-4185-BC70-14563924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4E0F-26FF-4B58-A811-F5175EB4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F5EF-562A-4EB4-9349-8DBB4562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C07F-980F-4CB9-8316-4286A149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4A7-7AA2-4191-A2F3-6CA67CEE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EEB-00EA-4AFC-937D-0907217D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E96-2B93-4834-B818-14C4B10D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C9B-2333-4F11-B7BD-C0904885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D56-46B2-42AA-9800-BF506DEF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63E8-CFFE-4DD8-890C-EF472DD7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B50-A39A-4B46-908E-674027F6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79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6712-D2F2-490C-A80E-B6FAC5332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9012-A7CE-461F-925D-388FD3C13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5410440" cy="5410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a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962160" y="57146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MPT 880/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senter: Mayya Sharip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mber 2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ducational policy of the state plays important role in the life of people and can shape individuals of tomorrow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712960"/>
            <a:ext cx="44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government should carefully plan educational  policy and then rigorously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952880" y="3505320"/>
          <a:ext cx="4038840" cy="30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505320"/>
                    <a:ext cx="403884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wo fundamental quest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f educ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Arial"/>
              </a:rPr>
              <a:t>What </a:t>
            </a: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Arial"/>
              </a:rPr>
              <a:t>to teach?</a:t>
            </a: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6483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Arial"/>
              </a:rPr>
              <a:t>How </a:t>
            </a: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Arial"/>
              </a:rPr>
              <a:t>to teach?</a:t>
            </a: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3657600"/>
            <a:ext cx="37339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4541760"/>
            <a:ext cx="426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ndividuals we want to see at the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38480" y="3733920"/>
            <a:ext cx="914400" cy="842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645800">
            <a:off x="6781320" y="3276360"/>
            <a:ext cx="304920" cy="1371600"/>
          </a:xfrm>
          <a:custGeom>
            <a:avLst/>
            <a:gdLst>
              <a:gd name="textAreaLeft" fmla="*/ 40680 w 304920"/>
              <a:gd name="textAreaRight" fmla="*/ 264240 w 3049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495800">
            <a:off x="1829880" y="3360600"/>
            <a:ext cx="449280" cy="1297080"/>
          </a:xfrm>
          <a:custGeom>
            <a:avLst/>
            <a:gdLst>
              <a:gd name="textAreaLeft" fmla="*/ 60120 w 449280"/>
              <a:gd name="textAreaRight" fmla="*/ 389160 w 44928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s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ee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viet Un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st/Presen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sent/ Futur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rked-based edu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ject-based edu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lent-based edu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440" y="-76680"/>
            <a:ext cx="3048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Arial"/>
              </a:rPr>
              <a:t>Greece</a:t>
            </a:r>
            <a:endParaRPr b="0" lang="en-US" sz="4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9568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95680" y="1066320"/>
            <a:ext cx="464832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5335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5335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62520" y="4495680"/>
            <a:ext cx="111744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019400" y="1523880"/>
            <a:ext cx="1314720" cy="1524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10666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3366ff"/>
                </a:solidFill>
                <a:uFillTx/>
                <a:latin typeface="Arial"/>
              </a:rPr>
              <a:t>Sparta- to produce soldier-citize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9625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3366ff"/>
                </a:solidFill>
                <a:uFillTx/>
                <a:latin typeface="Arial"/>
              </a:rPr>
              <a:t>Athens- to produce citizens for peace (democracy) and w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1511280"/>
            <a:ext cx="3733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lsory brutal  disciplined training from 7 year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the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587600"/>
            <a:ext cx="4267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for militar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iv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f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4635360"/>
            <a:ext cx="426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ymna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,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tory, rheto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487836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year military training at the age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educ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1800" y="-76680"/>
            <a:ext cx="3657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Arial"/>
              </a:rPr>
              <a:t>Soviet Union</a:t>
            </a:r>
            <a:endParaRPr b="0" lang="en-US" sz="4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9568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95680" y="1066320"/>
            <a:ext cx="464832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5335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5335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371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3366ff"/>
                </a:solidFill>
                <a:uFillTx/>
                <a:latin typeface="Arial"/>
              </a:rPr>
              <a:t>To produce individuals who will build communist socie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657600"/>
            <a:ext cx="38862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ological training at schools, 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dication of il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ve natur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3735360"/>
            <a:ext cx="4267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olitical loy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arxist-Leninist world outlo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nthusiastic participation in the building of Commu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05320" y="2362320"/>
            <a:ext cx="19810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600" y="-7668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Arial"/>
              </a:rPr>
              <a:t>United Nations</a:t>
            </a:r>
            <a:endParaRPr b="0" lang="en-US" sz="4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9568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95680" y="1066320"/>
            <a:ext cx="464832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335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5335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193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3366ff"/>
                </a:solidFill>
                <a:uFillTx/>
                <a:latin typeface="Arial"/>
              </a:rPr>
              <a:t>To produce literate individu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1828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olicy change to provide a framework for local participation in litera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Development of flexible programm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Capacity building for literacy work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Resear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Community participation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Monitoring and evaluation to measure progress in the respective reg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735360"/>
            <a:ext cx="426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057400" cy="172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00600" y="54100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lliteracy halved between 1970  (37%) and 2005 (17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763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Market-based education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4956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5680" y="1523520"/>
            <a:ext cx="46483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9907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9907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7524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3366ff"/>
                </a:solidFill>
                <a:uFillTx/>
                <a:latin typeface="Arial"/>
              </a:rPr>
              <a:t>To produce individuals successful in the employment care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40384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currently in the demand in the mark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30440" y="2971800"/>
            <a:ext cx="1979640" cy="2133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410080" y="2855880"/>
            <a:ext cx="3657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feedback and cooperation with potential 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works, thesis, case studies based  on real companies’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-fairs, inter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763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Project-based education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4956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95680" y="1523520"/>
            <a:ext cx="46483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9907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9907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7524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3366ff"/>
                </a:solidFill>
                <a:uFillTx/>
                <a:latin typeface="Arial"/>
              </a:rPr>
              <a:t>To produce deep understanding and skills in individu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52135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and skills relevant for a particular projec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5365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projects based on students’ interests or needs of communities/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40291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763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Talent-based education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4956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95680" y="1523520"/>
            <a:ext cx="46483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9907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9907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7524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3366ff"/>
                </a:solidFill>
                <a:uFillTx/>
                <a:latin typeface="Arial"/>
              </a:rPr>
              <a:t>To produce creative and talented individuals in their fiel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52135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s and skills relevant to a particular tal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zaz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51055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tal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tal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400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22:45:50Z</dcterms:created>
  <dc:creator>Mayya</dc:creator>
  <dc:description/>
  <dc:language>en-US</dc:language>
  <cp:lastModifiedBy>Mayya</cp:lastModifiedBy>
  <dcterms:modified xsi:type="dcterms:W3CDTF">2009-11-30T16:36:15Z</dcterms:modified>
  <cp:revision>64</cp:revision>
  <dc:subject/>
  <dc:title>Слайд 1</dc:title>
</cp:coreProperties>
</file>