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3ABB-5CFA-444A-92C3-A249CFBD3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F3D4-9411-405A-8799-E1A0DAFA41FB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DBB5-ED1A-4014-9119-42303B308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E87A-A75C-428A-AA90-30BC1FE7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8F1761-9E13-4297-B292-64BBDC91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232DC1-14E6-4048-8B64-D85A8880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C12FF6-1385-4440-8CB1-F756657E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168EB8-7F90-4917-BEED-DFF8C010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E7B4B5-9731-44E1-BC72-2E729D0E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9BA3AC-7CE2-4B05-BA81-B7368F18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B8E94E-FB4E-4892-9A7D-9AC3EECD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5E7AE1-20DE-417D-B266-A152545EC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17879-E53C-40B9-817E-CFF162D4A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9ABCA0-5150-42AB-AFA5-6B6123383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CB23-177C-4572-B195-597C55762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BC94E6-53DF-47E7-8379-17A77689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C697E6-1A39-401E-B32B-CDCEF62E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F0A72E-1830-47FF-B371-FD1402BC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6BDCB9-62DE-4979-9982-B02ABAF1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C99056-EB91-4802-B05A-A3429E20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7BF1D4-FF3C-4534-864F-6BD28E81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8A7770-3664-4A41-849F-AD7F0AAD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E12AFB-856B-4844-B797-37C5AF04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5BE7FF-10AD-4146-A641-12E8EAB2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248CD-C02E-4218-8FC1-FA57F16AD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A756-0E45-4D5B-832A-36100AE5E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2C2B71-DD7D-47AA-80A6-FDA56F89C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66EBC4-AF1E-4ED2-BA33-1D566732E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158966-B837-4610-8269-37019839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B0814C-D7DA-48AD-B3BC-2C1059A4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4F7911-5F46-4BBF-BE58-86391733E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9D2A19-7215-4C6B-A5E3-18FEA083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A5FAE-70A3-435E-A3F5-3029A911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27178-22CF-4C88-AABA-999258F5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3AC1F-7348-4EE9-BD57-AB04B79B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677717-B06D-4BC4-B669-5448F71A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47B2E-A9CB-4E2F-A494-03EC97EC2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237D8-96B3-4286-A501-30D772C5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AD925B-7D8E-4C72-86CF-1C3D40755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C64CBC-B2B8-46A9-9B56-2ABC751CA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53F5FF-DFF2-47A0-9CE1-C5F2C3A82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18F6B6-0BCD-465D-8330-808D811B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28858B-6AB7-4BF3-8035-0073BCAE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B5FC83-A709-405F-B367-341B5A39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38BA02-6F07-4250-B42F-F474467F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3CF26A-0B6F-40A7-A2D5-C2B2513F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0CC640-2F6F-4D48-A2F3-06D6D0B1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046A-11EC-4A62-8B84-02CE7261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BBA510-88CA-4407-8571-1BE64E41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329DC8-2399-4F3A-AA06-0B746304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CBB19D-FA20-4503-96BF-852817DB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72F374-6B27-4D4C-BC29-A5D5A25AD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490E51-B3E4-467B-AF0A-BAD2D7F83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28B91-CBA8-419A-B50F-CC59423A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6F53-7B3E-4207-ADD8-2979DDA2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E49A-D994-44E2-868A-07498EF4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69E2E-B39D-45AF-AB98-0B6B04F7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28220-0FD0-4A19-BF77-B0920ACF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6180-DF84-4774-90E4-AE6FD9C4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2A2E-B4BB-4C2E-BB95-61B06923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3ED62-2721-4A74-A6BF-5EBAB8C2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9EDA-4070-4CD4-BA7A-089C8931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FF35-1871-4B68-9040-12039CB1F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0091-EEB5-43D4-AA27-4E761840D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4944A-E333-4D49-8077-A8507A1D9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17427-0A56-4BDE-A80B-D8AB98A1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9E3F1-54FD-473F-85A2-E60CA144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C4A68-56C9-41EB-A747-3836C8C5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1F3A9-C6A0-46C6-946A-69119662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9585-5645-4693-A037-6D44B360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EDC8A-BC56-48C3-81AD-989A59D5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5E67C-A032-4D2F-BEC7-406DD669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84C28-6B21-4BAD-AEA0-51ADA4C2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BF9A3-F2FD-4E28-9D94-91FD2797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DAB00-142C-4D90-9F80-C3620998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08D15-C14F-489A-8B00-591C7B205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235DA-1B6E-4E50-BB31-83C1D444E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7BD2C-FA5B-44E4-9E36-C03C8FC02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4F7C8-E0B4-493E-A31B-BC6525E1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B0B54-76EB-45A5-AA1A-2466A7D3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A4AB-5C60-4DE2-B3F8-67DB6790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822A3-0505-4FB3-962F-46AC4ACA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0E904-F034-4A8C-906C-1568D0DC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6B7E3-DB28-41F9-87C5-4BA1B7CE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FA069-7A24-43A3-851C-1CE24D73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D8A28-4239-4EF7-847E-E183CF5E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9D19C-E9D4-4A5C-8313-3366CC35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F1F01-877B-4194-B2B3-A64CFDE2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B3C27-EB91-459B-9676-7D23113B5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4FE9C-2701-4D25-9098-1390B744A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835F2-F08A-47FF-9A58-0E8127D30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75C2-AD52-49FA-B8DF-94594D4F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99B7B-3B54-4692-AEA6-A756A84D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4D399-DAD1-4846-96FB-9FC7936A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C9B95-64F1-4A29-AF65-460086B9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51872-1B15-4D50-A9D0-FF11774A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52428-8447-4EA1-8406-D2677C89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19BA1-664F-43AB-A0C1-66477E07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65160-516D-4FDE-8ECD-17739D93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9A5AA-F0F6-4E1A-94D2-ED63858C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1CE1A-7BED-4BB1-8C2A-5966C643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A2469-C6BE-4AB0-BD55-E597C9CBB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2DC7-568A-4698-B37E-76081B83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12AFC-6609-4836-BACC-3D82111F7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5ABBA-E630-4F39-A058-EA824DDFA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41691-62BD-44F8-B1F5-00F39BFC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BA14F-B70D-494F-B9B8-3278EB97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6075C-434E-410D-BD9C-8BC9F063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41816-2B58-4216-86C2-21548C63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86AD5-D6BF-4574-B104-847E1358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0AD1E-42B4-4767-9631-D0C63CD8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806A4-47C5-4706-B43D-17C9B544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64952-4EC6-430F-A116-0D9B75B0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2C98-3E33-4399-A9E5-088517EE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CFC35-BFD6-4DF0-B1C9-B2F584BB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B4956-044C-4EBA-881D-2294ADDB5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D33C4-7D8B-4E63-BD6D-F073303D7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56666-8D51-4C4D-8EC0-887DCAA00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B64E8-F288-447F-85F0-B59C503C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B23F4-3306-4C5E-84BE-72BD5B19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80F5D-D1A5-4BA2-BCFA-40354078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A4678-FE91-4EAD-8D0D-C5F7BE76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7F51C-01E7-4015-A591-2090082C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17194-7A51-4090-BB43-22CF6CD3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D9C9-760C-4CCE-A1DC-5A9F1320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22C4F-24EB-48BE-8047-0175A16F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DDF55-6093-4229-8F1E-B352B734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CC31F-9B8E-45CB-A460-95D0376B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FBA05-48D6-407A-9CA6-132A3FE43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32647-2A09-49D4-8D9C-9B1D02CB1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E08EB-36EA-49D1-981C-42EB5FBD3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FC2F6-5C46-4409-9B57-305E3C5E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07A0D-DF58-4057-AEA6-448477F1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F7B6E-FB64-439A-9436-688CFFB6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3B349-7210-43B2-BD9D-4B47DDA2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1D37-EDC5-4412-8C2B-83E4174F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88743-8FB3-4E0E-A6B5-01F24E33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76C51-CAAE-42F2-B7FA-2C492DE3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F8436-6256-474D-8ADE-621928A0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07EBD-9A71-4F17-A5AF-7BC69131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38946-E086-4167-B567-ED1666E8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E58E9-A2AE-46F4-9006-8BCE60631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2743D-8589-4D58-96BC-F89F727D8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28C92-8EF0-445F-8FCB-9D940840C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ADB607-BBD4-4005-9BD2-AFD25148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A0963-853B-4E67-9455-F21894E6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0b5cc"/>
          </a:solidFill>
          <a:ln w="1260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7632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36B2-913B-4554-AB16-1010D3E1E9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8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f6d3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e88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AD8A-FA41-4416-A496-65FB3EE0EF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6240-45E2-4CC3-8624-0FF1AB2B95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3DF2-E5BB-46F2-8FA9-1117AD31D4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solidFill>
            <a:srgbClr val="ffffff"/>
          </a:solidFill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f6d3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e88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1604-6F61-4030-B98E-A38B2B6CC6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59432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6854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C5E7-B092-4D82-8BA4-30F9CCE136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13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4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f6d3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e88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19FE-1912-4FF4-9759-3999C3EA56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CE65-03D6-4108-87E4-889301D6EE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2C40-5CBD-4200-A1F4-EBF1BE9F59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DC7E-AE7F-4C9D-B3C4-54DEAF23EC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F80F-E86C-41EF-959F-59D2315DE6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A0E2-56A9-4653-A04C-09CFE74623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a5a"/>
                </a:solidFill>
                <a:latin typeface="Calibri"/>
              </a:rPr>
              <a:t>CMPT 880/890</a:t>
            </a:r>
            <a:br>
              <a:rPr sz="4000"/>
            </a:br>
            <a:r>
              <a:rPr b="0" lang="en-US" sz="4000" spc="-1" strike="noStrike">
                <a:solidFill>
                  <a:srgbClr val="434a5a"/>
                </a:solidFill>
                <a:latin typeface="Calibri"/>
              </a:rPr>
              <a:t>Evaluating solutions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Appropriate evaluation methods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re are many ways that you can gather evidence to show that your solution is a good on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most important question is whether your methods are appropriate for what you want to achie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kind of a contribution are you making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is the appropriate type of evaluatio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Evaluation methods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eld stud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rveys and interview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aboratory studies with peop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mulations (laboratory studies without peopl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ofs and demonstr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alysis and argu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Evaluation by demonstration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your contribution is to be the very first to solve a problem, you only have to demonstrate that you have solved 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example, if your main claim is “I have built a robot duck,” then all you have to do is show the duc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Evaluation by argumentation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aluations do not always require empirical eviden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ou only need to ensure that your readers accept your main clai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n you convince them through analysis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example, an approach that is clearly bett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y is it clearly bett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can you make the difference clea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374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.g., count steps that are done in the algorith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udies or simulations are not needed if the difference is obvio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Some terminology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Qualitative vs. quantita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ative vs. summa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Some terminology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Quantita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ults in numerical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Qualita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ults in descriptive textual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a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information at the start of the resear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lora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mma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information at the end of the resear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mp of approval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McGrath: methodology matters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Calibri"/>
              </a:rPr>
              <a:t>Research Methods:</a:t>
            </a:r>
            <a:br>
              <a:rPr sz="3600"/>
            </a:br>
            <a:r>
              <a:rPr b="0" lang="en-US" sz="3600" spc="-1" strike="noStrike">
                <a:solidFill>
                  <a:srgbClr val="5a6378"/>
                </a:solidFill>
                <a:latin typeface="Calibri"/>
              </a:rPr>
              <a:t>Opportunities and Limitations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thods enable but also limit evidenc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l methods are valuable, but all have weaknesses or limitat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ou can offset the different weaknesses of various methods by using multiple method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ou can choose such multiple methods so that they have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patterned diversit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; that is so that strengths of some methods offset weaknesses of othe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Calibri"/>
              </a:rPr>
              <a:t>Research Methods:</a:t>
            </a:r>
            <a:br>
              <a:rPr sz="3600"/>
            </a:br>
            <a:r>
              <a:rPr b="0" lang="en-US" sz="3600" spc="-1" strike="noStrike">
                <a:solidFill>
                  <a:srgbClr val="5a6378"/>
                </a:solidFill>
                <a:latin typeface="Calibri"/>
              </a:rPr>
              <a:t>Opportunities and Limitations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redible empirical knowledge requires convergence of evidence across studies based on different methods.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Research Strategies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en you gather research evidence, you are always trying to maximize three desirable featur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Generalizabilit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f the eviden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recisio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f the measurement of what is being studied (and precision of control over extraneous factors that are not being studied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Realis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f the situation or context within which the evidence is gather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MOTD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puter science meets every criterion for being a science, but it has a self-inflicted credibility problem.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50% of [CS papers] proposing models or hypotheses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did not test the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 In other fields of science this fraction was about 10%...Our failure to test allows many unsound ideas to be tried in practice and lowers the credibility of our field as a science.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Denn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Research Strategies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though you always want to maximize A, B, and C simultaneously, you cannot do s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4" descr=""/>
          <p:cNvPicPr/>
          <p:nvPr/>
        </p:nvPicPr>
        <p:blipFill>
          <a:blip r:embed="rId1"/>
          <a:stretch/>
        </p:blipFill>
        <p:spPr>
          <a:xfrm rot="16200000">
            <a:off x="1549080" y="-965160"/>
            <a:ext cx="6019920" cy="8712360"/>
          </a:xfrm>
          <a:prstGeom prst="rect">
            <a:avLst/>
          </a:prstGeom>
          <a:ln w="9360">
            <a:solidFill>
              <a:srgbClr val="98a0b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Quadrant I: The Field Strategies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Quadrant I: The Field Strategies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eld stud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esearcher sets out to make direct observations of “natural,” ongoing systems, while disturbing those systems as little as possi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eld experi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so works within an ongoing natural system as unobtrusively as possible, except for intruding on that system by manipulating one major feature of that syst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Quadrant I: The Field Strategies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behavior system under study is “natural: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would occur whether or not the researcher were there and whether or not it were being observ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Calibri"/>
              </a:rPr>
              <a:t>Quadrant II: The Experimental Strategies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Calibri"/>
              </a:rPr>
              <a:t>Quadrant II: The Experimental Strategies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aboratory experi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investigator deliberately concocts a situation, defines the rules for its operation, and then induces individuals to enter the concocted system and engage in the behaviors called for by its rules and circumstan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perimental simul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esearcher attempts to achieve much of the precision and control of the laboratory experiment but to gain some of the realism of field stud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Calibri"/>
              </a:rPr>
              <a:t>Quadrant II: The Experimental Strategies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laboratory experiment and the experimental simulation are strategies that involve systems that would not exist at all were it not for the researcher’s interest in doing the stud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Calibri"/>
              </a:rPr>
              <a:t>Quadrant III: The Respondent Strategies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Calibri"/>
              </a:rPr>
              <a:t>Quadrant III: The Respondent Strategies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ample surve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investigator tries to obtain evidence that will permit him or her to estimate the distribution of some variables, and/or some relationships among them, within a specified pop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blic opinion surveys on voting intentions, political preferences, buying inten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Outline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is an evaluatio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aluation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ypes of stud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alid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Calibri"/>
              </a:rPr>
              <a:t>Quadrant III: The Respondent Strategies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systematic gathering of responses to questions or stimuli formulated by the experimen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ontrast to the observation of behaviors of the participants within an ongoing behavior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Calibri"/>
              </a:rPr>
              <a:t>Quadrant IV: The Theoretical Strategies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Calibri"/>
              </a:rPr>
              <a:t>Quadrant IV: The Theoretical Strategies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al theo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esearcher focuses on formulating general relations among a number of variables of inter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puter simul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complete and closed system that models the operation of the concrete system without any real peo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onsider when reading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es the paper acknowledge the strengths and weaknesses of its evaluation methods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 the research evidence based on only a single evaluation method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Types of studies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Types of studies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ree basic form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rates (how often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rrelations (are properties related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erences (comparison or differenc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Base rates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w often Y occurs in the general c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ed as a basis for deciding whether the rate of Y in some particular case is “notably” high or lo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orrelation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 there covariation in the values of two properties or features of system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rrelations: High – Low; Positive – Negative; Zer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inear or nonlinear relation betwee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usation versus correlation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Difference and comparison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 there a difference between X and 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 there a difference between X and no X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Validity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What is an evaluation?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traditional problem for CS stud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way to determine whether your solution is a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goo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solution to the problem you were trying to sol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Validity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ve different types of valid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istical conclusion valid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l valid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truct valid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surement valid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ernal valid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Validity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atistical conclusion validity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erence arisen just by chanc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lationship between cause and eff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Validity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ternal validity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close can you come to asserting that the present of X caused the altered level of Y values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erence in Y associated with a difference in X does not necessarily imply a causal role for 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there other factors which may covary with X and they, rather than X, might have produced the change in 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Validity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struct validity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well defined are the theoretical ideas in our study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clearly understood are the conceptual relations being explored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Validity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asurement validity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 your measures actually measure the construct of interes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well have you operationalized the construc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Validity of Findings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ternal validity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confident you can be that your findings will hold upon replica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general are your our finding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confident you can be that you can make predictions about other situations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ommon errors made in research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lective observ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accurate observ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vergeneraliz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de-up inform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 post facto hypothesiz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llogical reaso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go involvement in understa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mature closure of inqui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ystific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An example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ou have developed a graphics technique for rendering crayon drawing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w should you evaluate your techniqu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Issues for evaluators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problem are you trying to solv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es your solution actually solve the problem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 does is solve a different proble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they don’t match, you can’t design a good eval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bad thing results from the problem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ember your motiv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y the problem was worth sol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Example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blem: people get lost in virtual worl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 what: extra time to navigate; frustr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lution: overview map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aluatio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Example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blem: designers don’t know how teenagers use mobile phon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 what: lack of knowledge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poor design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less 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lution: observe teenagers using mobile phon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aluatio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Example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blem: Multi-tap on mobile phones is slo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 what: too much time spent on S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lution: Tilt 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aluatio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utwin</dc:creator>
  <dc:description/>
  <dc:language>en-US</dc:language>
  <cp:lastModifiedBy>Carl Gutwin</cp:lastModifiedBy>
  <dcterms:modified xsi:type="dcterms:W3CDTF">2008-10-15T08:42:13Z</dcterms:modified>
  <cp:revision>149</cp:revision>
  <dc:subject/>
  <dc:title>CMPT 105 Building Interactive Systems</dc:title>
</cp:coreProperties>
</file>