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29.jpeg" ContentType="image/jpeg"/>
  <Override PartName="/ppt/media/image88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F7AE-D98E-4B4D-B375-0FEF8715DF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8B72-A230-45C4-BCB9-2423BF105B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F4A2-875B-4037-BB40-1FB292896E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CE52-8931-4F20-A4DF-B95A28DA36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8049-FAE9-461E-8082-1744A60723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8474-C0CE-447D-80DD-01F4E16AD1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D78A-4D29-4684-9A01-22F0820A32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0B37-5C6E-4166-A52E-77FCCF5C8A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4D16-C953-4E4B-BC7E-E3ED287E34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01C5-1B48-441F-B9CC-559214C88D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7801-55B3-4E8F-861A-497B1FFAAD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B572-91EE-47C2-8FDE-CA9703A00B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6D17-8EE8-48E0-A459-508FC29664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0336-238E-4021-8C7D-62F0422BF2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8690-EC9A-4C2E-B844-D66F57BCFB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C69E-8C06-4E70-A8AE-F3138D14E0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9129-DC30-4283-87D2-93AF15F1FF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1FF6-4F4F-4612-B346-5A9BD6EDCE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9C0C-9079-4DF3-A7AB-40EF32F193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AE50-38E7-46BA-A743-A9A5126582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D727-3D59-4CD2-835D-0B5C9B5382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4ACF-A831-48DA-869A-F788A7BEB0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C907-4893-4605-9549-EF58466F10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9697-CC4F-4278-BFA1-9BA91A054C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8871-4237-4CD9-BFB1-2E30E08702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209A-C9EE-45F1-9F32-FE5532F9BE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30A9-AA3A-43B4-9C38-BF4D6877A5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234A-8165-4C0E-8DDF-40117175D5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0689-5043-4057-8B22-57130E41AE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D285-B768-492A-A048-24BABF7587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C071-0CB6-416D-BB59-3BD564B2EB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9A51-43C3-415B-9A1C-3735409308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B831-1F3B-428A-9B78-B433AD905A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54FF-5F3D-432C-823D-0423976DEA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15F2-579F-4DFB-896F-51A362F39C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25C5-1FD5-4532-9BA6-1003CF8171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358C-A555-40F2-B1D3-906C61CC67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8A1C-676D-46D3-B165-8B84E0224D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BAD8-A73C-4C27-949D-50A748D810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56F4-627D-4150-8EF7-DB67CA8017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B18B-8DBC-4031-B6A5-808CB8378D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76F9-3DD3-4482-BF7A-C75EA80CDE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E500-36A1-4869-88AA-E479027554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CC9A-11E3-4F52-84AA-E71F3575CB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499B-7FB2-46BE-BA15-5BDCCBDB36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AD28-5DFB-47AD-B656-2C09816ABC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3CFD-4AB7-4E19-B076-F28B67A9C9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EF77-3A16-41F4-8831-2248AE3409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62A6-0281-46D1-BB64-5BA0F58CE1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9945-58A4-4C9B-AFEB-53DC325ECA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40B6-8944-41D2-8E1D-ACD01D0B3F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92BA-76BE-410C-B46C-C0C622FAB3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7330-B018-4BF2-BB50-8B16319141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92C2-E9DD-4A4B-9319-CED76FD15E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FEC3-8F3C-4EA9-B948-695B1834E8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D7D7-01AF-4615-A249-FC1F80ECFA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E9C5-C6F0-4360-A277-967E57AAA1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D504-6195-4C3F-AFED-23C96598FC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292F-985B-4F53-834B-D6D57D8C1C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6135-B4C4-4DAE-865C-757E0E5854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40F1-0E5B-41C5-9841-072A925AC0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1F36-F32D-4981-BE4B-0812737C00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5C1A-2EFD-4628-A687-F70D7486C6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CADE-CA4C-49F3-98E5-5E2271A72D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32D2-A3DA-43DA-B44F-676B07BBD5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FF73-ADD4-46CA-AFEB-3E302AD193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1C74-CA86-4107-8999-949CCC4000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9C48-720F-437E-B845-F909C1E8D3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7349-F322-45EE-93F8-5A17325C31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17DC-9F40-4C78-B00F-A01D53DB84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CFE3-8D52-46E7-802F-8352B05733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D814-DE75-403A-A1DB-C7EC7C0862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9F7C-5C55-4F2E-A763-6B1A8FCAA0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0BC5-4409-49E3-87C8-5D2E9455AE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DA79-DE05-40FB-9419-0C48BB67FC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57CB-C162-4547-A310-848D48A7E8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842D-55FD-46FF-A9EC-77F8E3C7DB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211C-A446-4216-8BC3-765D71F1E0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417A-AA7A-4485-8401-FEE1E10E2F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E808-287F-4D22-823C-476EC7FC43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EF20-2CA8-48C6-9D6F-5A867787E6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45DD-783E-40FC-8B29-4B4C786831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ACF1-CF3E-41DD-AE03-8CF6C5F293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649E-5904-403A-B9D5-E94DE1AF83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5D0F-6E11-48AE-9608-F326EDF18F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6AF7-BEB1-41DD-845E-FE2310305F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3AB7-4BE3-4C23-8FE2-9CA357955F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DA31-B859-47B5-951F-450F5403A2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36D0-E733-4BBC-8669-AA8BC6E94D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D383-BD80-4ADD-BC3C-1A065117B3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883C-E4FD-4447-A8AB-D5160F1B28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AB95-FA8F-4EAB-901F-0675851791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1B82-8715-4A63-BA33-BED80D14E1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010A-4218-43A1-94E3-045F327033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398A-D9C5-40C5-8DEE-690ECE5995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FB92-9CF5-4436-805A-8003504E36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3F25-3BB6-459F-B6AD-BB342D6C1E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1C36-976A-45ED-BD8A-B36A93838E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50A9-4545-4B69-A658-B5EC0C409B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39AB-FA3C-462C-AF41-E927551C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FB80-FA2E-40C4-A76A-94336D15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FAF-3B59-4D6C-AF0C-EA65C73B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E77-4EC9-4327-88C3-DA8815A6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9C9C-B2BF-4428-B508-F8492DB2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7245-B2C3-4E41-92EB-B7616601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1693-9C5A-4A53-8781-A660D64C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0D2-6B60-4F09-B112-31A8389D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8B0-ED1B-4857-9616-011E83CC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8A1-24AB-473F-A14B-DFFCE77B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1359-1195-4AE9-8A6E-7E4BBBB5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E60-46B9-4F44-BA8C-3CCF78BF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C711-301C-4BD5-A699-95E62B7187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lide1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lide10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Slide11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Slide12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Slide13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Slide14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Slide15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lide16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lide17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Slide18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Slide19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Slide2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Slide20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Slide21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Slide22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Slide23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Slide24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Slide25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Slide26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Slide27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lide28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lide29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Slide3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lide30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Slide31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Slide32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Slide33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Slide34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lide35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Slide36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Slide37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Slide38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Slide39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Slide4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lide40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Slide41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lide42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lide43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Slide44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lide45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Slide46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Slide47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Slide48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Slide49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Slide5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Slide50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Slide51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Slide52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Slide53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Slide54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Slide55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Slide56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Slide57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lide58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Slide59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lide6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Slide60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Slide61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Slide62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Slide63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Slide64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Slide65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Slide66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Slide67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Slide68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Slide69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lide7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Slide70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Slide71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Slide72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Slide73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Slide74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Slide75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Slide76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Slide77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Slide78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Slide79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Slide8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lide80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Slide81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Slide82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Slide83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Slide84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Slide85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Slide86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Slide87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Slide88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Slide89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Slide9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Slide90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Slide91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Slide92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Slide93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Slide94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Slide95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Slide96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Slide97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Slide98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2:39:51Z</dcterms:created>
  <dc:creator>Rowan Manahan</dc:creator>
  <dc:description/>
  <dc:language>en-US</dc:language>
  <cp:lastModifiedBy>Carl Gutwin</cp:lastModifiedBy>
  <dcterms:modified xsi:type="dcterms:W3CDTF">2008-11-19T03:22:50Z</dcterms:modified>
  <cp:revision>1</cp:revision>
  <dc:subject/>
  <dc:title>PowerPoint Presentation</dc:title>
</cp:coreProperties>
</file>