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BCFD-AF3F-4958-A9B7-2624F468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BF81-7BC5-48C9-82FF-28561819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70B11-CB6E-43A6-849A-42CD4B59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0D38F-1E93-428B-88B6-A91C48C7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390C7-5207-48F1-B4BE-B6497EF8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1736E-6C25-41EA-9C75-67FFC30B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F2382-A43B-41D2-A9F8-F52484A4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E4576-FA74-43D6-AA18-F02D7380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F8B89-952A-4EE2-AAD9-85306EB6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79F42-9042-4577-AEAD-D201A410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91355-9689-46AD-9B03-7E36ECA8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E9EB8-415A-4085-AF3B-65165590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68F8-F120-4A25-8C22-8D9260DF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4629D-A59F-4DA4-AA19-F14D951C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558AE-6A96-4A16-AC1A-08BD69C7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2E681-D180-4345-B68F-5B53F258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11B5A-BEB0-4AD1-B45A-0C84A6CA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4D665-50BB-4A4A-A2B1-18FAC32E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63869-93E0-487E-B1CE-CE379EF1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C4CD7-8A04-4390-A2E1-929074B5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F1608-0427-46D7-804B-EAC523A8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DD7AE-3116-4CD1-B1E4-54A4D16D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9DD55-169A-4625-8AD3-E482A0C2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0F16-1DFD-4884-8856-1BF0FA34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85E57-81FF-4DEB-A744-AE0A8432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C654D-DBFF-4CE5-B41A-FA96B78A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1D145-4584-426E-8A62-812FA211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5B5E7-937C-40CE-823E-BFE7C135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4ED36-772E-42C9-A5D7-32361570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AD4B0-272D-47C2-AE52-7DEDEAB0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9941D-2D17-4F6F-9470-8D3286C3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E5691-A686-437D-915D-88240BEB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92682-EDA8-4AB3-BB65-E6861835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83A6D-7D51-4F36-AE5A-FA554DEF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F4A0-23B0-4894-AB51-2BBD3D5E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7EA9A-4578-4AE9-848A-81415D3A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C508B-E2DB-45F2-8C14-C18451F0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07117-BBEC-4C99-8ED7-7B64B55E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DD8B4-8EAA-40F0-90F5-D5BE04A6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8A0BE-2128-4A26-9FA1-5D409763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E06B1-7436-4B8D-96FD-EC9BFD16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F9120-3CFB-482E-A96F-F4AE30AB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6F6D0-186E-4D2B-8EBB-44265EBF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7EB13-B186-4181-90BA-CEC82CA1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E76D1-A2BE-4D7C-A381-13C5C7E3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38BE-9BAD-48BA-97D9-35CF17EE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8C7BC-B1EE-4E39-B134-D5FF749F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6990B-B667-4A86-86DD-39616389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1A653-5D6D-4CAC-AA50-EB0E6B7F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8F3CA-B92D-4BA1-9568-A0D48CCA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E533E-83EE-4E72-8552-CFDEA79E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935C-299F-4664-BAC4-C1572906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EF28-DB78-4433-92E7-D2267BC5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70ED-8449-495E-BA6D-A847E005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4240-0836-4289-B73A-5778E7F7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FCB3-9C10-45A0-810C-DB35A60C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C68F-8F7F-453D-B24C-09615F24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E817-1863-4FD9-83F4-8D7E0396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96F1-36B5-455D-828B-E1F93524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F3D1-6390-4885-89AA-57D07265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E510-2209-4C56-BCC1-A52BA387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63E0-5C55-40AA-B337-BD5FCEC7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71722-D03A-4439-85F2-5CD145D8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D0A3A-C749-468F-BCB3-3E07BCA6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FAEFF-0C2B-4F82-81A9-FD850A6B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7F53F-20ED-44A7-AD3A-D4D135E9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01C88-4347-4066-89DC-696A7702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F082-ECE3-4DEA-B953-03635B21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99AF2-8922-44EB-BC38-5C0CC1DE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3F9E4-4B56-4EC4-86DE-6CF4F44E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0FD29-EA6D-4043-96A2-2B822F93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D70A9-A85C-4D6A-95A4-452276FE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26F36-C468-4F29-8847-583CD6E4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07427-A019-40F5-92F1-2546FFDE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DFE2E-B395-4402-9C42-09D7D836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737AF-0662-4E27-9376-4DB1F1BC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39AC8-EAB9-43B1-9739-895D02E4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DFE79-B748-4719-84D2-EA4C62D1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565-B695-4AC6-8D98-D260A186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EE2E6-DC0F-4E6B-A2C1-C9C844EE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D6440-07C0-4E45-A469-4E8FEE44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A8AAA-D07E-4FC8-BC09-E26A4DDE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D46D8-CB7A-418F-8027-4F68851B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11A99-7DCF-46B8-89D5-EC9D46A8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0F95D-3B45-4E96-94C2-7E1972B6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6CECE-2E65-4C24-AA3B-ACBBAFB0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3315F-3EA1-46BE-B61E-81D89ECF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3C38D-7B1A-46B5-93A8-7776C4B7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AACD9-6556-4295-B08D-59459DD9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C9B6-9A1F-4FF9-8E5F-17268384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44219-F052-43E8-A013-C3D27FCC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835E0-CAB9-4C02-A053-9DDA3D0B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5BE88-A51C-43B3-BE41-A20E02EA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485F8-FFB3-4817-A9C2-A82D0F08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E7E5C-6D35-415D-A2DD-9BFE971B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1AD56-C8A2-4E50-9236-1A4818A1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C95DB-8532-4B1B-81A9-F49DD0D0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2A9CB-6B7E-4675-AC08-F611BB30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F8F9D-29FA-4C9B-9E64-264A20E1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577BF-913B-4C23-ADC6-8BE83B8D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418-F542-4468-BB7B-102BECD6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67878-72F3-4E95-8AE8-F4BB8C52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A8667-3EE9-43EF-85D9-87F96B2D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97B84-B1BD-42D6-8D5A-156784C5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53035-7610-4B01-9C6D-5B58217E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FCBA0-867C-4296-8DFB-4A8AE08D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3AEF0-6D1C-40BF-B82F-12CC34AB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85EE9-3E52-4C8D-BD29-13761324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B54FA-5595-42E6-A7A5-E5B8F6CA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F15D6-6190-4FFA-8D8B-235FE3AB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67D25-317F-4BF0-8FD0-BE1D5936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BD70-439A-40FD-8C7A-C70CC976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6E7E4-E14D-4BAD-8B33-28BF4F8C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EE1B2-E66D-439E-8FA9-D0542A59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75ADD-5CB2-4FEC-B9F1-CAC1C90A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1B344-F016-443E-9003-05769621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7F9B9-5125-4629-BA2C-E36F111E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9845B-F319-41D7-9D48-011B6DD2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7A6E3-09B3-4A7A-B857-CF63F8D5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97412-18D1-4B6B-8DB6-64CE080A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57448-190F-4054-B2C4-C28AD0F6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7186F-114F-4D02-BEF8-3F7D9073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DC2-EAEB-4A63-835D-7906140E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826BD-77DE-4F26-8333-B48177A3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3E751-7CC4-4B86-B9BB-99B8FFF5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2BC91-82E2-4544-8CB5-C033C193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1C586-B829-40F5-BD20-2724D8D6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C3E6C-73C3-4CDC-B736-3F33354B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B9913-EF32-43BE-ACC8-8A7AD091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01515-F7F2-4438-B47B-6913C143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87377-C0A0-4D81-912E-8BDA99D8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DDAC0-B91C-4F03-905F-3DA4757A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41A42-17B7-4773-9418-0534BFF3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FAAC-C8D5-4493-BBF6-F52B6605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C67A1-8D15-4A84-931D-9406161C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A15C3-369F-46BC-8863-0601DB27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E7977-B82A-4B29-908E-F8B0A4D2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AD622-FCE8-4E47-ABF9-E413E4AF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F9C1A-CA3D-4934-B9B5-B0295E97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730CF-9684-4453-B968-85A6BD1B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0CE5B-3977-4157-B941-78BAEB2C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CF6ED-F8DB-4FC6-B332-42BF780B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59470-9FE8-4B29-ADCA-2B578323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14424-2DD1-4F63-846B-282D9ACE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b5cc"/>
          </a:solidFill>
          <a:ln w="1260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7632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0F9C-191C-4209-A6E2-9C4134C0D054}" type="datetime">
              <a:rPr b="0" lang="en-US" sz="1400" spc="-1" strike="noStrike">
                <a:solidFill>
                  <a:srgbClr val="5a6378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BD32-ADC8-4A3D-9359-48AE88A223D9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403D-4D8B-42F8-A512-3896DB1E8E7A}" type="datetime">
              <a:rPr b="0" lang="en-US" sz="1400" spc="-1" strike="noStrike">
                <a:solidFill>
                  <a:srgbClr val="5a6378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1457-0F07-44CD-8E01-04C6F1E8E753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F5A3-39DA-497D-B6B8-109404DEBE15}" type="datetime">
              <a:rPr b="0" lang="en-US" sz="1400" spc="-1" strike="noStrike">
                <a:solidFill>
                  <a:srgbClr val="5a6378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D954-6627-49A8-B595-175D75428C5B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41C7-90FF-491D-AD5C-1DD134C638F8}" type="datetime">
              <a:rPr b="0" lang="en-US" sz="1400" spc="-1" strike="noStrike">
                <a:solidFill>
                  <a:srgbClr val="5a6378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97F3-EF0B-47F5-AE1B-49B62F0882D4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solidFill>
            <a:srgbClr val="ffffff"/>
          </a:solidFill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9927-95D6-4166-9A59-215D6DB369F1}" type="datetime">
              <a:rPr b="0" lang="en-US" sz="1400" spc="-1" strike="noStrike">
                <a:solidFill>
                  <a:srgbClr val="5a6378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1027-BD2E-4D7F-BC9C-849F4A7D7FC2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9432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E2EA-5E6A-41BA-A1F1-6DDD69D59453}" type="datetime">
              <a:rPr b="0" lang="en-US" sz="1400" spc="-1" strike="noStrike">
                <a:solidFill>
                  <a:srgbClr val="5a6378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854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1345-A779-43D7-B650-61C712ED2D04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55440" y="60480"/>
            <a:ext cx="9033120" cy="6711840"/>
            <a:chOff x="55440" y="60480"/>
            <a:chExt cx="9033120" cy="6711840"/>
          </a:xfrm>
        </p:grpSpPr>
        <p:pic>
          <p:nvPicPr>
            <p:cNvPr id="1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55440" y="60480"/>
              <a:ext cx="903312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59A8-49F9-42A1-96F1-01B45F07F79A}" type="datetime">
              <a:rPr b="0" lang="en-US" sz="1400" spc="-1" strike="noStrike">
                <a:solidFill>
                  <a:srgbClr val="5a6378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4CA0-9C42-490E-842C-C428C2369701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AC5F-5E50-419A-B3FB-A3F7C555D416}" type="datetime">
              <a:rPr b="0" lang="en-US" sz="1400" spc="-1" strike="noStrike">
                <a:solidFill>
                  <a:srgbClr val="5a6378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D436-A9E1-4CB9-95BD-1034708570B8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3FFE-4013-4AAD-BB7E-724E5093043D}" type="datetime">
              <a:rPr b="0" lang="en-US" sz="1400" spc="-1" strike="noStrike">
                <a:solidFill>
                  <a:srgbClr val="5a6378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EC82-4191-401B-B0C3-6E15372DF3E3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515C-5148-47E8-B3DD-43C30F274ED6}" type="datetime">
              <a:rPr b="0" lang="en-US" sz="1400" spc="-1" strike="noStrike">
                <a:solidFill>
                  <a:srgbClr val="5a6378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6B5F-E09E-41B2-91AE-F007D0EF7590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D3E2-FE62-4B8E-836B-01102692BCFE}" type="datetime">
              <a:rPr b="0" lang="en-US" sz="1400" spc="-1" strike="noStrike">
                <a:solidFill>
                  <a:srgbClr val="5a6378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936B-1A65-40B2-9FD2-80FAEE98631C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2875-B7FF-459C-9B73-79775C5F5FD6}" type="datetime">
              <a:rPr b="0" lang="en-US" sz="1400" spc="-1" strike="noStrike">
                <a:solidFill>
                  <a:srgbClr val="5a6378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DFCC-227D-4749-B5AE-49C6C97E2186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a5a"/>
                </a:solidFill>
                <a:latin typeface="Calibri"/>
              </a:rPr>
              <a:t>CMPT 880/890</a:t>
            </a:r>
            <a:br>
              <a:rPr sz="4000"/>
            </a:br>
            <a:r>
              <a:rPr b="0" lang="en-US" sz="4000" spc="-1" strike="noStrike">
                <a:solidFill>
                  <a:srgbClr val="434a5a"/>
                </a:solidFill>
                <a:latin typeface="Calibri"/>
              </a:rPr>
              <a:t>Planning, Drafting and Revising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Revising your draf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r draft was written by you to yours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urpose of revision redirect your words to a reader who has not done the work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all terms using common or accepted no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aware who is reading: Do you need to define basic idea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n through your draft for terms you left 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Revising your draf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chnical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assumptions, clarify for re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t a colleague to read draft early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erim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can be “last-minut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ain methodology and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ain how you will analyze th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oose appropriate data to sh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pretation should support the conclusions dra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Revising your draf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new in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mmarize main fin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write in light of conclusions, experi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 with problem statement, and value of ans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tion key results/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careful not to over-s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bstr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xt/Problem Statement/Your Contrib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Reminder: Review exercis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per reviews due on November 3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llow the format given on web p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mit your reviews to your supervis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C a copy to 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king: Out of 1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marks: Clarity of review (is your position clear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 marks: Completeness of review (did you address the concer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 marks: Validity of review (are your arguments good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marks: Quality of writing (grammar, spell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Marking: Review exercis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t of 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 marks: Clarity of review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21456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your position clea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21456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 program chair might have trouble, you’ll lose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5 marks: Completeness of review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21456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d you address the items on the review for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21456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 deducted for each missing compon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5 marks: Validity of re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21456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your arguments/reasons goo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21456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 marks: Quality of writing (grammar, spell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Review marking schem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685800" y="1447920"/>
          <a:ext cx="7772400" cy="3479760"/>
        </p:xfrm>
        <a:graphic>
          <a:graphicData uri="http://schemas.openxmlformats.org/drawingml/2006/table">
            <a:tbl>
              <a:tblPr/>
              <a:tblGrid>
                <a:gridCol w="1676520"/>
                <a:gridCol w="1143000"/>
                <a:gridCol w="4952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iter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aluation/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your position clear?  Would an editor or Program Chair have difficulty assessing your positio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you address all the items on the review form?  Does your review attempt to assess all aspects of quality of the submissio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 your positions supported with good reasons?  Do you justify all your claims?  Do you draw reasonable conclusions about the work?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guage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, grammar.  Full marks for fewer than 5 errors; zero marks for more than 10 erro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Planning, drafting and revising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rt early.  Finish early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sections can be drafted long before your experiments are finish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 typical outline format appropriate to your fi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raf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very quick version just for you and your collabo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vi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rting the document into a paper for other re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Use a common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ientific reports typically follow a common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 a format appropriate to your field, e.g.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kground and Related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Your contribution/invention/idea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riments or Theoretical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no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chronolog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il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Planning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rite a sketch of your introdu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21456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you to focus your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21456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e your main points, contributions, 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e sections and section headin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21456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n’t f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21456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line main terms, major re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in contribu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21456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line the sequence of de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eri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21456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line which data you will pre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Drafting: Outlining Section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ch section needs a small introdu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5600" indent="-21924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s reader follow the details more eas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25600" indent="-21924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etch first, revise l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chnical section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5600" indent="-21924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tivate top-d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25600" indent="-21924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technical concept bottom-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25600" indent="-21924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technical details need reasons, some don’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erimental work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5600" indent="-21924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etch 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25600" indent="-21924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 draft data/figures/t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25600" indent="-21924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pret and discuss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Drafting: Filling in Section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rite quickly to cover the points you outli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points to your outline if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ckground / Rela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 all your terms from all s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 all mentions of related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not fill in Intro or Conclus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6:31:42Z</dcterms:created>
  <dc:creator>gutwin</dc:creator>
  <dc:description/>
  <dc:language>en-US</dc:language>
  <cp:lastModifiedBy>Michael Horsch</cp:lastModifiedBy>
  <dcterms:modified xsi:type="dcterms:W3CDTF">2009-11-06T20:09:52Z</dcterms:modified>
  <cp:revision>215</cp:revision>
  <dc:subject/>
  <dc:title>CMPT 105 Building Interactive Systems</dc:title>
</cp:coreProperties>
</file>