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C19-5C77-4548-B0D7-5CF9B27DD32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EFB-E6A6-46D9-8EE0-1FDBC193431B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04F-58DF-409C-9B19-30F46D27297F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1EEF-8DD7-46F1-8D3F-D272D5969054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FC97-7FC9-4654-BB34-240AFEF51D9F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CAE-468E-4B0C-95CA-5A5B01DCF11C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87B6-C04C-402B-8298-9A32F1220F1C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5C93-7985-4EC2-B0AA-AA710D9DA77D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968A-6A5A-4B5E-9156-F50667A3738D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03C-6CD2-43FE-885E-967D72CFF331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A2F9-A66E-4D6A-92DA-1185C0D6C00C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EB5-D991-45A3-AAD1-D3F003B793AD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5FCC-9F08-4BF8-93DE-D21E8CC166FA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05FF-3476-4E5F-A3FB-F7315A6F72AF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82BC-C014-4318-89DB-897B3C1EDF02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7050-7919-4661-B37C-78D049586B83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D774-5545-4A16-B8AA-10AABF614852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69D7-DFC9-49EC-94E2-A2B0E7148F43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119-C3F6-485F-B50B-22D45AA3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51E-6596-4FC8-B023-A837892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B3D-73FD-49E1-8788-6A05ADDA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AFF-4D22-4684-943E-0305265F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10045-8DB7-46B1-A012-1C52B27F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599ED-22BB-426F-B446-EA386488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419FD-4FCA-4836-B5FD-BF6C3E6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6AB05-2335-4651-A1E6-D3DC3397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284B0-28AB-456F-B391-7C8C7CA2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6847F-4184-4B24-8991-D5A91A7A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B1530-F3F2-4584-8059-F9CF470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F2D-593A-457B-BA6B-87062375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BF97D-6C62-4C2B-94ED-9B8B5C1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42A02-1388-4AF9-8B9B-3BFCDED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B4540-FB46-413C-B1A0-D4198F9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84C8F-23CB-4473-B574-249E3ADB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F1DC9-EC63-4BB2-B3F2-00E7A0E6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B0DBE-E6DF-4228-AA8C-1CF1D597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40686-ADFA-452C-8B1A-F7904CC6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A124D-5C07-43EF-8CDF-AF186B0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F1F88-0EC5-4E4F-8894-EDA3E208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44FE0-F205-4AE4-8445-2EF4E37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ECC-83B4-495B-A253-DA53FEC6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C78C1-E537-46A4-AE6D-0AFD85F8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3296C-A110-44A3-9E9C-CE3869D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3C11F-7E1E-4D2A-A980-7FAB4F3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6B002-9E66-4A41-86DE-161D92C5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341EC-1A89-4C48-B639-25CD21EC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00E20-0197-4331-9C00-48CAE8D6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6084D-7BFE-4D69-AD62-78FED1DA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97F8-AC0C-4C2C-ABA6-5B57654E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8410-A6C0-49DA-9E6D-0A8A1612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EF50-A0DC-4FC2-A561-727B35D1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144-C1DD-4DBF-A34E-6EA8488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D352-73EB-4E8B-A322-3B7E84C3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11244-0020-40FD-BE74-44F36DCD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208F8-D428-41DA-92B0-F7153AA1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9136-D8DF-46C1-9309-F744792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6727-CB87-4D51-A26E-659841E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AD21-7AB7-4EE8-80F7-5DE75B06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511E-4EE0-40E9-8582-0019596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E065-9408-4701-B13D-4DE84A9F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F9F9-F686-4AF9-88E3-A33F1758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DACA7-390C-4988-BC4C-2CFDC9B4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0A1-D692-4F4B-8A01-5E527336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F9B2E-FED0-4051-A94C-AAC7B02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A1B7C-B9EF-46CF-9E76-B8549C8B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1C0DB-5A31-4CEB-9ACD-F19C7612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A45D-B494-499D-8CB4-64F5C97E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69875-C1F7-4F0C-A29C-8D30C47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92D5-78B2-4E8C-8395-3E5E766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7A646-61A0-443F-BA21-7DD56CB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1CF9-49E7-406F-B815-79910CE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802D-14DE-43E6-800E-D28B81ED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52FB-2856-4898-B629-0FAB3532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3A3-86D2-46F5-8892-ABD8BA0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1ABD0-328F-4254-86F2-BF86DF52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498E-8236-43E1-B1E1-65DE796D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A7D68-5DD2-40AF-9D0C-A3D7847F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48926-B2BD-4E90-B1E7-ACD32B3E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10DC4-C8F3-4657-9A2B-77D6DD7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DA8B4-FA31-4F55-8590-4E240E0B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6769-C115-4AE0-8A78-DA35CC1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8C1C3-3724-4FA8-B861-46AD070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B7200-845D-4C6C-88CF-10FE683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73446-F989-48ED-8A1E-6A59A3F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4F9-11DC-42C8-8900-9F825A7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DFB4-3281-492B-92EC-2B1C578D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1549-0F1A-4DF1-8BBE-9EF36DBF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E150-CEEB-4549-BBE0-7B20A6B8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605E2-9074-41A7-B4F5-E0419338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DD3CA-3F45-4E2B-882F-86D14081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1D52-CB48-41ED-9D4F-BF412C05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C9E1-8CEA-4616-98EE-4FB9A16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0288-9FEB-4E8C-B6B8-5ECDEB10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7AFE-B743-48C3-9A17-4DF1759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B5DC1-E334-4B38-B3EA-CB66122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1CF-68D9-4A18-93E3-6452645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07BEE-D21D-4A43-97E9-A989F46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DDF8-300D-4CDC-A8A2-471A6BD6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E16B-1E6B-4BF0-9483-4B81639B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2E883-69DD-4EF3-BA62-1C715147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6C308-0207-4CD3-9336-4CBF7474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E943D-9714-4329-98E7-8168968B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18E2-6FA3-4A0A-BBCD-548F2368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2135-9E03-4DCA-8824-47D897F8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5DE66-76DE-4204-87C9-10B466A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5E31-EFDC-43EA-9C53-AABAB7D7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24F-1DB2-4AB4-933E-3325A21F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63624-96EF-459B-91C8-C54774C8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790B7-C347-40D9-9CBB-167674A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F67F5-375F-459E-BC70-32D40F63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4FFAF-AE24-4016-9E75-A41D5BF3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2A1BA-65C3-4BB9-A0ED-8E1FF1F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7627-D1DC-4EC7-B396-85F51F7B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8CDD6-75C6-4114-9D3A-45B0879E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895320" y="2273400"/>
            <a:ext cx="2774880" cy="2158920"/>
            <a:chOff x="895320" y="2273400"/>
            <a:chExt cx="2774880" cy="215892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48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10"/>
          <p:cNvGrpSpPr/>
          <p:nvPr/>
        </p:nvGrpSpPr>
        <p:grpSpPr>
          <a:xfrm>
            <a:off x="2955960" y="5052960"/>
            <a:ext cx="1792080" cy="1768680"/>
            <a:chOff x="2955960" y="5052960"/>
            <a:chExt cx="1792080" cy="1768680"/>
          </a:xfrm>
        </p:grpSpPr>
        <p:pic>
          <p:nvPicPr>
            <p:cNvPr id="4" name="Oval 10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20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7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Rectangle 13"/>
          <p:cNvGrpSpPr/>
          <p:nvPr/>
        </p:nvGrpSpPr>
        <p:grpSpPr>
          <a:xfrm>
            <a:off x="-19080" y="4095720"/>
            <a:ext cx="2390760" cy="2494080"/>
            <a:chOff x="-19080" y="4095720"/>
            <a:chExt cx="2390760" cy="2494080"/>
          </a:xfrm>
        </p:grpSpPr>
        <p:pic>
          <p:nvPicPr>
            <p:cNvPr id="10" name="Rectangle 13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9076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4"/>
          <p:cNvGrpSpPr/>
          <p:nvPr/>
        </p:nvGrpSpPr>
        <p:grpSpPr>
          <a:xfrm>
            <a:off x="4157640" y="2371680"/>
            <a:ext cx="2206800" cy="2206800"/>
            <a:chOff x="4157640" y="2371680"/>
            <a:chExt cx="2206800" cy="2206800"/>
          </a:xfrm>
        </p:grpSpPr>
        <p:pic>
          <p:nvPicPr>
            <p:cNvPr id="13" name="Oval 14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68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5"/>
          <p:cNvGrpSpPr/>
          <p:nvPr/>
        </p:nvGrpSpPr>
        <p:grpSpPr>
          <a:xfrm>
            <a:off x="6364440" y="5821200"/>
            <a:ext cx="1042920" cy="1043280"/>
            <a:chOff x="6364440" y="5821200"/>
            <a:chExt cx="1042920" cy="1043280"/>
          </a:xfrm>
        </p:grpSpPr>
        <p:pic>
          <p:nvPicPr>
            <p:cNvPr id="16" name="Oval 15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2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6"/>
          <p:cNvGrpSpPr/>
          <p:nvPr/>
        </p:nvGrpSpPr>
        <p:grpSpPr>
          <a:xfrm>
            <a:off x="6303960" y="1407960"/>
            <a:ext cx="2077920" cy="2078280"/>
            <a:chOff x="6303960" y="1407960"/>
            <a:chExt cx="2077920" cy="2078280"/>
          </a:xfrm>
        </p:grpSpPr>
        <p:pic>
          <p:nvPicPr>
            <p:cNvPr id="19" name="Oval 16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792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7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2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8"/>
          <p:cNvGrpSpPr/>
          <p:nvPr/>
        </p:nvGrpSpPr>
        <p:grpSpPr>
          <a:xfrm>
            <a:off x="2004840" y="4559400"/>
            <a:ext cx="1055880" cy="1060200"/>
            <a:chOff x="2004840" y="4559400"/>
            <a:chExt cx="1055880" cy="1060200"/>
          </a:xfrm>
        </p:grpSpPr>
        <p:pic>
          <p:nvPicPr>
            <p:cNvPr id="25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9"/>
          <p:cNvGrpSpPr/>
          <p:nvPr/>
        </p:nvGrpSpPr>
        <p:grpSpPr>
          <a:xfrm>
            <a:off x="4151160" y="4608360"/>
            <a:ext cx="1548000" cy="1427400"/>
            <a:chOff x="4151160" y="4608360"/>
            <a:chExt cx="1548000" cy="1427400"/>
          </a:xfrm>
        </p:grpSpPr>
        <p:pic>
          <p:nvPicPr>
            <p:cNvPr id="28" name="Oval 19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Rectangle 20"/>
          <p:cNvGrpSpPr/>
          <p:nvPr/>
        </p:nvGrpSpPr>
        <p:grpSpPr>
          <a:xfrm>
            <a:off x="-19080" y="341280"/>
            <a:ext cx="2543040" cy="2421000"/>
            <a:chOff x="-19080" y="341280"/>
            <a:chExt cx="2543040" cy="2421000"/>
          </a:xfrm>
        </p:grpSpPr>
        <p:pic>
          <p:nvPicPr>
            <p:cNvPr id="31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30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Rectangle 22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4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24"/>
          <p:cNvGrpSpPr/>
          <p:nvPr/>
        </p:nvGrpSpPr>
        <p:grpSpPr>
          <a:xfrm>
            <a:off x="42840" y="195120"/>
            <a:ext cx="2048040" cy="2054520"/>
            <a:chOff x="42840" y="195120"/>
            <a:chExt cx="2048040" cy="2054520"/>
          </a:xfrm>
        </p:grpSpPr>
        <p:pic>
          <p:nvPicPr>
            <p:cNvPr id="37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25"/>
          <p:cNvGrpSpPr/>
          <p:nvPr/>
        </p:nvGrpSpPr>
        <p:grpSpPr>
          <a:xfrm>
            <a:off x="60480" y="3943440"/>
            <a:ext cx="920520" cy="920520"/>
            <a:chOff x="60480" y="3943440"/>
            <a:chExt cx="920520" cy="920520"/>
          </a:xfrm>
        </p:grpSpPr>
        <p:pic>
          <p:nvPicPr>
            <p:cNvPr id="40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205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26"/>
          <p:cNvGrpSpPr/>
          <p:nvPr/>
        </p:nvGrpSpPr>
        <p:grpSpPr>
          <a:xfrm>
            <a:off x="2103480" y="1487520"/>
            <a:ext cx="1431720" cy="1431720"/>
            <a:chOff x="2103480" y="1487520"/>
            <a:chExt cx="1431720" cy="1431720"/>
          </a:xfrm>
        </p:grpSpPr>
        <p:pic>
          <p:nvPicPr>
            <p:cNvPr id="43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17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27"/>
          <p:cNvGrpSpPr/>
          <p:nvPr/>
        </p:nvGrpSpPr>
        <p:grpSpPr>
          <a:xfrm>
            <a:off x="3352680" y="450720"/>
            <a:ext cx="1621080" cy="1622520"/>
            <a:chOff x="3352680" y="450720"/>
            <a:chExt cx="1621080" cy="1622520"/>
          </a:xfrm>
        </p:grpSpPr>
        <p:pic>
          <p:nvPicPr>
            <p:cNvPr id="46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28"/>
          <p:cNvGrpSpPr/>
          <p:nvPr/>
        </p:nvGrpSpPr>
        <p:grpSpPr>
          <a:xfrm>
            <a:off x="5168880" y="2951280"/>
            <a:ext cx="3268800" cy="3260520"/>
            <a:chOff x="5168880" y="2951280"/>
            <a:chExt cx="3268800" cy="3260520"/>
          </a:xfrm>
        </p:grpSpPr>
        <p:pic>
          <p:nvPicPr>
            <p:cNvPr id="49" name="Oval 28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880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29"/>
          <p:cNvGrpSpPr/>
          <p:nvPr/>
        </p:nvGrpSpPr>
        <p:grpSpPr>
          <a:xfrm>
            <a:off x="5546880" y="-12600"/>
            <a:ext cx="1055520" cy="1060200"/>
            <a:chOff x="5546880" y="-12600"/>
            <a:chExt cx="1055520" cy="1060200"/>
          </a:xfrm>
        </p:grpSpPr>
        <p:pic>
          <p:nvPicPr>
            <p:cNvPr id="52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31"/>
          <p:cNvGrpSpPr/>
          <p:nvPr/>
        </p:nvGrpSpPr>
        <p:grpSpPr>
          <a:xfrm>
            <a:off x="6931080" y="4645080"/>
            <a:ext cx="2225520" cy="2225520"/>
            <a:chOff x="6931080" y="4645080"/>
            <a:chExt cx="2225520" cy="2225520"/>
          </a:xfrm>
        </p:grpSpPr>
        <p:pic>
          <p:nvPicPr>
            <p:cNvPr id="55" name="Oval 31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55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32"/>
          <p:cNvGrpSpPr/>
          <p:nvPr/>
        </p:nvGrpSpPr>
        <p:grpSpPr>
          <a:xfrm>
            <a:off x="1579680" y="3687840"/>
            <a:ext cx="1230120" cy="1225440"/>
            <a:chOff x="1579680" y="3687840"/>
            <a:chExt cx="1230120" cy="1225440"/>
          </a:xfrm>
        </p:grpSpPr>
        <p:pic>
          <p:nvPicPr>
            <p:cNvPr id="58" name="Oval 32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301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33"/>
          <p:cNvGrpSpPr/>
          <p:nvPr/>
        </p:nvGrpSpPr>
        <p:grpSpPr>
          <a:xfrm>
            <a:off x="6308640" y="212760"/>
            <a:ext cx="847800" cy="853920"/>
            <a:chOff x="6308640" y="212760"/>
            <a:chExt cx="847800" cy="853920"/>
          </a:xfrm>
        </p:grpSpPr>
        <p:pic>
          <p:nvPicPr>
            <p:cNvPr id="61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34"/>
          <p:cNvGrpSpPr/>
          <p:nvPr/>
        </p:nvGrpSpPr>
        <p:grpSpPr>
          <a:xfrm>
            <a:off x="8058240" y="-12600"/>
            <a:ext cx="1055520" cy="1060200"/>
            <a:chOff x="8058240" y="-12600"/>
            <a:chExt cx="1055520" cy="1060200"/>
          </a:xfrm>
        </p:grpSpPr>
        <p:pic>
          <p:nvPicPr>
            <p:cNvPr id="64" name="Oval 34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Rectangle 35"/>
          <p:cNvGrpSpPr/>
          <p:nvPr/>
        </p:nvGrpSpPr>
        <p:grpSpPr>
          <a:xfrm>
            <a:off x="5394240" y="6308640"/>
            <a:ext cx="1549440" cy="561960"/>
            <a:chOff x="5394240" y="6308640"/>
            <a:chExt cx="1549440" cy="561960"/>
          </a:xfrm>
        </p:grpSpPr>
        <p:pic>
          <p:nvPicPr>
            <p:cNvPr id="67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36"/>
          <p:cNvGrpSpPr/>
          <p:nvPr/>
        </p:nvGrpSpPr>
        <p:grpSpPr>
          <a:xfrm>
            <a:off x="2992320" y="-12600"/>
            <a:ext cx="1055880" cy="1060200"/>
            <a:chOff x="2992320" y="-12600"/>
            <a:chExt cx="1055880" cy="1060200"/>
          </a:xfrm>
        </p:grpSpPr>
        <p:pic>
          <p:nvPicPr>
            <p:cNvPr id="70" name="Oval 36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7001-23E5-4792-B0F7-CE0F0438A976}" type="slidenum">
              <a:rPr b="0" lang="en-IN" sz="2800" spc="-1" strike="noStrike">
                <a:solidFill>
                  <a:srgbClr val="d1e1e3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7"/>
          <p:cNvGrpSpPr/>
          <p:nvPr/>
        </p:nvGrpSpPr>
        <p:grpSpPr>
          <a:xfrm>
            <a:off x="895320" y="2273400"/>
            <a:ext cx="2774880" cy="2158920"/>
            <a:chOff x="895320" y="2273400"/>
            <a:chExt cx="2774880" cy="2158920"/>
          </a:xfrm>
        </p:grpSpPr>
        <p:pic>
          <p:nvPicPr>
            <p:cNvPr id="114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48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Oval 10"/>
          <p:cNvGrpSpPr/>
          <p:nvPr/>
        </p:nvGrpSpPr>
        <p:grpSpPr>
          <a:xfrm>
            <a:off x="2955960" y="5052960"/>
            <a:ext cx="1792080" cy="1768680"/>
            <a:chOff x="2955960" y="5052960"/>
            <a:chExt cx="1792080" cy="1768680"/>
          </a:xfrm>
        </p:grpSpPr>
        <p:pic>
          <p:nvPicPr>
            <p:cNvPr id="117" name="Oval 10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20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120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ectangle 13"/>
          <p:cNvGrpSpPr/>
          <p:nvPr/>
        </p:nvGrpSpPr>
        <p:grpSpPr>
          <a:xfrm>
            <a:off x="-19080" y="4095720"/>
            <a:ext cx="2390760" cy="2494080"/>
            <a:chOff x="-19080" y="4095720"/>
            <a:chExt cx="2390760" cy="2494080"/>
          </a:xfrm>
        </p:grpSpPr>
        <p:pic>
          <p:nvPicPr>
            <p:cNvPr id="123" name="Rectangle 13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9076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4"/>
          <p:cNvGrpSpPr/>
          <p:nvPr/>
        </p:nvGrpSpPr>
        <p:grpSpPr>
          <a:xfrm>
            <a:off x="4157640" y="2371680"/>
            <a:ext cx="2206800" cy="2206800"/>
            <a:chOff x="4157640" y="2371680"/>
            <a:chExt cx="2206800" cy="2206800"/>
          </a:xfrm>
        </p:grpSpPr>
        <p:pic>
          <p:nvPicPr>
            <p:cNvPr id="126" name="Oval 14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68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15"/>
          <p:cNvGrpSpPr/>
          <p:nvPr/>
        </p:nvGrpSpPr>
        <p:grpSpPr>
          <a:xfrm>
            <a:off x="6364440" y="5821200"/>
            <a:ext cx="1042920" cy="1043280"/>
            <a:chOff x="6364440" y="5821200"/>
            <a:chExt cx="1042920" cy="1043280"/>
          </a:xfrm>
        </p:grpSpPr>
        <p:pic>
          <p:nvPicPr>
            <p:cNvPr id="129" name="Oval 15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2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16"/>
          <p:cNvGrpSpPr/>
          <p:nvPr/>
        </p:nvGrpSpPr>
        <p:grpSpPr>
          <a:xfrm>
            <a:off x="6303960" y="1407960"/>
            <a:ext cx="2077920" cy="2078280"/>
            <a:chOff x="6303960" y="1407960"/>
            <a:chExt cx="2077920" cy="2078280"/>
          </a:xfrm>
        </p:grpSpPr>
        <p:pic>
          <p:nvPicPr>
            <p:cNvPr id="132" name="Oval 16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792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17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135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18"/>
          <p:cNvGrpSpPr/>
          <p:nvPr/>
        </p:nvGrpSpPr>
        <p:grpSpPr>
          <a:xfrm>
            <a:off x="2004840" y="4559400"/>
            <a:ext cx="1055880" cy="1060200"/>
            <a:chOff x="2004840" y="4559400"/>
            <a:chExt cx="1055880" cy="1060200"/>
          </a:xfrm>
        </p:grpSpPr>
        <p:pic>
          <p:nvPicPr>
            <p:cNvPr id="138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19"/>
          <p:cNvGrpSpPr/>
          <p:nvPr/>
        </p:nvGrpSpPr>
        <p:grpSpPr>
          <a:xfrm>
            <a:off x="4151160" y="4608360"/>
            <a:ext cx="1548000" cy="1427400"/>
            <a:chOff x="4151160" y="4608360"/>
            <a:chExt cx="1548000" cy="1427400"/>
          </a:xfrm>
        </p:grpSpPr>
        <p:pic>
          <p:nvPicPr>
            <p:cNvPr id="141" name="Oval 19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ectangle 20"/>
          <p:cNvGrpSpPr/>
          <p:nvPr/>
        </p:nvGrpSpPr>
        <p:grpSpPr>
          <a:xfrm>
            <a:off x="-19080" y="341280"/>
            <a:ext cx="2543040" cy="2421000"/>
            <a:chOff x="-19080" y="341280"/>
            <a:chExt cx="2543040" cy="2421000"/>
          </a:xfrm>
        </p:grpSpPr>
        <p:pic>
          <p:nvPicPr>
            <p:cNvPr id="144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30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147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24"/>
          <p:cNvGrpSpPr/>
          <p:nvPr/>
        </p:nvGrpSpPr>
        <p:grpSpPr>
          <a:xfrm>
            <a:off x="42840" y="195120"/>
            <a:ext cx="2048040" cy="2054520"/>
            <a:chOff x="42840" y="195120"/>
            <a:chExt cx="2048040" cy="2054520"/>
          </a:xfrm>
        </p:grpSpPr>
        <p:pic>
          <p:nvPicPr>
            <p:cNvPr id="150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25"/>
          <p:cNvGrpSpPr/>
          <p:nvPr/>
        </p:nvGrpSpPr>
        <p:grpSpPr>
          <a:xfrm>
            <a:off x="60480" y="3943440"/>
            <a:ext cx="920520" cy="920520"/>
            <a:chOff x="60480" y="3943440"/>
            <a:chExt cx="920520" cy="920520"/>
          </a:xfrm>
        </p:grpSpPr>
        <p:pic>
          <p:nvPicPr>
            <p:cNvPr id="153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205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26"/>
          <p:cNvGrpSpPr/>
          <p:nvPr/>
        </p:nvGrpSpPr>
        <p:grpSpPr>
          <a:xfrm>
            <a:off x="2103480" y="1487520"/>
            <a:ext cx="1431720" cy="1431720"/>
            <a:chOff x="2103480" y="1487520"/>
            <a:chExt cx="1431720" cy="1431720"/>
          </a:xfrm>
        </p:grpSpPr>
        <p:pic>
          <p:nvPicPr>
            <p:cNvPr id="156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17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27"/>
          <p:cNvGrpSpPr/>
          <p:nvPr/>
        </p:nvGrpSpPr>
        <p:grpSpPr>
          <a:xfrm>
            <a:off x="3352680" y="450720"/>
            <a:ext cx="1621080" cy="1622520"/>
            <a:chOff x="3352680" y="450720"/>
            <a:chExt cx="1621080" cy="1622520"/>
          </a:xfrm>
        </p:grpSpPr>
        <p:pic>
          <p:nvPicPr>
            <p:cNvPr id="159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Oval 28"/>
          <p:cNvGrpSpPr/>
          <p:nvPr/>
        </p:nvGrpSpPr>
        <p:grpSpPr>
          <a:xfrm>
            <a:off x="5168880" y="2951280"/>
            <a:ext cx="3268800" cy="3260520"/>
            <a:chOff x="5168880" y="2951280"/>
            <a:chExt cx="3268800" cy="3260520"/>
          </a:xfrm>
        </p:grpSpPr>
        <p:pic>
          <p:nvPicPr>
            <p:cNvPr id="162" name="Oval 28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880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Oval 29"/>
          <p:cNvGrpSpPr/>
          <p:nvPr/>
        </p:nvGrpSpPr>
        <p:grpSpPr>
          <a:xfrm>
            <a:off x="5546880" y="-12600"/>
            <a:ext cx="1055520" cy="1060200"/>
            <a:chOff x="5546880" y="-12600"/>
            <a:chExt cx="1055520" cy="1060200"/>
          </a:xfrm>
        </p:grpSpPr>
        <p:pic>
          <p:nvPicPr>
            <p:cNvPr id="165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Oval 31"/>
          <p:cNvGrpSpPr/>
          <p:nvPr/>
        </p:nvGrpSpPr>
        <p:grpSpPr>
          <a:xfrm>
            <a:off x="6931080" y="4645080"/>
            <a:ext cx="2225520" cy="2225520"/>
            <a:chOff x="6931080" y="4645080"/>
            <a:chExt cx="2225520" cy="2225520"/>
          </a:xfrm>
        </p:grpSpPr>
        <p:pic>
          <p:nvPicPr>
            <p:cNvPr id="168" name="Oval 31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55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Oval 32"/>
          <p:cNvGrpSpPr/>
          <p:nvPr/>
        </p:nvGrpSpPr>
        <p:grpSpPr>
          <a:xfrm>
            <a:off x="1579680" y="3687840"/>
            <a:ext cx="1230120" cy="1225440"/>
            <a:chOff x="1579680" y="3687840"/>
            <a:chExt cx="1230120" cy="1225440"/>
          </a:xfrm>
        </p:grpSpPr>
        <p:pic>
          <p:nvPicPr>
            <p:cNvPr id="171" name="Oval 32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301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Oval 33"/>
          <p:cNvGrpSpPr/>
          <p:nvPr/>
        </p:nvGrpSpPr>
        <p:grpSpPr>
          <a:xfrm>
            <a:off x="6308640" y="212760"/>
            <a:ext cx="847800" cy="853920"/>
            <a:chOff x="6308640" y="212760"/>
            <a:chExt cx="847800" cy="853920"/>
          </a:xfrm>
        </p:grpSpPr>
        <p:pic>
          <p:nvPicPr>
            <p:cNvPr id="174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Oval 34"/>
          <p:cNvGrpSpPr/>
          <p:nvPr/>
        </p:nvGrpSpPr>
        <p:grpSpPr>
          <a:xfrm>
            <a:off x="8058240" y="-12600"/>
            <a:ext cx="1055520" cy="1060200"/>
            <a:chOff x="8058240" y="-12600"/>
            <a:chExt cx="1055520" cy="1060200"/>
          </a:xfrm>
        </p:grpSpPr>
        <p:pic>
          <p:nvPicPr>
            <p:cNvPr id="177" name="Oval 34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ectangle 35"/>
          <p:cNvGrpSpPr/>
          <p:nvPr/>
        </p:nvGrpSpPr>
        <p:grpSpPr>
          <a:xfrm>
            <a:off x="5394240" y="6308640"/>
            <a:ext cx="1549440" cy="561960"/>
            <a:chOff x="5394240" y="6308640"/>
            <a:chExt cx="1549440" cy="561960"/>
          </a:xfrm>
        </p:grpSpPr>
        <p:pic>
          <p:nvPicPr>
            <p:cNvPr id="180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Oval 36"/>
          <p:cNvGrpSpPr/>
          <p:nvPr/>
        </p:nvGrpSpPr>
        <p:grpSpPr>
          <a:xfrm>
            <a:off x="2992320" y="-12600"/>
            <a:ext cx="1055880" cy="1060200"/>
            <a:chOff x="2992320" y="-12600"/>
            <a:chExt cx="1055880" cy="1060200"/>
          </a:xfrm>
        </p:grpSpPr>
        <p:pic>
          <p:nvPicPr>
            <p:cNvPr id="183" name="Oval 36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Rectangle 30" descr=""/>
          <p:cNvPicPr/>
          <p:nvPr/>
        </p:nvPicPr>
        <p:blipFill>
          <a:blip r:embed="rId27"/>
          <a:stretch/>
        </p:blipFill>
        <p:spPr>
          <a:xfrm>
            <a:off x="-6480" y="243216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37" descr=""/>
          <p:cNvPicPr/>
          <p:nvPr/>
        </p:nvPicPr>
        <p:blipFill>
          <a:blip r:embed="rId28"/>
          <a:stretch/>
        </p:blipFill>
        <p:spPr>
          <a:xfrm>
            <a:off x="-6480" y="907920"/>
            <a:ext cx="9156960" cy="1536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698F-CEFC-4A5C-8D84-886E8797148C}" type="slidenum">
              <a:rPr b="0" lang="en-IN" sz="2800" spc="-1" strike="noStrike">
                <a:solidFill>
                  <a:srgbClr val="d1e1e3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Rectangle 7"/>
          <p:cNvGrpSpPr/>
          <p:nvPr/>
        </p:nvGrpSpPr>
        <p:grpSpPr>
          <a:xfrm>
            <a:off x="895320" y="2273400"/>
            <a:ext cx="2774880" cy="2158920"/>
            <a:chOff x="895320" y="2273400"/>
            <a:chExt cx="2774880" cy="2158920"/>
          </a:xfrm>
        </p:grpSpPr>
        <p:pic>
          <p:nvPicPr>
            <p:cNvPr id="229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48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2955960" y="5052960"/>
            <a:ext cx="1792080" cy="1768680"/>
            <a:chOff x="2955960" y="5052960"/>
            <a:chExt cx="1792080" cy="176868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20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235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Rectangle 13"/>
          <p:cNvGrpSpPr/>
          <p:nvPr/>
        </p:nvGrpSpPr>
        <p:grpSpPr>
          <a:xfrm>
            <a:off x="-19080" y="4095720"/>
            <a:ext cx="2390760" cy="2494080"/>
            <a:chOff x="-19080" y="4095720"/>
            <a:chExt cx="2390760" cy="2494080"/>
          </a:xfrm>
        </p:grpSpPr>
        <p:pic>
          <p:nvPicPr>
            <p:cNvPr id="238" name="Rectangle 13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9076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Oval 14"/>
          <p:cNvGrpSpPr/>
          <p:nvPr/>
        </p:nvGrpSpPr>
        <p:grpSpPr>
          <a:xfrm>
            <a:off x="4157640" y="2371680"/>
            <a:ext cx="2206800" cy="2206800"/>
            <a:chOff x="4157640" y="2371680"/>
            <a:chExt cx="2206800" cy="2206800"/>
          </a:xfrm>
        </p:grpSpPr>
        <p:pic>
          <p:nvPicPr>
            <p:cNvPr id="241" name="Oval 14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68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Oval 15"/>
          <p:cNvGrpSpPr/>
          <p:nvPr/>
        </p:nvGrpSpPr>
        <p:grpSpPr>
          <a:xfrm>
            <a:off x="6364440" y="5821200"/>
            <a:ext cx="1042920" cy="1043280"/>
            <a:chOff x="6364440" y="5821200"/>
            <a:chExt cx="1042920" cy="1043280"/>
          </a:xfrm>
        </p:grpSpPr>
        <p:pic>
          <p:nvPicPr>
            <p:cNvPr id="244" name="Oval 15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2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Oval 16"/>
          <p:cNvGrpSpPr/>
          <p:nvPr/>
        </p:nvGrpSpPr>
        <p:grpSpPr>
          <a:xfrm>
            <a:off x="6303960" y="1407960"/>
            <a:ext cx="2077920" cy="2078280"/>
            <a:chOff x="6303960" y="1407960"/>
            <a:chExt cx="2077920" cy="2078280"/>
          </a:xfrm>
        </p:grpSpPr>
        <p:pic>
          <p:nvPicPr>
            <p:cNvPr id="247" name="Oval 16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792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Oval 17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50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Oval 18"/>
          <p:cNvGrpSpPr/>
          <p:nvPr/>
        </p:nvGrpSpPr>
        <p:grpSpPr>
          <a:xfrm>
            <a:off x="2004840" y="4559400"/>
            <a:ext cx="1055880" cy="1060200"/>
            <a:chOff x="2004840" y="4559400"/>
            <a:chExt cx="1055880" cy="1060200"/>
          </a:xfrm>
        </p:grpSpPr>
        <p:pic>
          <p:nvPicPr>
            <p:cNvPr id="253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Oval 19"/>
          <p:cNvGrpSpPr/>
          <p:nvPr/>
        </p:nvGrpSpPr>
        <p:grpSpPr>
          <a:xfrm>
            <a:off x="4151160" y="4608360"/>
            <a:ext cx="1548000" cy="1427400"/>
            <a:chOff x="4151160" y="4608360"/>
            <a:chExt cx="1548000" cy="1427400"/>
          </a:xfrm>
        </p:grpSpPr>
        <p:pic>
          <p:nvPicPr>
            <p:cNvPr id="256" name="Oval 19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-19080" y="341280"/>
            <a:ext cx="2543040" cy="2421000"/>
            <a:chOff x="-19080" y="341280"/>
            <a:chExt cx="2543040" cy="2421000"/>
          </a:xfrm>
        </p:grpSpPr>
        <p:pic>
          <p:nvPicPr>
            <p:cNvPr id="259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30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Rectangle 22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262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24"/>
          <p:cNvGrpSpPr/>
          <p:nvPr/>
        </p:nvGrpSpPr>
        <p:grpSpPr>
          <a:xfrm>
            <a:off x="42840" y="195120"/>
            <a:ext cx="2048040" cy="2054520"/>
            <a:chOff x="42840" y="195120"/>
            <a:chExt cx="2048040" cy="2054520"/>
          </a:xfrm>
        </p:grpSpPr>
        <p:pic>
          <p:nvPicPr>
            <p:cNvPr id="265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25"/>
          <p:cNvGrpSpPr/>
          <p:nvPr/>
        </p:nvGrpSpPr>
        <p:grpSpPr>
          <a:xfrm>
            <a:off x="60480" y="3943440"/>
            <a:ext cx="920520" cy="920520"/>
            <a:chOff x="60480" y="3943440"/>
            <a:chExt cx="920520" cy="920520"/>
          </a:xfrm>
        </p:grpSpPr>
        <p:pic>
          <p:nvPicPr>
            <p:cNvPr id="268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205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Oval 26"/>
          <p:cNvGrpSpPr/>
          <p:nvPr/>
        </p:nvGrpSpPr>
        <p:grpSpPr>
          <a:xfrm>
            <a:off x="2103480" y="1487520"/>
            <a:ext cx="1431720" cy="1431720"/>
            <a:chOff x="2103480" y="1487520"/>
            <a:chExt cx="1431720" cy="1431720"/>
          </a:xfrm>
        </p:grpSpPr>
        <p:pic>
          <p:nvPicPr>
            <p:cNvPr id="271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17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Oval 27"/>
          <p:cNvGrpSpPr/>
          <p:nvPr/>
        </p:nvGrpSpPr>
        <p:grpSpPr>
          <a:xfrm>
            <a:off x="3352680" y="450720"/>
            <a:ext cx="1621080" cy="1622520"/>
            <a:chOff x="3352680" y="450720"/>
            <a:chExt cx="1621080" cy="1622520"/>
          </a:xfrm>
        </p:grpSpPr>
        <p:pic>
          <p:nvPicPr>
            <p:cNvPr id="274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Oval 28"/>
          <p:cNvGrpSpPr/>
          <p:nvPr/>
        </p:nvGrpSpPr>
        <p:grpSpPr>
          <a:xfrm>
            <a:off x="5168880" y="2951280"/>
            <a:ext cx="3268800" cy="3260520"/>
            <a:chOff x="5168880" y="2951280"/>
            <a:chExt cx="3268800" cy="3260520"/>
          </a:xfrm>
        </p:grpSpPr>
        <p:pic>
          <p:nvPicPr>
            <p:cNvPr id="277" name="Oval 28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880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Oval 29"/>
          <p:cNvGrpSpPr/>
          <p:nvPr/>
        </p:nvGrpSpPr>
        <p:grpSpPr>
          <a:xfrm>
            <a:off x="5546880" y="-12600"/>
            <a:ext cx="1055520" cy="1060200"/>
            <a:chOff x="5546880" y="-12600"/>
            <a:chExt cx="1055520" cy="1060200"/>
          </a:xfrm>
        </p:grpSpPr>
        <p:pic>
          <p:nvPicPr>
            <p:cNvPr id="280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Oval 31"/>
          <p:cNvGrpSpPr/>
          <p:nvPr/>
        </p:nvGrpSpPr>
        <p:grpSpPr>
          <a:xfrm>
            <a:off x="6931080" y="4645080"/>
            <a:ext cx="2225520" cy="2225520"/>
            <a:chOff x="6931080" y="4645080"/>
            <a:chExt cx="2225520" cy="2225520"/>
          </a:xfrm>
        </p:grpSpPr>
        <p:pic>
          <p:nvPicPr>
            <p:cNvPr id="283" name="Oval 31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55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32"/>
          <p:cNvGrpSpPr/>
          <p:nvPr/>
        </p:nvGrpSpPr>
        <p:grpSpPr>
          <a:xfrm>
            <a:off x="1579680" y="3687840"/>
            <a:ext cx="1230120" cy="1225440"/>
            <a:chOff x="1579680" y="3687840"/>
            <a:chExt cx="1230120" cy="1225440"/>
          </a:xfrm>
        </p:grpSpPr>
        <p:pic>
          <p:nvPicPr>
            <p:cNvPr id="286" name="Oval 32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301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Oval 33"/>
          <p:cNvGrpSpPr/>
          <p:nvPr/>
        </p:nvGrpSpPr>
        <p:grpSpPr>
          <a:xfrm>
            <a:off x="6308640" y="212760"/>
            <a:ext cx="847800" cy="853920"/>
            <a:chOff x="6308640" y="212760"/>
            <a:chExt cx="847800" cy="853920"/>
          </a:xfrm>
        </p:grpSpPr>
        <p:pic>
          <p:nvPicPr>
            <p:cNvPr id="289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Oval 34"/>
          <p:cNvGrpSpPr/>
          <p:nvPr/>
        </p:nvGrpSpPr>
        <p:grpSpPr>
          <a:xfrm>
            <a:off x="8058240" y="-12600"/>
            <a:ext cx="1055520" cy="1060200"/>
            <a:chOff x="8058240" y="-12600"/>
            <a:chExt cx="1055520" cy="1060200"/>
          </a:xfrm>
        </p:grpSpPr>
        <p:pic>
          <p:nvPicPr>
            <p:cNvPr id="292" name="Oval 34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Rectangle 35"/>
          <p:cNvGrpSpPr/>
          <p:nvPr/>
        </p:nvGrpSpPr>
        <p:grpSpPr>
          <a:xfrm>
            <a:off x="5394240" y="6308640"/>
            <a:ext cx="1549440" cy="561960"/>
            <a:chOff x="5394240" y="6308640"/>
            <a:chExt cx="1549440" cy="561960"/>
          </a:xfrm>
        </p:grpSpPr>
        <p:pic>
          <p:nvPicPr>
            <p:cNvPr id="295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Oval 36"/>
          <p:cNvGrpSpPr/>
          <p:nvPr/>
        </p:nvGrpSpPr>
        <p:grpSpPr>
          <a:xfrm>
            <a:off x="2992320" y="-12600"/>
            <a:ext cx="1055880" cy="1060200"/>
            <a:chOff x="2992320" y="-12600"/>
            <a:chExt cx="1055880" cy="1060200"/>
          </a:xfrm>
        </p:grpSpPr>
        <p:pic>
          <p:nvPicPr>
            <p:cNvPr id="298" name="Oval 36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Rectangle 30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9183-EC04-42F6-9CAD-4F1D857F0C65}" type="slidenum">
              <a:rPr b="0" lang="en-IN" sz="2800" spc="-1" strike="noStrike">
                <a:solidFill>
                  <a:srgbClr val="d1e1e3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Rectangle 7"/>
          <p:cNvGrpSpPr/>
          <p:nvPr/>
        </p:nvGrpSpPr>
        <p:grpSpPr>
          <a:xfrm>
            <a:off x="895320" y="2273400"/>
            <a:ext cx="2774880" cy="2158920"/>
            <a:chOff x="895320" y="2273400"/>
            <a:chExt cx="2774880" cy="2158920"/>
          </a:xfrm>
        </p:grpSpPr>
        <p:pic>
          <p:nvPicPr>
            <p:cNvPr id="343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48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Oval 10"/>
          <p:cNvGrpSpPr/>
          <p:nvPr/>
        </p:nvGrpSpPr>
        <p:grpSpPr>
          <a:xfrm>
            <a:off x="2955960" y="5052960"/>
            <a:ext cx="1792080" cy="1768680"/>
            <a:chOff x="2955960" y="5052960"/>
            <a:chExt cx="1792080" cy="1768680"/>
          </a:xfrm>
        </p:grpSpPr>
        <p:pic>
          <p:nvPicPr>
            <p:cNvPr id="346" name="Oval 10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20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349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Rectangle 13"/>
          <p:cNvGrpSpPr/>
          <p:nvPr/>
        </p:nvGrpSpPr>
        <p:grpSpPr>
          <a:xfrm>
            <a:off x="-19080" y="4095720"/>
            <a:ext cx="2390760" cy="2494080"/>
            <a:chOff x="-19080" y="4095720"/>
            <a:chExt cx="2390760" cy="2494080"/>
          </a:xfrm>
        </p:grpSpPr>
        <p:pic>
          <p:nvPicPr>
            <p:cNvPr id="352" name="Rectangle 13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9076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Oval 14"/>
          <p:cNvGrpSpPr/>
          <p:nvPr/>
        </p:nvGrpSpPr>
        <p:grpSpPr>
          <a:xfrm>
            <a:off x="4157640" y="2371680"/>
            <a:ext cx="2206800" cy="2206800"/>
            <a:chOff x="4157640" y="2371680"/>
            <a:chExt cx="2206800" cy="2206800"/>
          </a:xfrm>
        </p:grpSpPr>
        <p:pic>
          <p:nvPicPr>
            <p:cNvPr id="355" name="Oval 14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68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Oval 15"/>
          <p:cNvGrpSpPr/>
          <p:nvPr/>
        </p:nvGrpSpPr>
        <p:grpSpPr>
          <a:xfrm>
            <a:off x="6364440" y="5821200"/>
            <a:ext cx="1042920" cy="1043280"/>
            <a:chOff x="6364440" y="5821200"/>
            <a:chExt cx="1042920" cy="1043280"/>
          </a:xfrm>
        </p:grpSpPr>
        <p:pic>
          <p:nvPicPr>
            <p:cNvPr id="358" name="Oval 15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2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Oval 16"/>
          <p:cNvGrpSpPr/>
          <p:nvPr/>
        </p:nvGrpSpPr>
        <p:grpSpPr>
          <a:xfrm>
            <a:off x="6303960" y="1407960"/>
            <a:ext cx="2077920" cy="2078280"/>
            <a:chOff x="6303960" y="1407960"/>
            <a:chExt cx="2077920" cy="2078280"/>
          </a:xfrm>
        </p:grpSpPr>
        <p:pic>
          <p:nvPicPr>
            <p:cNvPr id="361" name="Oval 16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792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Oval 17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364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Oval 18"/>
          <p:cNvGrpSpPr/>
          <p:nvPr/>
        </p:nvGrpSpPr>
        <p:grpSpPr>
          <a:xfrm>
            <a:off x="2004840" y="4559400"/>
            <a:ext cx="1055880" cy="1060200"/>
            <a:chOff x="2004840" y="4559400"/>
            <a:chExt cx="1055880" cy="1060200"/>
          </a:xfrm>
        </p:grpSpPr>
        <p:pic>
          <p:nvPicPr>
            <p:cNvPr id="367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Oval 19"/>
          <p:cNvGrpSpPr/>
          <p:nvPr/>
        </p:nvGrpSpPr>
        <p:grpSpPr>
          <a:xfrm>
            <a:off x="4151160" y="4608360"/>
            <a:ext cx="1548000" cy="1427400"/>
            <a:chOff x="4151160" y="4608360"/>
            <a:chExt cx="1548000" cy="1427400"/>
          </a:xfrm>
        </p:grpSpPr>
        <p:pic>
          <p:nvPicPr>
            <p:cNvPr id="370" name="Oval 19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-19080" y="341280"/>
            <a:ext cx="2543040" cy="2421000"/>
            <a:chOff x="-19080" y="341280"/>
            <a:chExt cx="2543040" cy="2421000"/>
          </a:xfrm>
        </p:grpSpPr>
        <p:pic>
          <p:nvPicPr>
            <p:cNvPr id="373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30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Rectangle 22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76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Oval 24"/>
          <p:cNvGrpSpPr/>
          <p:nvPr/>
        </p:nvGrpSpPr>
        <p:grpSpPr>
          <a:xfrm>
            <a:off x="42840" y="195120"/>
            <a:ext cx="2048040" cy="2054520"/>
            <a:chOff x="42840" y="195120"/>
            <a:chExt cx="2048040" cy="2054520"/>
          </a:xfrm>
        </p:grpSpPr>
        <p:pic>
          <p:nvPicPr>
            <p:cNvPr id="379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Oval 25"/>
          <p:cNvGrpSpPr/>
          <p:nvPr/>
        </p:nvGrpSpPr>
        <p:grpSpPr>
          <a:xfrm>
            <a:off x="60480" y="3943440"/>
            <a:ext cx="920520" cy="920520"/>
            <a:chOff x="60480" y="3943440"/>
            <a:chExt cx="920520" cy="920520"/>
          </a:xfrm>
        </p:grpSpPr>
        <p:pic>
          <p:nvPicPr>
            <p:cNvPr id="382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205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26"/>
          <p:cNvGrpSpPr/>
          <p:nvPr/>
        </p:nvGrpSpPr>
        <p:grpSpPr>
          <a:xfrm>
            <a:off x="2103480" y="1487520"/>
            <a:ext cx="1431720" cy="1431720"/>
            <a:chOff x="2103480" y="1487520"/>
            <a:chExt cx="1431720" cy="1431720"/>
          </a:xfrm>
        </p:grpSpPr>
        <p:pic>
          <p:nvPicPr>
            <p:cNvPr id="385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17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Oval 27"/>
          <p:cNvGrpSpPr/>
          <p:nvPr/>
        </p:nvGrpSpPr>
        <p:grpSpPr>
          <a:xfrm>
            <a:off x="3352680" y="450720"/>
            <a:ext cx="1621080" cy="1622520"/>
            <a:chOff x="3352680" y="450720"/>
            <a:chExt cx="1621080" cy="1622520"/>
          </a:xfrm>
        </p:grpSpPr>
        <p:pic>
          <p:nvPicPr>
            <p:cNvPr id="388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Oval 28"/>
          <p:cNvGrpSpPr/>
          <p:nvPr/>
        </p:nvGrpSpPr>
        <p:grpSpPr>
          <a:xfrm>
            <a:off x="5168880" y="2951280"/>
            <a:ext cx="3268800" cy="3260520"/>
            <a:chOff x="5168880" y="2951280"/>
            <a:chExt cx="3268800" cy="3260520"/>
          </a:xfrm>
        </p:grpSpPr>
        <p:pic>
          <p:nvPicPr>
            <p:cNvPr id="391" name="Oval 28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880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Oval 29"/>
          <p:cNvGrpSpPr/>
          <p:nvPr/>
        </p:nvGrpSpPr>
        <p:grpSpPr>
          <a:xfrm>
            <a:off x="5546880" y="-12600"/>
            <a:ext cx="1055520" cy="1060200"/>
            <a:chOff x="5546880" y="-12600"/>
            <a:chExt cx="1055520" cy="1060200"/>
          </a:xfrm>
        </p:grpSpPr>
        <p:pic>
          <p:nvPicPr>
            <p:cNvPr id="394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Oval 31"/>
          <p:cNvGrpSpPr/>
          <p:nvPr/>
        </p:nvGrpSpPr>
        <p:grpSpPr>
          <a:xfrm>
            <a:off x="6931080" y="4645080"/>
            <a:ext cx="2225520" cy="2225520"/>
            <a:chOff x="6931080" y="4645080"/>
            <a:chExt cx="2225520" cy="2225520"/>
          </a:xfrm>
        </p:grpSpPr>
        <p:pic>
          <p:nvPicPr>
            <p:cNvPr id="397" name="Oval 31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55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Oval 32"/>
          <p:cNvGrpSpPr/>
          <p:nvPr/>
        </p:nvGrpSpPr>
        <p:grpSpPr>
          <a:xfrm>
            <a:off x="1579680" y="3687840"/>
            <a:ext cx="1230120" cy="1225440"/>
            <a:chOff x="1579680" y="3687840"/>
            <a:chExt cx="1230120" cy="1225440"/>
          </a:xfrm>
        </p:grpSpPr>
        <p:pic>
          <p:nvPicPr>
            <p:cNvPr id="400" name="Oval 32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301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Oval 33"/>
          <p:cNvGrpSpPr/>
          <p:nvPr/>
        </p:nvGrpSpPr>
        <p:grpSpPr>
          <a:xfrm>
            <a:off x="6308640" y="212760"/>
            <a:ext cx="847800" cy="853920"/>
            <a:chOff x="6308640" y="212760"/>
            <a:chExt cx="847800" cy="853920"/>
          </a:xfrm>
        </p:grpSpPr>
        <p:pic>
          <p:nvPicPr>
            <p:cNvPr id="403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Oval 34"/>
          <p:cNvGrpSpPr/>
          <p:nvPr/>
        </p:nvGrpSpPr>
        <p:grpSpPr>
          <a:xfrm>
            <a:off x="8058240" y="-12600"/>
            <a:ext cx="1055520" cy="1060200"/>
            <a:chOff x="8058240" y="-12600"/>
            <a:chExt cx="1055520" cy="1060200"/>
          </a:xfrm>
        </p:grpSpPr>
        <p:pic>
          <p:nvPicPr>
            <p:cNvPr id="406" name="Oval 34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Rectangle 35"/>
          <p:cNvGrpSpPr/>
          <p:nvPr/>
        </p:nvGrpSpPr>
        <p:grpSpPr>
          <a:xfrm>
            <a:off x="5394240" y="6308640"/>
            <a:ext cx="1549440" cy="561960"/>
            <a:chOff x="5394240" y="6308640"/>
            <a:chExt cx="1549440" cy="561960"/>
          </a:xfrm>
        </p:grpSpPr>
        <p:pic>
          <p:nvPicPr>
            <p:cNvPr id="409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Oval 36"/>
          <p:cNvGrpSpPr/>
          <p:nvPr/>
        </p:nvGrpSpPr>
        <p:grpSpPr>
          <a:xfrm>
            <a:off x="2992320" y="-12600"/>
            <a:ext cx="1055880" cy="1060200"/>
            <a:chOff x="2992320" y="-12600"/>
            <a:chExt cx="1055880" cy="1060200"/>
          </a:xfrm>
        </p:grpSpPr>
        <p:pic>
          <p:nvPicPr>
            <p:cNvPr id="412" name="Oval 36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Rectangle 30" descr=""/>
          <p:cNvPicPr/>
          <p:nvPr/>
        </p:nvPicPr>
        <p:blipFill>
          <a:blip r:embed="rId27"/>
          <a:stretch/>
        </p:blipFill>
        <p:spPr>
          <a:xfrm>
            <a:off x="-6480" y="495000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37" descr=""/>
          <p:cNvPicPr/>
          <p:nvPr/>
        </p:nvPicPr>
        <p:blipFill>
          <a:blip r:embed="rId28"/>
          <a:stretch/>
        </p:blipFill>
        <p:spPr>
          <a:xfrm>
            <a:off x="-6480" y="3425760"/>
            <a:ext cx="9156960" cy="15368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A5CC-B14E-4276-A4B4-D94BBF33FFCA}" type="slidenum">
              <a:rPr b="0" lang="en-IN" sz="2800" spc="-1" strike="noStrike">
                <a:solidFill>
                  <a:srgbClr val="d1e1e3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7"/>
          <p:cNvGrpSpPr/>
          <p:nvPr/>
        </p:nvGrpSpPr>
        <p:grpSpPr>
          <a:xfrm>
            <a:off x="895320" y="2273400"/>
            <a:ext cx="2774880" cy="2158920"/>
            <a:chOff x="895320" y="2273400"/>
            <a:chExt cx="2774880" cy="2158920"/>
          </a:xfrm>
        </p:grpSpPr>
        <p:pic>
          <p:nvPicPr>
            <p:cNvPr id="458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48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Oval 10"/>
          <p:cNvGrpSpPr/>
          <p:nvPr/>
        </p:nvGrpSpPr>
        <p:grpSpPr>
          <a:xfrm>
            <a:off x="2955960" y="5052960"/>
            <a:ext cx="1792080" cy="1768680"/>
            <a:chOff x="2955960" y="5052960"/>
            <a:chExt cx="1792080" cy="1768680"/>
          </a:xfrm>
        </p:grpSpPr>
        <p:pic>
          <p:nvPicPr>
            <p:cNvPr id="461" name="Oval 10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20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464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Rectangle 13"/>
          <p:cNvGrpSpPr/>
          <p:nvPr/>
        </p:nvGrpSpPr>
        <p:grpSpPr>
          <a:xfrm>
            <a:off x="-19080" y="4095720"/>
            <a:ext cx="2390760" cy="2494080"/>
            <a:chOff x="-19080" y="4095720"/>
            <a:chExt cx="2390760" cy="2494080"/>
          </a:xfrm>
        </p:grpSpPr>
        <p:pic>
          <p:nvPicPr>
            <p:cNvPr id="467" name="Rectangle 13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9076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Oval 14"/>
          <p:cNvGrpSpPr/>
          <p:nvPr/>
        </p:nvGrpSpPr>
        <p:grpSpPr>
          <a:xfrm>
            <a:off x="4157640" y="2371680"/>
            <a:ext cx="2206800" cy="2206800"/>
            <a:chOff x="4157640" y="2371680"/>
            <a:chExt cx="2206800" cy="2206800"/>
          </a:xfrm>
        </p:grpSpPr>
        <p:pic>
          <p:nvPicPr>
            <p:cNvPr id="470" name="Oval 14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68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Oval 15"/>
          <p:cNvGrpSpPr/>
          <p:nvPr/>
        </p:nvGrpSpPr>
        <p:grpSpPr>
          <a:xfrm>
            <a:off x="6364440" y="5821200"/>
            <a:ext cx="1042920" cy="1043280"/>
            <a:chOff x="6364440" y="5821200"/>
            <a:chExt cx="1042920" cy="1043280"/>
          </a:xfrm>
        </p:grpSpPr>
        <p:pic>
          <p:nvPicPr>
            <p:cNvPr id="473" name="Oval 15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2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Oval 16"/>
          <p:cNvGrpSpPr/>
          <p:nvPr/>
        </p:nvGrpSpPr>
        <p:grpSpPr>
          <a:xfrm>
            <a:off x="6303960" y="1407960"/>
            <a:ext cx="2077920" cy="2078280"/>
            <a:chOff x="6303960" y="1407960"/>
            <a:chExt cx="2077920" cy="2078280"/>
          </a:xfrm>
        </p:grpSpPr>
        <p:pic>
          <p:nvPicPr>
            <p:cNvPr id="476" name="Oval 16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792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Oval 17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479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Oval 18"/>
          <p:cNvGrpSpPr/>
          <p:nvPr/>
        </p:nvGrpSpPr>
        <p:grpSpPr>
          <a:xfrm>
            <a:off x="2004840" y="4559400"/>
            <a:ext cx="1055880" cy="1060200"/>
            <a:chOff x="2004840" y="4559400"/>
            <a:chExt cx="1055880" cy="1060200"/>
          </a:xfrm>
        </p:grpSpPr>
        <p:pic>
          <p:nvPicPr>
            <p:cNvPr id="482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Oval 19"/>
          <p:cNvGrpSpPr/>
          <p:nvPr/>
        </p:nvGrpSpPr>
        <p:grpSpPr>
          <a:xfrm>
            <a:off x="4151160" y="4608360"/>
            <a:ext cx="1548000" cy="1427400"/>
            <a:chOff x="4151160" y="4608360"/>
            <a:chExt cx="1548000" cy="1427400"/>
          </a:xfrm>
        </p:grpSpPr>
        <p:pic>
          <p:nvPicPr>
            <p:cNvPr id="485" name="Oval 19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Rectangle 20"/>
          <p:cNvGrpSpPr/>
          <p:nvPr/>
        </p:nvGrpSpPr>
        <p:grpSpPr>
          <a:xfrm>
            <a:off x="-19080" y="341280"/>
            <a:ext cx="2543040" cy="2421000"/>
            <a:chOff x="-19080" y="341280"/>
            <a:chExt cx="2543040" cy="2421000"/>
          </a:xfrm>
        </p:grpSpPr>
        <p:pic>
          <p:nvPicPr>
            <p:cNvPr id="488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30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Rectangle 22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491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Oval 24"/>
          <p:cNvGrpSpPr/>
          <p:nvPr/>
        </p:nvGrpSpPr>
        <p:grpSpPr>
          <a:xfrm>
            <a:off x="42840" y="195120"/>
            <a:ext cx="2048040" cy="2054520"/>
            <a:chOff x="42840" y="195120"/>
            <a:chExt cx="2048040" cy="2054520"/>
          </a:xfrm>
        </p:grpSpPr>
        <p:pic>
          <p:nvPicPr>
            <p:cNvPr id="494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Oval 25"/>
          <p:cNvGrpSpPr/>
          <p:nvPr/>
        </p:nvGrpSpPr>
        <p:grpSpPr>
          <a:xfrm>
            <a:off x="60480" y="3943440"/>
            <a:ext cx="920520" cy="920520"/>
            <a:chOff x="60480" y="3943440"/>
            <a:chExt cx="920520" cy="920520"/>
          </a:xfrm>
        </p:grpSpPr>
        <p:pic>
          <p:nvPicPr>
            <p:cNvPr id="497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205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Oval 26"/>
          <p:cNvGrpSpPr/>
          <p:nvPr/>
        </p:nvGrpSpPr>
        <p:grpSpPr>
          <a:xfrm>
            <a:off x="2103480" y="1487520"/>
            <a:ext cx="1431720" cy="1431720"/>
            <a:chOff x="2103480" y="1487520"/>
            <a:chExt cx="1431720" cy="1431720"/>
          </a:xfrm>
        </p:grpSpPr>
        <p:pic>
          <p:nvPicPr>
            <p:cNvPr id="500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17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Oval 27"/>
          <p:cNvGrpSpPr/>
          <p:nvPr/>
        </p:nvGrpSpPr>
        <p:grpSpPr>
          <a:xfrm>
            <a:off x="3352680" y="450720"/>
            <a:ext cx="1621080" cy="1622520"/>
            <a:chOff x="3352680" y="450720"/>
            <a:chExt cx="1621080" cy="1622520"/>
          </a:xfrm>
        </p:grpSpPr>
        <p:pic>
          <p:nvPicPr>
            <p:cNvPr id="503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Oval 28"/>
          <p:cNvGrpSpPr/>
          <p:nvPr/>
        </p:nvGrpSpPr>
        <p:grpSpPr>
          <a:xfrm>
            <a:off x="5168880" y="2951280"/>
            <a:ext cx="3268800" cy="3260520"/>
            <a:chOff x="5168880" y="2951280"/>
            <a:chExt cx="3268800" cy="3260520"/>
          </a:xfrm>
        </p:grpSpPr>
        <p:pic>
          <p:nvPicPr>
            <p:cNvPr id="506" name="Oval 28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880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Oval 29"/>
          <p:cNvGrpSpPr/>
          <p:nvPr/>
        </p:nvGrpSpPr>
        <p:grpSpPr>
          <a:xfrm>
            <a:off x="5546880" y="-12600"/>
            <a:ext cx="1055520" cy="1060200"/>
            <a:chOff x="5546880" y="-12600"/>
            <a:chExt cx="1055520" cy="1060200"/>
          </a:xfrm>
        </p:grpSpPr>
        <p:pic>
          <p:nvPicPr>
            <p:cNvPr id="509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Oval 31"/>
          <p:cNvGrpSpPr/>
          <p:nvPr/>
        </p:nvGrpSpPr>
        <p:grpSpPr>
          <a:xfrm>
            <a:off x="6931080" y="4645080"/>
            <a:ext cx="2225520" cy="2225520"/>
            <a:chOff x="6931080" y="4645080"/>
            <a:chExt cx="2225520" cy="2225520"/>
          </a:xfrm>
        </p:grpSpPr>
        <p:pic>
          <p:nvPicPr>
            <p:cNvPr id="512" name="Oval 31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55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32"/>
          <p:cNvGrpSpPr/>
          <p:nvPr/>
        </p:nvGrpSpPr>
        <p:grpSpPr>
          <a:xfrm>
            <a:off x="1579680" y="3687840"/>
            <a:ext cx="1230120" cy="1225440"/>
            <a:chOff x="1579680" y="3687840"/>
            <a:chExt cx="1230120" cy="1225440"/>
          </a:xfrm>
        </p:grpSpPr>
        <p:pic>
          <p:nvPicPr>
            <p:cNvPr id="515" name="Oval 32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301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Oval 33"/>
          <p:cNvGrpSpPr/>
          <p:nvPr/>
        </p:nvGrpSpPr>
        <p:grpSpPr>
          <a:xfrm>
            <a:off x="6308640" y="212760"/>
            <a:ext cx="847800" cy="853920"/>
            <a:chOff x="6308640" y="212760"/>
            <a:chExt cx="847800" cy="853920"/>
          </a:xfrm>
        </p:grpSpPr>
        <p:pic>
          <p:nvPicPr>
            <p:cNvPr id="518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Oval 34"/>
          <p:cNvGrpSpPr/>
          <p:nvPr/>
        </p:nvGrpSpPr>
        <p:grpSpPr>
          <a:xfrm>
            <a:off x="8058240" y="-12600"/>
            <a:ext cx="1055520" cy="1060200"/>
            <a:chOff x="8058240" y="-12600"/>
            <a:chExt cx="1055520" cy="1060200"/>
          </a:xfrm>
        </p:grpSpPr>
        <p:pic>
          <p:nvPicPr>
            <p:cNvPr id="521" name="Oval 34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Rectangle 35"/>
          <p:cNvGrpSpPr/>
          <p:nvPr/>
        </p:nvGrpSpPr>
        <p:grpSpPr>
          <a:xfrm>
            <a:off x="5394240" y="6308640"/>
            <a:ext cx="1549440" cy="561960"/>
            <a:chOff x="5394240" y="6308640"/>
            <a:chExt cx="1549440" cy="561960"/>
          </a:xfrm>
        </p:grpSpPr>
        <p:pic>
          <p:nvPicPr>
            <p:cNvPr id="524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Oval 36"/>
          <p:cNvGrpSpPr/>
          <p:nvPr/>
        </p:nvGrpSpPr>
        <p:grpSpPr>
          <a:xfrm>
            <a:off x="2992320" y="-12600"/>
            <a:ext cx="1055880" cy="1060200"/>
            <a:chOff x="2992320" y="-12600"/>
            <a:chExt cx="1055880" cy="1060200"/>
          </a:xfrm>
        </p:grpSpPr>
        <p:pic>
          <p:nvPicPr>
            <p:cNvPr id="527" name="Oval 36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Rectangle 30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A1F3-FEA7-4C4B-B7AE-1123AC1CA946}" type="slidenum">
              <a:rPr b="0" lang="en-IN" sz="2800" spc="-1" strike="noStrike">
                <a:solidFill>
                  <a:srgbClr val="d1e1e3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895320" y="2273400"/>
            <a:ext cx="2774880" cy="2158920"/>
            <a:chOff x="895320" y="2273400"/>
            <a:chExt cx="2774880" cy="215892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48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Oval 10"/>
          <p:cNvGrpSpPr/>
          <p:nvPr/>
        </p:nvGrpSpPr>
        <p:grpSpPr>
          <a:xfrm>
            <a:off x="2955960" y="5052960"/>
            <a:ext cx="1792080" cy="1768680"/>
            <a:chOff x="2955960" y="5052960"/>
            <a:chExt cx="1792080" cy="1768680"/>
          </a:xfrm>
        </p:grpSpPr>
        <p:pic>
          <p:nvPicPr>
            <p:cNvPr id="575" name="Oval 10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20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578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Rectangle 13"/>
          <p:cNvGrpSpPr/>
          <p:nvPr/>
        </p:nvGrpSpPr>
        <p:grpSpPr>
          <a:xfrm>
            <a:off x="-19080" y="4095720"/>
            <a:ext cx="2390760" cy="2494080"/>
            <a:chOff x="-19080" y="4095720"/>
            <a:chExt cx="2390760" cy="2494080"/>
          </a:xfrm>
        </p:grpSpPr>
        <p:pic>
          <p:nvPicPr>
            <p:cNvPr id="581" name="Rectangle 13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9076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Oval 14"/>
          <p:cNvGrpSpPr/>
          <p:nvPr/>
        </p:nvGrpSpPr>
        <p:grpSpPr>
          <a:xfrm>
            <a:off x="4157640" y="2371680"/>
            <a:ext cx="2206800" cy="2206800"/>
            <a:chOff x="4157640" y="2371680"/>
            <a:chExt cx="2206800" cy="2206800"/>
          </a:xfrm>
        </p:grpSpPr>
        <p:pic>
          <p:nvPicPr>
            <p:cNvPr id="584" name="Oval 14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68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Oval 15"/>
          <p:cNvGrpSpPr/>
          <p:nvPr/>
        </p:nvGrpSpPr>
        <p:grpSpPr>
          <a:xfrm>
            <a:off x="6364440" y="5821200"/>
            <a:ext cx="1042920" cy="1043280"/>
            <a:chOff x="6364440" y="5821200"/>
            <a:chExt cx="1042920" cy="1043280"/>
          </a:xfrm>
        </p:grpSpPr>
        <p:pic>
          <p:nvPicPr>
            <p:cNvPr id="587" name="Oval 15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29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Oval 16"/>
          <p:cNvGrpSpPr/>
          <p:nvPr/>
        </p:nvGrpSpPr>
        <p:grpSpPr>
          <a:xfrm>
            <a:off x="6303960" y="1407960"/>
            <a:ext cx="2077920" cy="2078280"/>
            <a:chOff x="6303960" y="1407960"/>
            <a:chExt cx="2077920" cy="2078280"/>
          </a:xfrm>
        </p:grpSpPr>
        <p:pic>
          <p:nvPicPr>
            <p:cNvPr id="590" name="Oval 16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792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Oval 17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593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Oval 18"/>
          <p:cNvGrpSpPr/>
          <p:nvPr/>
        </p:nvGrpSpPr>
        <p:grpSpPr>
          <a:xfrm>
            <a:off x="2004840" y="4559400"/>
            <a:ext cx="1055880" cy="1060200"/>
            <a:chOff x="2004840" y="4559400"/>
            <a:chExt cx="1055880" cy="1060200"/>
          </a:xfrm>
        </p:grpSpPr>
        <p:pic>
          <p:nvPicPr>
            <p:cNvPr id="596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Oval 19"/>
          <p:cNvGrpSpPr/>
          <p:nvPr/>
        </p:nvGrpSpPr>
        <p:grpSpPr>
          <a:xfrm>
            <a:off x="4151160" y="4608360"/>
            <a:ext cx="1548000" cy="1427400"/>
            <a:chOff x="4151160" y="4608360"/>
            <a:chExt cx="1548000" cy="1427400"/>
          </a:xfrm>
        </p:grpSpPr>
        <p:pic>
          <p:nvPicPr>
            <p:cNvPr id="599" name="Oval 19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Rectangle 20"/>
          <p:cNvGrpSpPr/>
          <p:nvPr/>
        </p:nvGrpSpPr>
        <p:grpSpPr>
          <a:xfrm>
            <a:off x="-19080" y="341280"/>
            <a:ext cx="2543040" cy="2421000"/>
            <a:chOff x="-19080" y="341280"/>
            <a:chExt cx="2543040" cy="2421000"/>
          </a:xfrm>
        </p:grpSpPr>
        <p:pic>
          <p:nvPicPr>
            <p:cNvPr id="602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30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Rectangle 22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605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Oval 24"/>
          <p:cNvGrpSpPr/>
          <p:nvPr/>
        </p:nvGrpSpPr>
        <p:grpSpPr>
          <a:xfrm>
            <a:off x="42840" y="195120"/>
            <a:ext cx="2048040" cy="2054520"/>
            <a:chOff x="42840" y="195120"/>
            <a:chExt cx="2048040" cy="2054520"/>
          </a:xfrm>
        </p:grpSpPr>
        <p:pic>
          <p:nvPicPr>
            <p:cNvPr id="608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Oval 25"/>
          <p:cNvGrpSpPr/>
          <p:nvPr/>
        </p:nvGrpSpPr>
        <p:grpSpPr>
          <a:xfrm>
            <a:off x="60480" y="3943440"/>
            <a:ext cx="920520" cy="920520"/>
            <a:chOff x="60480" y="3943440"/>
            <a:chExt cx="920520" cy="920520"/>
          </a:xfrm>
        </p:grpSpPr>
        <p:pic>
          <p:nvPicPr>
            <p:cNvPr id="611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205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Oval 26"/>
          <p:cNvGrpSpPr/>
          <p:nvPr/>
        </p:nvGrpSpPr>
        <p:grpSpPr>
          <a:xfrm>
            <a:off x="2103480" y="1487520"/>
            <a:ext cx="1431720" cy="1431720"/>
            <a:chOff x="2103480" y="1487520"/>
            <a:chExt cx="1431720" cy="1431720"/>
          </a:xfrm>
        </p:grpSpPr>
        <p:pic>
          <p:nvPicPr>
            <p:cNvPr id="614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17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Oval 27"/>
          <p:cNvGrpSpPr/>
          <p:nvPr/>
        </p:nvGrpSpPr>
        <p:grpSpPr>
          <a:xfrm>
            <a:off x="3352680" y="450720"/>
            <a:ext cx="1621080" cy="1622520"/>
            <a:chOff x="3352680" y="450720"/>
            <a:chExt cx="1621080" cy="1622520"/>
          </a:xfrm>
        </p:grpSpPr>
        <p:pic>
          <p:nvPicPr>
            <p:cNvPr id="617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Oval 28"/>
          <p:cNvGrpSpPr/>
          <p:nvPr/>
        </p:nvGrpSpPr>
        <p:grpSpPr>
          <a:xfrm>
            <a:off x="5168880" y="2951280"/>
            <a:ext cx="3268800" cy="3260520"/>
            <a:chOff x="5168880" y="2951280"/>
            <a:chExt cx="3268800" cy="3260520"/>
          </a:xfrm>
        </p:grpSpPr>
        <p:pic>
          <p:nvPicPr>
            <p:cNvPr id="620" name="Oval 28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880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Oval 29"/>
          <p:cNvGrpSpPr/>
          <p:nvPr/>
        </p:nvGrpSpPr>
        <p:grpSpPr>
          <a:xfrm>
            <a:off x="5546880" y="-12600"/>
            <a:ext cx="1055520" cy="1060200"/>
            <a:chOff x="5546880" y="-12600"/>
            <a:chExt cx="1055520" cy="1060200"/>
          </a:xfrm>
        </p:grpSpPr>
        <p:pic>
          <p:nvPicPr>
            <p:cNvPr id="623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Oval 31"/>
          <p:cNvGrpSpPr/>
          <p:nvPr/>
        </p:nvGrpSpPr>
        <p:grpSpPr>
          <a:xfrm>
            <a:off x="6931080" y="4645080"/>
            <a:ext cx="2225520" cy="2225520"/>
            <a:chOff x="6931080" y="4645080"/>
            <a:chExt cx="2225520" cy="2225520"/>
          </a:xfrm>
        </p:grpSpPr>
        <p:pic>
          <p:nvPicPr>
            <p:cNvPr id="626" name="Oval 31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55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Oval 32"/>
          <p:cNvGrpSpPr/>
          <p:nvPr/>
        </p:nvGrpSpPr>
        <p:grpSpPr>
          <a:xfrm>
            <a:off x="1579680" y="3687840"/>
            <a:ext cx="1230120" cy="1225440"/>
            <a:chOff x="1579680" y="3687840"/>
            <a:chExt cx="1230120" cy="1225440"/>
          </a:xfrm>
        </p:grpSpPr>
        <p:pic>
          <p:nvPicPr>
            <p:cNvPr id="629" name="Oval 32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301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Oval 33"/>
          <p:cNvGrpSpPr/>
          <p:nvPr/>
        </p:nvGrpSpPr>
        <p:grpSpPr>
          <a:xfrm>
            <a:off x="6308640" y="212760"/>
            <a:ext cx="847800" cy="853920"/>
            <a:chOff x="6308640" y="212760"/>
            <a:chExt cx="847800" cy="853920"/>
          </a:xfrm>
        </p:grpSpPr>
        <p:pic>
          <p:nvPicPr>
            <p:cNvPr id="632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Oval 34"/>
          <p:cNvGrpSpPr/>
          <p:nvPr/>
        </p:nvGrpSpPr>
        <p:grpSpPr>
          <a:xfrm>
            <a:off x="8058240" y="-12600"/>
            <a:ext cx="1055520" cy="1060200"/>
            <a:chOff x="8058240" y="-12600"/>
            <a:chExt cx="1055520" cy="1060200"/>
          </a:xfrm>
        </p:grpSpPr>
        <p:pic>
          <p:nvPicPr>
            <p:cNvPr id="635" name="Oval 34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55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Rectangle 35"/>
          <p:cNvGrpSpPr/>
          <p:nvPr/>
        </p:nvGrpSpPr>
        <p:grpSpPr>
          <a:xfrm>
            <a:off x="5394240" y="6308640"/>
            <a:ext cx="1549440" cy="561960"/>
            <a:chOff x="5394240" y="6308640"/>
            <a:chExt cx="1549440" cy="561960"/>
          </a:xfrm>
        </p:grpSpPr>
        <p:pic>
          <p:nvPicPr>
            <p:cNvPr id="638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Oval 36"/>
          <p:cNvGrpSpPr/>
          <p:nvPr/>
        </p:nvGrpSpPr>
        <p:grpSpPr>
          <a:xfrm>
            <a:off x="2992320" y="-12600"/>
            <a:ext cx="1055880" cy="1060200"/>
            <a:chOff x="2992320" y="-12600"/>
            <a:chExt cx="1055880" cy="1060200"/>
          </a:xfrm>
        </p:grpSpPr>
        <p:pic>
          <p:nvPicPr>
            <p:cNvPr id="641" name="Oval 36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58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Rectangle 30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16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1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058E-DE58-48B6-AFC6-0BF09DADBA63}" type="slidenum">
              <a:rPr b="0" lang="en-IN" sz="2800" spc="-1" strike="noStrike">
                <a:solidFill>
                  <a:srgbClr val="d1e1e3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686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Oval 37"/>
          <p:cNvGrpSpPr/>
          <p:nvPr/>
        </p:nvGrpSpPr>
        <p:grpSpPr>
          <a:xfrm>
            <a:off x="1547640" y="4316400"/>
            <a:ext cx="1055880" cy="1060560"/>
            <a:chOff x="1547640" y="4316400"/>
            <a:chExt cx="1055880" cy="1060560"/>
          </a:xfrm>
        </p:grpSpPr>
        <p:pic>
          <p:nvPicPr>
            <p:cNvPr id="689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58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Rectangle 38"/>
          <p:cNvGrpSpPr/>
          <p:nvPr/>
        </p:nvGrpSpPr>
        <p:grpSpPr>
          <a:xfrm>
            <a:off x="-19080" y="360360"/>
            <a:ext cx="2165400" cy="2419200"/>
            <a:chOff x="-19080" y="360360"/>
            <a:chExt cx="2165400" cy="2419200"/>
          </a:xfrm>
        </p:grpSpPr>
        <p:pic>
          <p:nvPicPr>
            <p:cNvPr id="692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540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Rectangle 39"/>
          <p:cNvGrpSpPr/>
          <p:nvPr/>
        </p:nvGrpSpPr>
        <p:grpSpPr>
          <a:xfrm>
            <a:off x="1427040" y="-19080"/>
            <a:ext cx="1206720" cy="665280"/>
            <a:chOff x="1427040" y="-19080"/>
            <a:chExt cx="1206720" cy="665280"/>
          </a:xfrm>
        </p:grpSpPr>
        <p:pic>
          <p:nvPicPr>
            <p:cNvPr id="695" name="Rectangle 39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6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Oval 40"/>
          <p:cNvGrpSpPr/>
          <p:nvPr/>
        </p:nvGrpSpPr>
        <p:grpSpPr>
          <a:xfrm>
            <a:off x="42840" y="-19080"/>
            <a:ext cx="2335320" cy="2408400"/>
            <a:chOff x="42840" y="-19080"/>
            <a:chExt cx="2335320" cy="2408400"/>
          </a:xfrm>
        </p:grpSpPr>
        <p:pic>
          <p:nvPicPr>
            <p:cNvPr id="698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Oval 41"/>
          <p:cNvGrpSpPr/>
          <p:nvPr/>
        </p:nvGrpSpPr>
        <p:grpSpPr>
          <a:xfrm>
            <a:off x="-19080" y="3260880"/>
            <a:ext cx="920880" cy="914400"/>
            <a:chOff x="-19080" y="3260880"/>
            <a:chExt cx="920880" cy="914400"/>
          </a:xfrm>
        </p:grpSpPr>
        <p:pic>
          <p:nvPicPr>
            <p:cNvPr id="701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Oval 42"/>
          <p:cNvGrpSpPr/>
          <p:nvPr/>
        </p:nvGrpSpPr>
        <p:grpSpPr>
          <a:xfrm>
            <a:off x="774720" y="1700280"/>
            <a:ext cx="1432080" cy="1439640"/>
            <a:chOff x="774720" y="1700280"/>
            <a:chExt cx="1432080" cy="1439640"/>
          </a:xfrm>
        </p:grpSpPr>
        <p:pic>
          <p:nvPicPr>
            <p:cNvPr id="704" name="Oval 42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20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07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Oval 44"/>
          <p:cNvGrpSpPr/>
          <p:nvPr/>
        </p:nvGrpSpPr>
        <p:grpSpPr>
          <a:xfrm>
            <a:off x="133200" y="2346480"/>
            <a:ext cx="489240" cy="488880"/>
            <a:chOff x="133200" y="2346480"/>
            <a:chExt cx="489240" cy="488880"/>
          </a:xfrm>
        </p:grpSpPr>
        <p:pic>
          <p:nvPicPr>
            <p:cNvPr id="710" name="Oval 44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92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Oval 45"/>
          <p:cNvGrpSpPr/>
          <p:nvPr/>
        </p:nvGrpSpPr>
        <p:grpSpPr>
          <a:xfrm>
            <a:off x="1731960" y="365040"/>
            <a:ext cx="487440" cy="488880"/>
            <a:chOff x="1731960" y="365040"/>
            <a:chExt cx="487440" cy="488880"/>
          </a:xfrm>
        </p:grpSpPr>
        <p:pic>
          <p:nvPicPr>
            <p:cNvPr id="713" name="Oval 45" descr=""/>
            <p:cNvPicPr/>
            <p:nvPr/>
          </p:nvPicPr>
          <p:blipFill>
            <a:blip r:embed="rId11"/>
            <a:stretch/>
          </p:blipFill>
          <p:spPr>
            <a:xfrm>
              <a:off x="1731960" y="365040"/>
              <a:ext cx="4874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Oval 46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16" name="Oval 46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Rectangle 47"/>
          <p:cNvGrpSpPr/>
          <p:nvPr/>
        </p:nvGrpSpPr>
        <p:grpSpPr>
          <a:xfrm>
            <a:off x="-19080" y="5699160"/>
            <a:ext cx="1628640" cy="1171440"/>
            <a:chOff x="-19080" y="5699160"/>
            <a:chExt cx="1628640" cy="1171440"/>
          </a:xfrm>
        </p:grpSpPr>
        <p:pic>
          <p:nvPicPr>
            <p:cNvPr id="719" name="Rectangle 47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864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Oval 48"/>
          <p:cNvGrpSpPr/>
          <p:nvPr/>
        </p:nvGrpSpPr>
        <p:grpSpPr>
          <a:xfrm>
            <a:off x="1305000" y="5857920"/>
            <a:ext cx="761760" cy="762120"/>
            <a:chOff x="1305000" y="5857920"/>
            <a:chExt cx="761760" cy="762120"/>
          </a:xfrm>
        </p:grpSpPr>
        <p:pic>
          <p:nvPicPr>
            <p:cNvPr id="722" name="Oval 48" descr=""/>
            <p:cNvPicPr/>
            <p:nvPr/>
          </p:nvPicPr>
          <p:blipFill>
            <a:blip r:embed="rId14"/>
            <a:stretch/>
          </p:blipFill>
          <p:spPr>
            <a:xfrm>
              <a:off x="1305000" y="585792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Oval 49"/>
          <p:cNvGrpSpPr/>
          <p:nvPr/>
        </p:nvGrpSpPr>
        <p:grpSpPr>
          <a:xfrm>
            <a:off x="12600" y="5194440"/>
            <a:ext cx="1676520" cy="1676160"/>
            <a:chOff x="12600" y="5194440"/>
            <a:chExt cx="1676520" cy="1676160"/>
          </a:xfrm>
        </p:grpSpPr>
        <p:pic>
          <p:nvPicPr>
            <p:cNvPr id="725" name="Oval 49" descr=""/>
            <p:cNvPicPr/>
            <p:nvPr/>
          </p:nvPicPr>
          <p:blipFill>
            <a:blip r:embed="rId15"/>
            <a:stretch/>
          </p:blipFill>
          <p:spPr>
            <a:xfrm>
              <a:off x="12600" y="519444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0"/>
          </p:nvPr>
        </p:nvSpPr>
        <p:spPr>
          <a:xfrm>
            <a:off x="2285640" y="6357600"/>
            <a:ext cx="3429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1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0321-5E50-48A3-9975-3E1155739DF0}" type="slidenum">
              <a:rPr b="0" lang="en-IN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769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Oval 37"/>
          <p:cNvGrpSpPr/>
          <p:nvPr/>
        </p:nvGrpSpPr>
        <p:grpSpPr>
          <a:xfrm>
            <a:off x="1547640" y="4316400"/>
            <a:ext cx="1055880" cy="1060560"/>
            <a:chOff x="1547640" y="4316400"/>
            <a:chExt cx="1055880" cy="1060560"/>
          </a:xfrm>
        </p:grpSpPr>
        <p:pic>
          <p:nvPicPr>
            <p:cNvPr id="772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58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Rectangle 38"/>
          <p:cNvGrpSpPr/>
          <p:nvPr/>
        </p:nvGrpSpPr>
        <p:grpSpPr>
          <a:xfrm>
            <a:off x="-19080" y="360360"/>
            <a:ext cx="2165400" cy="2419200"/>
            <a:chOff x="-19080" y="360360"/>
            <a:chExt cx="2165400" cy="2419200"/>
          </a:xfrm>
        </p:grpSpPr>
        <p:pic>
          <p:nvPicPr>
            <p:cNvPr id="775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540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Rectangle 39"/>
          <p:cNvGrpSpPr/>
          <p:nvPr/>
        </p:nvGrpSpPr>
        <p:grpSpPr>
          <a:xfrm>
            <a:off x="1427040" y="-19080"/>
            <a:ext cx="1206720" cy="665280"/>
            <a:chOff x="1427040" y="-19080"/>
            <a:chExt cx="1206720" cy="665280"/>
          </a:xfrm>
        </p:grpSpPr>
        <p:pic>
          <p:nvPicPr>
            <p:cNvPr id="778" name="Rectangle 39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6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val 40"/>
          <p:cNvGrpSpPr/>
          <p:nvPr/>
        </p:nvGrpSpPr>
        <p:grpSpPr>
          <a:xfrm>
            <a:off x="42840" y="-19080"/>
            <a:ext cx="2335320" cy="2408400"/>
            <a:chOff x="42840" y="-19080"/>
            <a:chExt cx="2335320" cy="2408400"/>
          </a:xfrm>
        </p:grpSpPr>
        <p:pic>
          <p:nvPicPr>
            <p:cNvPr id="781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Oval 41"/>
          <p:cNvGrpSpPr/>
          <p:nvPr/>
        </p:nvGrpSpPr>
        <p:grpSpPr>
          <a:xfrm>
            <a:off x="-19080" y="3260880"/>
            <a:ext cx="920880" cy="914400"/>
            <a:chOff x="-19080" y="3260880"/>
            <a:chExt cx="920880" cy="914400"/>
          </a:xfrm>
        </p:grpSpPr>
        <p:pic>
          <p:nvPicPr>
            <p:cNvPr id="784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val 42"/>
          <p:cNvGrpSpPr/>
          <p:nvPr/>
        </p:nvGrpSpPr>
        <p:grpSpPr>
          <a:xfrm>
            <a:off x="774720" y="1700280"/>
            <a:ext cx="1432080" cy="1439640"/>
            <a:chOff x="774720" y="1700280"/>
            <a:chExt cx="1432080" cy="1439640"/>
          </a:xfrm>
        </p:grpSpPr>
        <p:pic>
          <p:nvPicPr>
            <p:cNvPr id="787" name="Oval 42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208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90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Oval 44"/>
          <p:cNvGrpSpPr/>
          <p:nvPr/>
        </p:nvGrpSpPr>
        <p:grpSpPr>
          <a:xfrm>
            <a:off x="1731960" y="365040"/>
            <a:ext cx="487440" cy="488880"/>
            <a:chOff x="1731960" y="365040"/>
            <a:chExt cx="487440" cy="488880"/>
          </a:xfrm>
        </p:grpSpPr>
        <p:pic>
          <p:nvPicPr>
            <p:cNvPr id="793" name="Oval 44" descr=""/>
            <p:cNvPicPr/>
            <p:nvPr/>
          </p:nvPicPr>
          <p:blipFill>
            <a:blip r:embed="rId10"/>
            <a:stretch/>
          </p:blipFill>
          <p:spPr>
            <a:xfrm>
              <a:off x="1731960" y="365040"/>
              <a:ext cx="4874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Oval 45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96" name="Oval 45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Rectangle 46"/>
          <p:cNvGrpSpPr/>
          <p:nvPr/>
        </p:nvGrpSpPr>
        <p:grpSpPr>
          <a:xfrm>
            <a:off x="-19080" y="5699160"/>
            <a:ext cx="1628640" cy="1171440"/>
            <a:chOff x="-19080" y="5699160"/>
            <a:chExt cx="1628640" cy="1171440"/>
          </a:xfrm>
        </p:grpSpPr>
        <p:pic>
          <p:nvPicPr>
            <p:cNvPr id="799" name="Rectangle 46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864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Oval 47"/>
          <p:cNvGrpSpPr/>
          <p:nvPr/>
        </p:nvGrpSpPr>
        <p:grpSpPr>
          <a:xfrm>
            <a:off x="1305000" y="5857920"/>
            <a:ext cx="761760" cy="762120"/>
            <a:chOff x="1305000" y="5857920"/>
            <a:chExt cx="761760" cy="762120"/>
          </a:xfrm>
        </p:grpSpPr>
        <p:pic>
          <p:nvPicPr>
            <p:cNvPr id="802" name="Oval 47" descr=""/>
            <p:cNvPicPr/>
            <p:nvPr/>
          </p:nvPicPr>
          <p:blipFill>
            <a:blip r:embed="rId13"/>
            <a:stretch/>
          </p:blipFill>
          <p:spPr>
            <a:xfrm>
              <a:off x="1305000" y="585792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Oval 48"/>
          <p:cNvGrpSpPr/>
          <p:nvPr/>
        </p:nvGrpSpPr>
        <p:grpSpPr>
          <a:xfrm>
            <a:off x="12600" y="5194440"/>
            <a:ext cx="1676520" cy="1676160"/>
            <a:chOff x="12600" y="5194440"/>
            <a:chExt cx="1676520" cy="1676160"/>
          </a:xfrm>
        </p:grpSpPr>
        <p:pic>
          <p:nvPicPr>
            <p:cNvPr id="805" name="Oval 48" descr=""/>
            <p:cNvPicPr/>
            <p:nvPr/>
          </p:nvPicPr>
          <p:blipFill>
            <a:blip r:embed="rId14"/>
            <a:stretch/>
          </p:blipFill>
          <p:spPr>
            <a:xfrm>
              <a:off x="12600" y="519444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Oval 49"/>
          <p:cNvGrpSpPr/>
          <p:nvPr/>
        </p:nvGrpSpPr>
        <p:grpSpPr>
          <a:xfrm>
            <a:off x="133200" y="2346480"/>
            <a:ext cx="489240" cy="488880"/>
            <a:chOff x="133200" y="2346480"/>
            <a:chExt cx="489240" cy="488880"/>
          </a:xfrm>
        </p:grpSpPr>
        <p:pic>
          <p:nvPicPr>
            <p:cNvPr id="808" name="Oval 49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92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e1e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e1e3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24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347-9B38-4869-A5FB-031632AEF3D9}" type="slidenum">
              <a:rPr b="0" lang="en-IN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serlab.usask.ca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ptcha.net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captcha.net/learnmore.html" TargetMode="External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47608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 Accessibility Demonstr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USING CAPTCHAS</a:t>
            </a:r>
            <a:endParaRPr b="0" lang="en-US" sz="4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0" name="TextBox 3"/>
          <p:cNvSpPr/>
          <p:nvPr/>
        </p:nvSpPr>
        <p:spPr>
          <a:xfrm>
            <a:off x="571680" y="550080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Sunny Pal Sha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CMPT 8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December 4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Results(1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emonstrating Activities based on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ccessibility of currently used technique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ext Based CAPTCHA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ound Based CAPTCHA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ossible alternative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mage Based CAPTCHA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ird Party Authentic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mail/Text Message Verific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Results(2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ext Based CAPTCHA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esenting 3 different Examples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sking users to solve the CAPTCHA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oviding them feedback to how many they got right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oal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sking questions to users to evaluate the usability of Text based CAPTCHA based on 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marL="944280" indent="-21456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istortion of Tex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944280" indent="-21456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lo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944280" indent="-21456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mber of Characters to be enter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944280" indent="-21456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e of Lowercase, Uppercase, or both schem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Results(3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7200" y="1523520"/>
            <a:ext cx="82296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ound Based CAPTCHA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esenting users with 3 challenge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sking user to solve the CAPTCHA by listening to the sound clip and entering the information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oviding them feedback to how many they got right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oal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Questions to expose users to the accessibility of Sound Based CAPTCHAs based on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marL="974520" indent="-2214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echnology issues (Flash) (</a:t>
            </a: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http://www.nswardh.com/shout/index.php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974520" indent="-2214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ackground noi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974520" indent="-2214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la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Results(4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mage Based CAPTCHA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esenting users with a grid containing 9 pictures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sking users to select a particular object image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oviding Feedback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oal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Objects can be localized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Cognitive Issue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Visually Impaired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0" name="Picture 3" descr="multilingual.jpg"/>
          <p:cNvPicPr/>
          <p:nvPr/>
        </p:nvPicPr>
        <p:blipFill>
          <a:blip r:embed="rId1"/>
          <a:stretch/>
        </p:blipFill>
        <p:spPr>
          <a:xfrm>
            <a:off x="5121360" y="3780000"/>
            <a:ext cx="3687840" cy="4462200"/>
          </a:xfrm>
          <a:prstGeom prst="rect">
            <a:avLst/>
          </a:prstGeom>
          <a:ln w="0">
            <a:noFill/>
          </a:ln>
        </p:spPr>
      </p:pic>
      <p:sp>
        <p:nvSpPr>
          <p:cNvPr id="901" name="TextBox 4"/>
          <p:cNvSpPr/>
          <p:nvPr/>
        </p:nvSpPr>
        <p:spPr>
          <a:xfrm>
            <a:off x="0" y="6611760"/>
            <a:ext cx="892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Constantia"/>
              </a:rPr>
              <a:t>Source: Multilingual CAPTCHA by M. Hassan Shirali-Shahreza  Mohammad Shirali-Shahrez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Results(5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mage CAPTCHA (Alternate Versio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oviding a CAPTCHA with an Image and Sound clip related to the Image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Drop down menu to select the answ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oviding Feedback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oal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eople with multiple Disabilitie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Cognitive Issue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4" name="Picture 4" descr=""/>
          <p:cNvPicPr/>
          <p:nvPr/>
        </p:nvPicPr>
        <p:blipFill>
          <a:blip r:embed="rId1"/>
          <a:stretch/>
        </p:blipFill>
        <p:spPr>
          <a:xfrm>
            <a:off x="5834160" y="4206960"/>
            <a:ext cx="3133800" cy="3778200"/>
          </a:xfrm>
          <a:prstGeom prst="rect">
            <a:avLst/>
          </a:prstGeom>
          <a:ln w="0">
            <a:noFill/>
          </a:ln>
        </p:spPr>
      </p:pic>
      <p:sp>
        <p:nvSpPr>
          <p:cNvPr id="905" name="TextBox 6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000" spc="-1" strike="noStrike">
                <a:solidFill>
                  <a:srgbClr val="ffffff"/>
                </a:solidFill>
                <a:latin typeface="Constantia"/>
              </a:rPr>
              <a:t>Source: Jonathan Holman1, Jonathan Lazar, Jinjuan Heidi Feng, and John D’Arcy2: Developing Usable CAPTCHAs for Blind Us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Results(6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mail/Text Message Verific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sking users to provide their Email address  or cell phone numb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ending a email/ text message containing the verification code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Authenticating user based on the number entered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Take Home Message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nderstanding use of CAPTCHA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eed to balanc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eing Technology Specific can be problematic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nderstand the Application Are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sider people with disabiliti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Any More Issues???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ffffff"/>
                </a:solidFill>
                <a:latin typeface="Constantia"/>
              </a:rPr>
              <a:t>USERs Lab:  </a:t>
            </a:r>
            <a:r>
              <a:rPr b="0" lang="en-IN" sz="2800" spc="-1" strike="noStrike" u="sng">
                <a:solidFill>
                  <a:srgbClr val="3ecced"/>
                </a:solidFill>
                <a:uFillTx/>
                <a:latin typeface="Constantia"/>
                <a:hlinkClick r:id="rId1"/>
              </a:rPr>
              <a:t>http://userlab.usask.ca/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tact me:  sps88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Introduction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0004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APTCHA stands for “Completely Automated Public Turing test to tell Computers and Human’s Apart” (</a:t>
            </a:r>
            <a:r>
              <a:rPr b="0" lang="en-IN" sz="2000" spc="-1" strike="noStrike" u="sng">
                <a:solidFill>
                  <a:srgbClr val="3ecced"/>
                </a:solidFill>
                <a:uFillTx/>
                <a:latin typeface="Constantia"/>
                <a:hlinkClick r:id="rId1"/>
              </a:rPr>
              <a:t>http://www.captcha.net/</a:t>
            </a:r>
            <a:r>
              <a:rPr b="0" lang="en-IN" sz="2000" spc="-1" strike="noStrike">
                <a:solidFill>
                  <a:srgbClr val="ffffff"/>
                </a:solidFill>
                <a:latin typeface="Constantia"/>
              </a:rPr>
              <a:t>, 2009</a:t>
            </a:r>
            <a:r>
              <a:rPr b="0" lang="en-IN" sz="2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hy are they used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ecurity Measure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hat users have to do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erceive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oces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ass…..Sounds Simple!!!!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Justification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spects of CAPTCHA Desig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Usability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ecurity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idespread Applic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ccessibilit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efulness(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ttp://userlab.usask.ca/ade/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)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Web Designer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tudents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01200" indent="-25632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General Public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Analysis(1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APTCHA Design Aspects: (</a:t>
            </a:r>
            <a:r>
              <a:rPr b="0" lang="en-IN" sz="1800" spc="-1" strike="noStrike">
                <a:solidFill>
                  <a:srgbClr val="ffffff"/>
                </a:solidFill>
                <a:latin typeface="Constantia"/>
              </a:rPr>
              <a:t>Jeff Yan, Ahmad Salah El Ahmad , ACM SOUPS, 2008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457200">
              <a:spcBef>
                <a:spcPts val="601"/>
              </a:spcBef>
              <a:buClr>
                <a:srgbClr val="79b5b0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ecurity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457200">
              <a:spcBef>
                <a:spcPts val="601"/>
              </a:spcBef>
              <a:buClr>
                <a:srgbClr val="79b5b0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Usability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urity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4572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Beaten many times (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Greg Mori and Jitendra Malik, 2003 2.Jeff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an</a:t>
            </a:r>
            <a:r>
              <a:rPr b="0" lang="en-IN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IN" sz="1900" spc="-1" strike="noStrike">
                <a:solidFill>
                  <a:srgbClr val="ffffff"/>
                </a:solidFill>
                <a:latin typeface="Constantia"/>
              </a:rPr>
              <a:t>Ahmad Salah El Ahmad, ACM 2008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67" name="Picture 3" descr="yahoo CAPTCHA.jpg"/>
          <p:cNvPicPr/>
          <p:nvPr/>
        </p:nvPicPr>
        <p:blipFill>
          <a:blip r:embed="rId1"/>
          <a:stretch/>
        </p:blipFill>
        <p:spPr>
          <a:xfrm>
            <a:off x="4029120" y="2262240"/>
            <a:ext cx="45910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Analysis(2)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57200" y="152388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abilit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Text Based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ound Based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Evaluating the Usability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en-IN" sz="1800" spc="-1" strike="noStrike">
                <a:solidFill>
                  <a:srgbClr val="ffffff"/>
                </a:solidFill>
                <a:latin typeface="Constantia"/>
              </a:rPr>
              <a:t>Jeff Yan, Ahmad Salah El Ahmad , ACM SOUPS, 2008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istor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nt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resent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Examples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Example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pic>
        <p:nvPicPr>
          <p:cNvPr id="871" name="Picture 6" descr=""/>
          <p:cNvPicPr/>
          <p:nvPr/>
        </p:nvPicPr>
        <p:blipFill>
          <a:blip r:embed="rId1"/>
          <a:stretch/>
        </p:blipFill>
        <p:spPr>
          <a:xfrm>
            <a:off x="384120" y="1547640"/>
            <a:ext cx="3444840" cy="37990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2" descr=""/>
          <p:cNvPicPr/>
          <p:nvPr/>
        </p:nvPicPr>
        <p:blipFill>
          <a:blip r:embed="rId2"/>
          <a:stretch/>
        </p:blipFill>
        <p:spPr>
          <a:xfrm>
            <a:off x="6168960" y="3687840"/>
            <a:ext cx="2517840" cy="2590560"/>
          </a:xfrm>
          <a:prstGeom prst="rect">
            <a:avLst/>
          </a:prstGeom>
          <a:ln w="0">
            <a:noFill/>
          </a:ln>
        </p:spPr>
      </p:pic>
      <p:sp>
        <p:nvSpPr>
          <p:cNvPr id="873" name="TextBox 5"/>
          <p:cNvSpPr/>
          <p:nvPr/>
        </p:nvSpPr>
        <p:spPr>
          <a:xfrm>
            <a:off x="0" y="6595920"/>
            <a:ext cx="742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900" spc="-1" strike="noStrike">
                <a:solidFill>
                  <a:srgbClr val="ffffff"/>
                </a:solidFill>
                <a:latin typeface="Constantia"/>
              </a:rPr>
              <a:t>Source:</a:t>
            </a:r>
            <a:r>
              <a:rPr b="0" lang="en-IN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en-IN" sz="900" spc="-1" strike="noStrike">
                <a:solidFill>
                  <a:srgbClr val="ffffff"/>
                </a:solidFill>
                <a:latin typeface="Constantia"/>
              </a:rPr>
              <a:t>Usability of CAPTCHAs  by  Jeff Yan and  Ahmad Salah El Ahm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6"/>
          <p:cNvSpPr/>
          <p:nvPr/>
        </p:nvSpPr>
        <p:spPr>
          <a:xfrm>
            <a:off x="4929120" y="30002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Gimpy-R CAPT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Box 7"/>
          <p:cNvSpPr/>
          <p:nvPr/>
        </p:nvSpPr>
        <p:spPr>
          <a:xfrm>
            <a:off x="285840" y="5429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istortion and Confusing Charac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Example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500040" y="16430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tBlock CAPTCH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Are they Accessible to Color Blind People?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8" name="Picture 4" descr=""/>
          <p:cNvPicPr/>
          <p:nvPr/>
        </p:nvPicPr>
        <p:blipFill>
          <a:blip r:embed="rId1"/>
          <a:stretch/>
        </p:blipFill>
        <p:spPr>
          <a:xfrm>
            <a:off x="311040" y="2548080"/>
            <a:ext cx="3949920" cy="29448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6"/>
          <p:cNvSpPr/>
          <p:nvPr/>
        </p:nvSpPr>
        <p:spPr>
          <a:xfrm>
            <a:off x="0" y="6595920"/>
            <a:ext cx="771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9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IN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IN" sz="800" spc="-1" strike="noStrike">
                <a:solidFill>
                  <a:srgbClr val="ffffff"/>
                </a:solidFill>
                <a:latin typeface="Arial"/>
              </a:rPr>
              <a:t>Usability of CAPTCHAs  by  Jeff Yan and  Ahmad Salah El Ahma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Isosceles Triangle 7"/>
          <p:cNvSpPr/>
          <p:nvPr/>
        </p:nvSpPr>
        <p:spPr>
          <a:xfrm>
            <a:off x="4214880" y="5643720"/>
            <a:ext cx="2143080" cy="928440"/>
          </a:xfrm>
          <a:prstGeom prst="triangle">
            <a:avLst>
              <a:gd name="adj" fmla="val 50000"/>
            </a:avLst>
          </a:prstGeom>
          <a:solidFill>
            <a:srgbClr val="79b5b0"/>
          </a:solidFill>
          <a:ln w="60120">
            <a:solidFill>
              <a:srgbClr val="578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s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Isosceles Triangle 8"/>
          <p:cNvSpPr/>
          <p:nvPr/>
        </p:nvSpPr>
        <p:spPr>
          <a:xfrm>
            <a:off x="7000920" y="5643720"/>
            <a:ext cx="2143080" cy="928440"/>
          </a:xfrm>
          <a:prstGeom prst="triangle">
            <a:avLst>
              <a:gd name="adj" fmla="val 50000"/>
            </a:avLst>
          </a:prstGeom>
          <a:solidFill>
            <a:srgbClr val="79b5b0"/>
          </a:solidFill>
          <a:ln w="60120">
            <a:solidFill>
              <a:srgbClr val="578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Straight Connector 9"/>
          <p:cNvSpPr/>
          <p:nvPr/>
        </p:nvSpPr>
        <p:spPr>
          <a:xfrm flipV="1">
            <a:off x="5286240" y="5429160"/>
            <a:ext cx="0" cy="214560"/>
          </a:xfrm>
          <a:prstGeom prst="line">
            <a:avLst/>
          </a:prstGeom>
          <a:ln w="10080">
            <a:solidFill>
              <a:srgbClr val="79b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Straight Connector 10"/>
          <p:cNvSpPr/>
          <p:nvPr/>
        </p:nvSpPr>
        <p:spPr>
          <a:xfrm flipV="1">
            <a:off x="8072280" y="5429160"/>
            <a:ext cx="0" cy="214560"/>
          </a:xfrm>
          <a:prstGeom prst="line">
            <a:avLst/>
          </a:prstGeom>
          <a:ln w="10080">
            <a:solidFill>
              <a:srgbClr val="79b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Straight Connector 11"/>
          <p:cNvSpPr/>
          <p:nvPr/>
        </p:nvSpPr>
        <p:spPr>
          <a:xfrm>
            <a:off x="5286240" y="5429160"/>
            <a:ext cx="2786040" cy="0"/>
          </a:xfrm>
          <a:prstGeom prst="line">
            <a:avLst/>
          </a:prstGeom>
          <a:ln w="10080">
            <a:solidFill>
              <a:srgbClr val="79b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Straight Connector 12"/>
          <p:cNvSpPr/>
          <p:nvPr/>
        </p:nvSpPr>
        <p:spPr>
          <a:xfrm flipV="1">
            <a:off x="6572160" y="4928760"/>
            <a:ext cx="0" cy="500040"/>
          </a:xfrm>
          <a:prstGeom prst="line">
            <a:avLst/>
          </a:prstGeom>
          <a:ln w="10080">
            <a:solidFill>
              <a:srgbClr val="79b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Box 21"/>
          <p:cNvSpPr/>
          <p:nvPr/>
        </p:nvSpPr>
        <p:spPr>
          <a:xfrm>
            <a:off x="5929200" y="46432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eb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Audio CAPTCHA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Letters are read out alou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ckground noise is adde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audio clip plays for 5-10 second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eople using Screen Reader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creen is not accessible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Hard to complete the test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64600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Confusion between ‘p’ and ‘b’, ‘g’ and ‘j’, ‘a’ and ‘8’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Example: ReCAPTCHA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ffffff"/>
                </a:solidFill>
                <a:latin typeface="Constantia"/>
              </a:rPr>
              <a:t>Let’s Listen: </a:t>
            </a:r>
            <a:r>
              <a:rPr b="0" lang="en-IN" sz="2800" spc="-1" strike="noStrike" u="sng">
                <a:solidFill>
                  <a:srgbClr val="3ecced"/>
                </a:solidFill>
                <a:uFillTx/>
                <a:latin typeface="Constantia"/>
                <a:hlinkClick r:id="rId1"/>
              </a:rPr>
              <a:t>http://recaptcha.net/learnmore.htm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terface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id you hear it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2"/>
          <a:stretch/>
        </p:blipFill>
        <p:spPr>
          <a:xfrm>
            <a:off x="3714840" y="2500200"/>
            <a:ext cx="4214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0:54:40Z</dcterms:created>
  <dc:creator>sunny pal sharma</dc:creator>
  <dc:description/>
  <dc:language>en-US</dc:language>
  <cp:lastModifiedBy>sunny pal sharma</cp:lastModifiedBy>
  <dcterms:modified xsi:type="dcterms:W3CDTF">2009-12-04T21:14:54Z</dcterms:modified>
  <cp:revision>25</cp:revision>
  <dc:subject/>
  <dc:title>Using CAPTCHAs</dc:title>
</cp:coreProperties>
</file>