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49D3-F218-4A76-8C9A-DA66E2DE7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F6E8-EA84-4829-A270-376DD3A636DE}"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E48B5-6100-4358-9BB2-20D2974A1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4306-E490-4577-9D0E-42D7F6F4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0C252-D943-4BD8-9A3C-99A401F903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688D6C-A4DB-463A-B5F9-B4C19D2B5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C7070-C8AA-491B-A98A-89128A015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457665-BECC-43DF-872A-8984D0E9C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46582-ED84-47AF-9E76-2E2513F66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4C54C-9732-4FBD-AD67-9079C4F45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A3ADB2-DA55-4C9A-ACC0-16A973F21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9C107-8FE8-4FC3-A446-C0B2626869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BF980D-2968-4D18-AC37-404C0AE16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15B51B-25D1-4E59-B870-45AFCF18FF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63B25-5353-4D11-9988-B5C72E68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C6BC46-3B81-4541-866A-0ED236AC65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A1A51C-A406-47EE-A855-39144D5736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C22F9E-CC53-433D-83F2-4DA5FC97F7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8B7362-BA89-4AC3-A97A-82A6A28717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AB9BBF-D6EA-49FD-A08E-91484524A6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DEFAE-9D60-46EF-AE02-53EA8F9EA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DAFCC5-5A39-4062-923E-6DE1C6FC9C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86D8EC-7BE5-4039-A57A-E3771A3F05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40723E-DFE9-4B8C-80E4-EDF9C9F157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FB348B-28DA-4FE5-B462-D65963E78C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2148-0516-4D8B-8BCE-702368B2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6BB3FC-E7C7-4A18-9E86-57BEDB2A21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C30244-E357-4ED3-965B-66CEEC4E3F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519087-8FAC-4CE7-A595-406BA56CCB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DD9C00-C344-4145-BE20-99EB0D0585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0D57C0-621D-43EF-934D-4FE256B543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8B0FBC-51C3-4CB9-8739-6F600DBB8B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552E77-EDC4-4107-AE80-616452038C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7F5866-0030-4024-B6EE-C4F5CC2ACB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373CBE-EE8E-4CDC-82B6-7BEF28A292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732332-1441-4211-BF84-3AE57BC129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3AAA2-DB8D-488C-A242-89514C680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8164EA-04E0-49CA-BAF1-B2BFBCC8D4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F2566F-BCBE-48DF-A53E-8F23EABCA2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728F2E-C305-405E-8C05-B591DA13B9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802CA6-7EAD-43A4-8B69-BB94EB53A1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29D987-39D0-4496-82B5-99DB5404AD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D7B35B-2887-41F5-822C-C6569887CA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119284-EF74-477F-A20D-AEABEBB520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E8166-F5F6-4FE8-9995-27964B64C4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7045B-F029-498F-BA29-E7575912AF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90D14A-B4AF-48DF-8EE9-8D22B30CE1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A17BF-AE48-4E50-9E31-5E3EA88AE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B98073-FB2B-4516-B93E-27AC7C3A88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4699FE-4D81-4CD2-BB40-6E0B865A03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35FF3B-A22E-49AB-9A6F-111B424D9F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3A2EF5-C482-4DD5-939C-E458E5F611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FFBD0E-8F07-4CF9-BB41-58651C3386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F025F-090D-4A89-A473-85455323D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74992-22A0-492D-8D2B-162086CD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D8E09-B08F-4BC6-894A-F605743C1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1A0B0-C2AF-4A8B-88DA-8E0A73F20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66198-71D1-4357-B12D-E91B456AE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83A5-DC36-4AD7-9A37-03CC35EF8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9DF47-8609-48E0-9B84-B6B15D20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775B-9CDA-4F6A-8375-F63CBAC16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4F4A6-8C29-4045-B337-6CE97B9BF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9C03A-30B2-4E22-A17F-0E1435AEC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4076C-0F54-4F4B-93F3-101E68254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24FDC-85C9-4062-B36A-E8096EB932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ADC79-3D73-41ED-957B-ADD3AF245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CF62F-25C7-4C19-96DA-78F272686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2D4E-C3BC-4948-860B-3119A3053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0F760-F479-4EE6-BD56-C797DB905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2CEF4-1150-4B16-8973-3EA78641D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4094E-92BD-42F1-A2D7-EB0D7FF85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A3EE5-4818-4A92-901F-C35CCCCF8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46516-3C11-42C6-BF07-5BB724E72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CFC05-55DF-477E-AF6D-C9C60ABACD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95E30-BDDB-4615-8207-D20FFA0AB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38BC2-CC72-49D1-BE40-ADD656A03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4E3CB4-80DB-46EE-9B1E-D94D7135D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E2B85-BC70-49D7-9788-DF8F7FEA4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F4256-55E8-4252-9A3F-F3B21BE32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61D9B-080B-4C38-9B0B-E8AA3A1A3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57AB-CD05-41D0-9F00-57202791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91B76-B3A8-4298-93BD-03B26A22D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FCAAE-AFA1-4669-8144-9E069D2FA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41AA7-9376-40D4-8FF5-5D56FF8DF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3702A-BEDD-4910-A8E8-C0D5C8DB6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B5BA0-0D81-4CF3-9772-787BE7706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3F6D3-78DC-4BFB-AA96-58F76C2BC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8C4BE-FB42-4ECE-BEB2-2AED80A7A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E721D4-6A4D-4974-B204-EAB006E5EE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62F93D-CF59-4F6F-9CBF-79E4B6379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9FE14C-CAE9-454F-BC58-9C53B85E6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1C12-529C-4232-AD95-7C44D755B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4A4EA2-4D0E-4F18-9674-EB912F36B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8D370-8E26-47A3-813C-C5717A7D7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87888-DCB2-4A0A-92E4-AE743DE9B2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38B3F-63E5-44EC-A892-F309E8CF1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FCFB2-C9DE-48EA-B7F6-6CCE12831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BF61B-FC0A-4006-972C-45C0B2932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AF59B-8A46-4930-8AA8-8B0ECB123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18391-7460-41D2-9B01-E6893DB98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BC80E-1993-48C5-8E6A-A9A2B5A5D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93132-77D8-4862-A654-EF1C0A6122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EBDA-DE40-42CC-AE57-90FEBCAC2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5077C-4F0F-4BB1-AC77-1F9907BE4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F58735-8DA6-4C24-BA30-F74DB41E0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27214-2907-47D0-A1F7-A46E8D5AC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68DA3-EDDF-4DED-8323-80BB7797C3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4781F-432F-4E24-8735-E43C20911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A4119-A721-4FCC-AC50-BA6FFA248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12897-B109-4B7F-A7FA-1364A3683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B005A-D24D-441E-A585-BC4A1788A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80FA9-60AA-4AA8-BE66-8E4C6976D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52D4C-DF9E-4DE5-B279-7C6EF5CE7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A636F-6A68-4B34-B6C2-98290912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20C310-AC47-4A1E-B247-678C145E19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EE56EB-40E8-432E-B4F1-41421EAF3B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A961C-56EB-4C9F-BDEF-45F22D6208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421DB-5CB2-4974-B338-5E4D491126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87C09-4F6C-404B-9590-C237459F6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E43D2-9E91-4260-A9B5-FF50785D6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19D25-BB16-4530-A175-9B4DF107D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DB9CA-0767-402A-985B-F53E547AA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30B40-C9E3-4DB7-8132-583FD42B2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DCA28-23F8-4904-AEC8-4CC032FF4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DA99-8B29-4E4E-AB20-16936EA96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15655-749E-44DA-9547-9B8FBFC4D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E33A2-1578-4312-B556-DE6C0B99D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BC0DE-17DE-4E64-9A40-D944C3278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ECAFA5-BC96-4ADA-BCE6-B0C771186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74B99-32DC-46CE-B78D-DBB93723AC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E82AA1-419B-4704-ADB5-458C96717E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4545FC-6960-47DA-BEF6-8A44CBFDB1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BFCC2-EE24-47B8-AC7C-17738EC0F7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D590F7-64D4-4821-B16C-76FF189BA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D171A-4ABD-4BA2-89E1-8D5FF081B1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E9B3-8125-418E-81D7-99A50DCD9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6080C-F973-425D-A366-2CCDA0B06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13C51-9E27-4CDD-9D6D-A7205774B6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498A50-608D-4C3A-8E0B-5C7624CED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384BE-3870-4FE4-A04D-D7597AEDB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BE81A-62EA-4098-8826-D5C0F196A2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4B71F-9958-4B7E-9207-D7C19D695F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41BC40-59B4-4671-B707-574BA2B749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348D79-5C55-4EE2-8701-4EF6547475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B8487B-EC03-4A20-B8CF-F4748256A8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4756E-899D-4422-BD5E-4ACA7F1D1E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9242-F9B9-4D16-82FB-B1405C82E0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67C5-36EF-4C4B-824A-08F23E6A81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EF22-44D0-4871-975E-8FEE186A3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A400-575C-4CE0-A6B4-9C7CBC5678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4"/>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15"/>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01B1-5550-4767-A483-F994197DAF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D6A8-A925-4D99-8C06-FEAAEEC3EA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4"/>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15"/>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4CA0-A0C4-4E4D-A78B-D8E83BF80D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BCF8-16A6-49B8-BC29-9DDFB0EE75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06E5-F544-412E-9A87-6368E76D98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DDEB-110F-4F45-99CA-0802FE6D7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95DF-4843-48A0-8465-00309AFD94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DA56-00D1-42E8-A990-8271625A7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34a5a"/>
                </a:solidFill>
                <a:latin typeface="Calibri"/>
              </a:rPr>
              <a:t>CMPT 880/890</a:t>
            </a:r>
            <a:br>
              <a:rPr sz="4000"/>
            </a:br>
            <a:r>
              <a:rPr b="0" lang="en-US" sz="4000" spc="-1" strike="noStrike">
                <a:solidFill>
                  <a:srgbClr val="434a5a"/>
                </a:solidFill>
                <a:latin typeface="Calibri"/>
              </a:rPr>
              <a:t>Research integrity and ethic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heaters often prosper</a:t>
            </a:r>
            <a:endParaRPr b="0" lang="en-US" sz="4000" spc="-1" strike="noStrike">
              <a:solidFill>
                <a:srgbClr val="5a6378"/>
              </a:solidFill>
              <a:latin typeface="Calibri"/>
            </a:endParaRPr>
          </a:p>
        </p:txBody>
      </p:sp>
      <p:sp>
        <p:nvSpPr>
          <p:cNvPr id="53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 he prosecute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espite the committee's conclusion, the university decided not to take any action against Chandra. …the investigation was dropped because Chandra accused the committee of bias and threatened to sue. "The university was facing a potential lawsuit," Strawbridge says. " There would be loss of reputation, loss of income, et cetera. We, you could be looking at a very, very large lawsuit. And the university would want to be sure it was on firm footing before it took any disciplinary ac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heaters often prosper</a:t>
            </a:r>
            <a:endParaRPr b="0" lang="en-US" sz="4000" spc="-1" strike="noStrike">
              <a:solidFill>
                <a:srgbClr val="5a6378"/>
              </a:solidFill>
              <a:latin typeface="Calibri"/>
            </a:endParaRPr>
          </a:p>
        </p:txBody>
      </p:sp>
      <p:sp>
        <p:nvSpPr>
          <p:cNvPr id="53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where is he now?</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ning a vitamin company in India</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lt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It’s not all black and white</a:t>
            </a:r>
            <a:endParaRPr b="0" lang="en-US" sz="4000" spc="-1" strike="noStrike">
              <a:solidFill>
                <a:srgbClr val="5a6378"/>
              </a:solidFill>
              <a:latin typeface="Calibri"/>
            </a:endParaRPr>
          </a:p>
        </p:txBody>
      </p:sp>
      <p:sp>
        <p:nvSpPr>
          <p:cNvPr id="54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ses of obvious misconduct are rar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r more cases of bending the rul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lthough these are rarely caught</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will face these grey areas regular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Integrity issues</a:t>
            </a:r>
            <a:endParaRPr b="0" lang="en-US" sz="4000" spc="-1" strike="noStrike">
              <a:solidFill>
                <a:srgbClr val="5a6378"/>
              </a:solidFill>
              <a:latin typeface="Calibri"/>
            </a:endParaRPr>
          </a:p>
        </p:txBody>
      </p:sp>
      <p:sp>
        <p:nvSpPr>
          <p:cNvPr id="54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techniqu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flicts of interes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n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d allocation of credi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s and neglig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sconduct and frau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xperimental techniques</a:t>
            </a:r>
            <a:endParaRPr b="0" lang="en-US" sz="4000" spc="-1" strike="noStrike">
              <a:solidFill>
                <a:srgbClr val="5a6378"/>
              </a:solidFill>
              <a:latin typeface="Calibri"/>
            </a:endParaRPr>
          </a:p>
        </p:txBody>
      </p:sp>
      <p:sp>
        <p:nvSpPr>
          <p:cNvPr id="54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eful methodology is vital to reliable conclusi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established methods are easier to accep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e required in all aspects: sampling, statistics, procedure, controls, selection of dat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se study: selection of dat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election of data</a:t>
            </a:r>
            <a:endParaRPr b="0" lang="en-US" sz="4000" spc="-1" strike="noStrike">
              <a:solidFill>
                <a:srgbClr val="5a6378"/>
              </a:solidFill>
              <a:latin typeface="Calibri"/>
            </a:endParaRPr>
          </a:p>
        </p:txBody>
      </p:sp>
      <p:pic>
        <p:nvPicPr>
          <p:cNvPr id="546" name="Picture 2" descr=""/>
          <p:cNvPicPr/>
          <p:nvPr/>
        </p:nvPicPr>
        <p:blipFill>
          <a:blip r:embed="rId1"/>
          <a:stretch/>
        </p:blipFill>
        <p:spPr>
          <a:xfrm>
            <a:off x="2021040" y="2286000"/>
            <a:ext cx="5101920" cy="2895480"/>
          </a:xfrm>
          <a:prstGeom prst="rect">
            <a:avLst/>
          </a:prstGeom>
          <a:ln w="9360">
            <a:solidFill>
              <a:srgbClr val="5a6378"/>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onflict of interest</a:t>
            </a:r>
            <a:endParaRPr b="0" lang="en-US" sz="4000" spc="-1" strike="noStrike">
              <a:solidFill>
                <a:srgbClr val="5a6378"/>
              </a:solidFill>
              <a:latin typeface="Calibri"/>
            </a:endParaRPr>
          </a:p>
        </p:txBody>
      </p:sp>
      <p:sp>
        <p:nvSpPr>
          <p:cNvPr id="54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viewing papers or grant proposal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sponsorship of research</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1994, 63 percent of clinical trials were taking place in academic settings. Ten years later, that figure had shrunk to 26 percent.” (www.slate.com)</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recent survey of academic IRB members found that nearly half had served as consultants to the drug industr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r. Nancy Oliveri</a:t>
            </a:r>
            <a:endParaRPr b="0" lang="en-US" sz="4000" spc="-1" strike="noStrike">
              <a:solidFill>
                <a:srgbClr val="5a6378"/>
              </a:solidFill>
              <a:latin typeface="Calibri"/>
            </a:endParaRPr>
          </a:p>
        </p:txBody>
      </p:sp>
      <p:sp>
        <p:nvSpPr>
          <p:cNvPr id="55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riprone is an oral iron chelating agent used in patients with thalassaemia to prevent iron toxicity from repeat blood transfusions. In 1989 Dr. Nancy Olivieri of the Hospital for Sick Children in Toronto started studying the efficacy and safety of deferiprone. The trials were supported initially by the Medical Research Council of Canada, and later by a Canadian pharmaceutical firm Apotex. The trials showed that deferiprone did not adequately control hepatic iron accumulation, and the hepatic iron concentration exceeded the safety threshold for increased risk of cardiac disease and early death. More extended studies suggested that the drug might accelerate the development of hepatic fibrosis.</a:t>
            </a:r>
            <a:endParaRPr b="0" lang="en-US" sz="2400" spc="-1" strike="noStrike">
              <a:solidFill>
                <a:srgbClr val="000000"/>
              </a:solidFill>
              <a:latin typeface="Calibri"/>
            </a:endParaRPr>
          </a:p>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r. Nancy Oliveri</a:t>
            </a:r>
            <a:endParaRPr b="0" lang="en-US" sz="4000" spc="-1" strike="noStrike">
              <a:solidFill>
                <a:srgbClr val="5a6378"/>
              </a:solidFill>
              <a:latin typeface="Calibri"/>
            </a:endParaRPr>
          </a:p>
        </p:txBody>
      </p:sp>
      <p:sp>
        <p:nvSpPr>
          <p:cNvPr id="55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 Olivieri communicated her findings to the company but the company threatened to take legal action against her if she revealed her findings to her patients and the scientific community citing a non-disclosure agreement under the terms of which she was not allowed to disclose the findings of her research to any third party for 3 years. Within a few years two lawsuits totaling $20 million were formally lodged against her.</a:t>
            </a:r>
            <a:r>
              <a:rPr b="0" lang="en-US" sz="2200" spc="-1" strike="noStrike" baseline="30000">
                <a:solidFill>
                  <a:srgbClr val="000000"/>
                </a:solidFill>
                <a:latin typeface="Calibri"/>
              </a:rPr>
              <a:t> </a:t>
            </a:r>
            <a:r>
              <a:rPr b="0" lang="en-US" sz="2200" spc="-1" strike="noStrike">
                <a:solidFill>
                  <a:srgbClr val="000000"/>
                </a:solidFill>
                <a:latin typeface="Calibri"/>
              </a:rPr>
              <a:t>Apotex dismissed her from the steering group of the trials, stopped all clinical trials involving Olivieri and tried to stop her from publishing her results.</a:t>
            </a:r>
            <a:r>
              <a:rPr b="0" lang="en-US" sz="2200" spc="-1" strike="noStrike" baseline="30000">
                <a:solidFill>
                  <a:srgbClr val="000000"/>
                </a:solidFill>
                <a:latin typeface="Calibri"/>
              </a:rPr>
              <a:t> </a:t>
            </a:r>
            <a:r>
              <a:rPr b="0" lang="en-US" sz="2200" spc="-1" strike="noStrike">
                <a:solidFill>
                  <a:srgbClr val="000000"/>
                </a:solidFill>
                <a:latin typeface="Calibri"/>
              </a:rPr>
              <a:t>She was dismissed from her position at the hospital, removed as director of the Toronto haemoglobinopathies program, charged with "research misconduct" and referred to the College of Physicians and Surgeons of Ontario, which later exonerated her of all charges.</a:t>
            </a:r>
            <a:r>
              <a:rPr b="0" lang="en-US" sz="2200" spc="-1" strike="noStrike" baseline="30000">
                <a:solidFill>
                  <a:srgbClr val="000000"/>
                </a:solidFill>
                <a:latin typeface="Calibri"/>
              </a:rPr>
              <a:t> </a:t>
            </a:r>
            <a:r>
              <a:rPr b="0" lang="en-US" sz="2200" spc="-1" strike="noStrike">
                <a:solidFill>
                  <a:srgbClr val="000000"/>
                </a:solidFill>
                <a:latin typeface="Calibri"/>
              </a:rPr>
              <a:t>Dr Olivieri did eventually get her findings published in scientific journals despite being under severe pressure from the company.</a:t>
            </a:r>
            <a:endParaRPr b="0" lang="en-US" sz="22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r. Nancy Oliveri</a:t>
            </a:r>
            <a:endParaRPr b="0" lang="en-US" sz="4000" spc="-1" strike="noStrike">
              <a:solidFill>
                <a:srgbClr val="5a6378"/>
              </a:solidFill>
              <a:latin typeface="Calibri"/>
            </a:endParaRPr>
          </a:p>
        </p:txBody>
      </p:sp>
      <p:sp>
        <p:nvSpPr>
          <p:cNvPr id="55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or Joycelyn Downie, the Director of the Health Law Institute at Dalhousie University, has revealed there was more. The independent inquiry she conducted with two other academics was highly critical of Toronto University for not supporting its researcher. It noted the University and the drug company Apotex, were negotiating a donation of $30-million to build a biomedical research centre. The actual figure at stake was $96-million when matching government grants were added in. Professor Downie says that overshadowed almost every action and decision taken about Dr. Oliveri.</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ww.abc.net.au/rn/talks/8.30/helthrpt/stories/s971469.ht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0"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ce as a social enterpris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eaters often prosp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su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mental techniqu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licts of interes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nes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hip and allocation of credi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rors and negligenc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conduct and fraud</a:t>
            </a:r>
            <a:endParaRPr b="0" lang="en-US" sz="2400" spc="-1" strike="noStrike">
              <a:solidFill>
                <a:srgbClr val="000000"/>
              </a:solidFill>
              <a:latin typeface="Calibri"/>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Grey areas</a:t>
            </a:r>
            <a:endParaRPr b="0" lang="en-US" sz="4000" spc="-1" strike="noStrike">
              <a:solidFill>
                <a:srgbClr val="5a6378"/>
              </a:solidFill>
              <a:latin typeface="Calibri"/>
            </a:endParaRPr>
          </a:p>
        </p:txBody>
      </p:sp>
      <p:sp>
        <p:nvSpPr>
          <p:cNvPr id="55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have received a research grant from SuperMouse corporation to test their new mouse desig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pany plans to fund you for several other research projects in the futur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rly results show that the mouse is ineffective</a:t>
            </a:r>
            <a:endParaRPr b="0" lang="en-US" sz="2600" spc="-1" strike="noStrike">
              <a:solidFill>
                <a:srgbClr val="000000"/>
              </a:solidFill>
              <a:latin typeface="Calibri"/>
            </a:endParaRPr>
          </a:p>
        </p:txBody>
      </p:sp>
      <p:pic>
        <p:nvPicPr>
          <p:cNvPr id="557" name="Picture 2" descr=""/>
          <p:cNvPicPr/>
          <p:nvPr/>
        </p:nvPicPr>
        <p:blipFill>
          <a:blip r:embed="rId1"/>
          <a:srcRect l="2850" t="4845" r="56601" b="24854"/>
          <a:stretch/>
        </p:blipFill>
        <p:spPr>
          <a:xfrm>
            <a:off x="2590920" y="4267080"/>
            <a:ext cx="3657600" cy="2210040"/>
          </a:xfrm>
          <a:prstGeom prst="rect">
            <a:avLst/>
          </a:prstGeom>
          <a:ln w="9360">
            <a:solidFill>
              <a:srgbClr val="5a6378"/>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penness in reporting and sharing</a:t>
            </a:r>
            <a:endParaRPr b="0" lang="en-US" sz="4000" spc="-1" strike="noStrike">
              <a:solidFill>
                <a:srgbClr val="5a6378"/>
              </a:solidFill>
              <a:latin typeface="Calibri"/>
            </a:endParaRPr>
          </a:p>
        </p:txBody>
      </p:sp>
      <p:sp>
        <p:nvSpPr>
          <p:cNvPr id="559"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n the latter half of the seventeenth century, many scientists sought to keep their work secret so that others could not claim it as their own.”</a:t>
            </a:r>
            <a:endParaRPr b="0" lang="en-US" sz="26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n being a scientist</a:t>
            </a:r>
            <a:endParaRPr b="0" lang="en-US" sz="20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scientists share idea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scientists make data availabl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venue should a scientist use to publicize resul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ent or publis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uthorship and credit</a:t>
            </a:r>
            <a:endParaRPr b="0" lang="en-US" sz="4000" spc="-1" strike="noStrike">
              <a:solidFill>
                <a:srgbClr val="5a6378"/>
              </a:solidFill>
              <a:latin typeface="Calibri"/>
            </a:endParaRPr>
          </a:p>
        </p:txBody>
      </p:sp>
      <p:sp>
        <p:nvSpPr>
          <p:cNvPr id="561"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papers, three types of credi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hip, Acknowledgments, Citation</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you decide who gets authorship?</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better to be generou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you decide what order?</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lk about it earl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 best spot depends on the venu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approach: a research contribution involves three thirds: the ideas, the research work, and the paper</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k people in order of their contribution to the proj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uthorship and credit</a:t>
            </a:r>
            <a:endParaRPr b="0" lang="en-US" sz="4000" spc="-1" strike="noStrike">
              <a:solidFill>
                <a:srgbClr val="5a6378"/>
              </a:solidFill>
              <a:latin typeface="Calibri"/>
            </a:endParaRPr>
          </a:p>
        </p:txBody>
      </p:sp>
      <p:sp>
        <p:nvSpPr>
          <p:cNvPr id="563"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Credit where credit is due” case stud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hould Ben have don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lsars case stud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rror and negligence</a:t>
            </a:r>
            <a:endParaRPr b="0" lang="en-US" sz="4000" spc="-1" strike="noStrike">
              <a:solidFill>
                <a:srgbClr val="5a6378"/>
              </a:solidFill>
              <a:latin typeface="Calibri"/>
            </a:endParaRPr>
          </a:p>
        </p:txBody>
      </p:sp>
      <p:sp>
        <p:nvSpPr>
          <p:cNvPr id="565"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f you make an error?</a:t>
            </a:r>
            <a:endParaRPr b="0" lang="en-US" sz="2400" spc="-1" strike="noStrike">
              <a:solidFill>
                <a:srgbClr val="000000"/>
              </a:solidFill>
              <a:latin typeface="Calibri"/>
            </a:endParaRPr>
          </a:p>
          <a:p>
            <a:pPr lvl="1" marL="547560" indent="-228600">
              <a:lnSpc>
                <a:spcPct val="8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you publish two papers showing that frequency-based caching is best for web servers</a:t>
            </a:r>
            <a:endParaRPr b="0" lang="en-US" sz="2200" spc="-1" strike="noStrike">
              <a:solidFill>
                <a:srgbClr val="000000"/>
              </a:solidFill>
              <a:latin typeface="Calibri"/>
            </a:endParaRPr>
          </a:p>
          <a:p>
            <a:pPr lvl="1" marL="547560" indent="-228600">
              <a:lnSpc>
                <a:spcPct val="8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w you realize that your analysis was flawed</a:t>
            </a:r>
            <a:endParaRPr b="0" lang="en-US" sz="22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line between negligence and error?</a:t>
            </a:r>
            <a:endParaRPr b="0" lang="en-US" sz="2400" spc="-1" strike="noStrike">
              <a:solidFill>
                <a:srgbClr val="000000"/>
              </a:solidFill>
              <a:latin typeface="Calibri"/>
            </a:endParaRPr>
          </a:p>
          <a:p>
            <a:pPr lvl="1" marL="547560" indent="-228600">
              <a:lnSpc>
                <a:spcPct val="8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By introducing preventable errors into science, sloppy or negligent research can do great damage-even if the error is eventually uncovered and corrected. Though science is built on the idea of peer validation and acceptance, actual replication is selective. It is not practical (or necessary) to reconstruct all the observations and theoretical constructs that go into an investigation. Researchers have to trust that previous investigators performed the work as reported.”</a:t>
            </a:r>
            <a:endParaRPr b="0" lang="en-US" sz="2200" spc="-1" strike="noStrike">
              <a:solidFill>
                <a:srgbClr val="000000"/>
              </a:solidFill>
              <a:latin typeface="Calibri"/>
            </a:endParaRPr>
          </a:p>
          <a:p>
            <a:pPr lvl="2" marL="822240" indent="-228600">
              <a:lnSpc>
                <a:spcPct val="80000"/>
              </a:lnSpc>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On being a scientis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rror and negligence</a:t>
            </a:r>
            <a:endParaRPr b="0" lang="en-US" sz="4000" spc="-1" strike="noStrike">
              <a:solidFill>
                <a:srgbClr val="5a6378"/>
              </a:solidFill>
              <a:latin typeface="Calibri"/>
            </a:endParaRPr>
          </a:p>
        </p:txBody>
      </p:sp>
      <p:sp>
        <p:nvSpPr>
          <p:cNvPr id="567"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f you just stop believing in the idea?</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sheye view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cy-based read wea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t the same as either error or negligenc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s long as you did the earlier studies with integrit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Misconduct</a:t>
            </a:r>
            <a:endParaRPr b="0" lang="en-US" sz="4000" spc="-1" strike="noStrike">
              <a:solidFill>
                <a:srgbClr val="5a6378"/>
              </a:solidFill>
              <a:latin typeface="Calibri"/>
            </a:endParaRPr>
          </a:p>
        </p:txBody>
      </p:sp>
      <p:sp>
        <p:nvSpPr>
          <p:cNvPr id="569"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brication of result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Chandra</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ing data</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djusting the facts to fit the theory”</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giaris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ufficient citation in a paper</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right copying from someone else’s paper</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plagiarism?</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representation on the CV</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Fabrication in a grant application” case stud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Good luck</a:t>
            </a:r>
            <a:endParaRPr b="0" lang="en-US" sz="4000" spc="-1" strike="noStrike">
              <a:solidFill>
                <a:srgbClr val="5a6378"/>
              </a:solidFill>
              <a:latin typeface="Calibri"/>
            </a:endParaRPr>
          </a:p>
        </p:txBody>
      </p:sp>
      <p:sp>
        <p:nvSpPr>
          <p:cNvPr id="571"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o I have just one wish for you -- the good luck to be somewhere where you are free to maintain the kind of integrity I have described, and where you do not feel forced by a need to maintain your position in the organization, or financial support, or so on, to lose your integrity. May you have that freedo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Feynman, </a:t>
            </a:r>
            <a:r>
              <a:rPr b="0" i="1" lang="en-US" sz="2400" spc="-1" strike="noStrike">
                <a:solidFill>
                  <a:srgbClr val="000000"/>
                </a:solidFill>
                <a:latin typeface="Calibri"/>
              </a:rPr>
              <a:t>Cargo Cult Sc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ce as a social enterprise</a:t>
            </a:r>
            <a:endParaRPr b="0" lang="en-US" sz="4000" spc="-1" strike="noStrike">
              <a:solidFill>
                <a:srgbClr val="5a6378"/>
              </a:solidFill>
              <a:latin typeface="Calibri"/>
            </a:endParaRPr>
          </a:p>
        </p:txBody>
      </p:sp>
      <p:sp>
        <p:nvSpPr>
          <p:cNvPr id="52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Much science-in-the-making appears as art until it becomes settled science. Latour defines science-in-the-making as the processes by which scientific facts are proposed, argued, and accepted. A new proposition is argued and studied in publications, conferences, letters, email correspondence, discussions, debates, practice, and repeated experiments. It becomes a “fact” only after it wins many allies among scientists and others using it. Latour sees science-in-the-making as a messy, political, human process, fraught with emotion and occasional polemic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ning, p.29</a:t>
            </a:r>
            <a:endParaRPr b="0" lang="en-US" sz="22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ce as a social enterprise</a:t>
            </a:r>
            <a:endParaRPr b="0" lang="en-US" sz="4000" spc="-1" strike="noStrike">
              <a:solidFill>
                <a:srgbClr val="5a6378"/>
              </a:solidFill>
              <a:latin typeface="Calibri"/>
            </a:endParaRPr>
          </a:p>
        </p:txBody>
      </p:sp>
      <p:sp>
        <p:nvSpPr>
          <p:cNvPr id="52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itial acceptance of scientific contributions is based on trus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pers in conferences and journal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replic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 moves quickl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have little tim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ce as a social enterprise</a:t>
            </a:r>
            <a:endParaRPr b="0" lang="en-US" sz="4000" spc="-1" strike="noStrike">
              <a:solidFill>
                <a:srgbClr val="5a6378"/>
              </a:solidFill>
              <a:latin typeface="Calibri"/>
            </a:endParaRPr>
          </a:p>
        </p:txBody>
      </p:sp>
      <p:sp>
        <p:nvSpPr>
          <p:cNvPr id="52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is enormous pressure to be productive in the early stages of a research career</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y say in Toronto: “publish or prairi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want to be careful and cautious (with few pubs) or a brave discoverer (with many pub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ch depends on your reput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ce as a social enterprise</a:t>
            </a:r>
            <a:endParaRPr b="0" lang="en-US" sz="4000" spc="-1" strike="noStrike">
              <a:solidFill>
                <a:srgbClr val="5a6378"/>
              </a:solidFill>
              <a:latin typeface="Calibri"/>
            </a:endParaRPr>
          </a:p>
        </p:txBody>
      </p:sp>
      <p:sp>
        <p:nvSpPr>
          <p:cNvPr id="52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 the longer ter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eptance of an idea into the ‘body of knowledge’ is based on a greater weight of evidenc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triangulation of evaluation method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gain, much depends on your reput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ventually…</a:t>
            </a:r>
            <a:endParaRPr b="0" lang="en-US" sz="4000" spc="-1" strike="noStrike">
              <a:solidFill>
                <a:srgbClr val="5a6378"/>
              </a:solidFill>
              <a:latin typeface="Calibri"/>
            </a:endParaRPr>
          </a:p>
        </p:txBody>
      </p:sp>
      <p:sp>
        <p:nvSpPr>
          <p:cNvPr id="53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We've learned from experience that the truth will come out. Other experimenters will repeat your experiment and find out whether you were wrong or right. Nature's phenomena will agree or they'll disagree with your theory. And, although you may gain some temporary fame and excitement, you will not gain a good reputation as a scientist if you haven't tried to be very careful in this kind of work. And it's this type of integrity, this kind of care not to fool yourself, that is missing to a large exten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Feynman, </a:t>
            </a:r>
            <a:r>
              <a:rPr b="0" i="1" lang="en-US" sz="2400" spc="-1" strike="noStrike">
                <a:solidFill>
                  <a:srgbClr val="000000"/>
                </a:solidFill>
                <a:latin typeface="Calibri"/>
              </a:rPr>
              <a:t>Cargo Cult Scien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heaters often prosper</a:t>
            </a:r>
            <a:endParaRPr b="0" lang="en-US" sz="4000" spc="-1" strike="noStrike">
              <a:solidFill>
                <a:srgbClr val="5a6378"/>
              </a:solidFill>
              <a:latin typeface="Calibri"/>
            </a:endParaRPr>
          </a:p>
        </p:txBody>
      </p:sp>
      <p:sp>
        <p:nvSpPr>
          <p:cNvPr id="53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 Ranjit Chandra, Memorial Universit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ipient of the Order of Canada</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many publicati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jewel of Memo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heaters often prosper</a:t>
            </a:r>
            <a:endParaRPr b="0" lang="en-US" sz="4000" spc="-1" strike="noStrike">
              <a:solidFill>
                <a:srgbClr val="5a6378"/>
              </a:solidFill>
              <a:latin typeface="Calibri"/>
            </a:endParaRPr>
          </a:p>
        </p:txBody>
      </p:sp>
      <p:sp>
        <p:nvSpPr>
          <p:cNvPr id="53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 would say there was only probably one-quarter of the patients even recruited in this study," Harvey says. "And he had all of the data analyzed and published even before we had even had the data collected!" </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ase of Dr. Chand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10-22T08:03:05Z</dcterms:modified>
  <cp:revision>181</cp:revision>
  <dc:subject/>
  <dc:title>CMPT 105 Building Interactive Systems</dc:title>
</cp:coreProperties>
</file>