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E8A-D717-431E-9CA4-4CD70E6CC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5CC0-8859-432F-8E9B-547152D3700B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2AD-C641-44CD-983B-A0B3219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0A4-3611-47D1-8EFD-423A948B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C19A6-1F78-41AE-93C8-F7E4DBF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8BC8-B139-4F1A-90A4-805E39D8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B9E3-9201-4748-A6DD-E8384B08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88464-F346-4BB6-BCA9-83EB6AD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C687B-564B-4E1C-95B8-EA25D8FE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E2141-36E1-44D4-9E16-F0CD8A34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28A3A-9109-4A69-97C1-4EE057B1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08026-693F-42A8-88E6-AC799270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55B09-778E-4580-908F-FBE287D7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B035D-CC19-412B-B6F8-5F7293A3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D68-6864-4986-8073-FA7882E7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CA223-B8F3-481C-9359-F7ECA9F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9C156-B213-4CF6-9E80-65ECDB4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97DCA-EEB2-4616-B1BB-675A8FE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1FD7E-34BF-4B1B-A390-1A7D2E99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81E69-0399-4662-9C66-C629E44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DDE97-55A0-4A1E-8A81-5B2B5C9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2FC07-C00F-4E84-BB72-6BF59F6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3EEA7-F76B-45D5-A286-87F4909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A988C-D4CF-48B6-A8D6-4B569E0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B9BB3-55C7-482E-BD56-F18CB262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030-0E93-4A7E-A8B6-9115B5EE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ABD62-CFE7-4E9D-8063-01B9F58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8545-DE4F-4DEF-9E45-0AABE8FD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C68F-45BD-41D2-8A8A-55839BB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061D1-610C-4B3F-991A-FD18A20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6E56-A811-4A0E-9D70-FE140F08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44407-1CB2-4F67-B240-5A6358B7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EA38F-1247-458B-A1C2-E5C8B5B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1935A-926C-43EC-B208-9D248A5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D2394-3152-4A8F-AF66-CCB8088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F59F-E50B-4521-A707-4989A09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44E-B949-41CF-AD18-93F97419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9712-22A0-4C85-88EF-21606D7D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6A146-F6CC-4283-9CEF-0AB0927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B876-483A-4016-A00E-CBE1F9F5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0EEE-06E5-4841-A1D7-50FFF864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11F6F-EE4E-469A-9148-A60F72F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CAFDD-4D47-4601-91E3-ABF6C90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A15E1-BE87-4964-8D47-87E8F65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0F7E9-1CEC-44D0-B780-D971283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0E234-8D4B-4ECF-9A8E-6DCA9B06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AFC52-4A74-40C4-B9D5-EEC42F8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6343-F6B1-4BE9-859F-B57480B5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9E360-C42F-4844-B8B0-E7C0542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5ADE-9E5A-4902-8441-7E86CDE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B0C6D-C01F-4FC7-9340-9CB10A7E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81A83-C857-4A9A-84C8-C35BC308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E5817-F1B2-4610-9A7C-034D803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3992-EE8E-4682-9BB5-7B061332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6747-C0D6-4FD3-A3AA-AE2A202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19B-0A8C-4583-A647-7A7CEBB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135-E960-4432-B475-4A25B1E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480-F03F-4235-9A15-CA0C360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6A0-921D-4D88-BC05-3BC4B45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AFE9-0F09-40F2-BADF-CA6B352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BA57-BFCF-4ABF-B503-7E04093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BE8C-4D49-446B-B4B0-D36FEC8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5AA3-5AC6-49C9-80F9-CE6B1BEE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AA3-610D-45E8-A290-3E966015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84D5-4C0D-4E75-BBBD-E65A832F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C49E-C407-4F8F-B59F-0E9EA5C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99D4-E9FE-4FE2-BF53-7D5FEB2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E182-40C4-4052-AB5E-58A8B4E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A94A-E2E7-4F20-B776-A4C21357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174-DFE1-4C57-A8E0-C87CB4D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3D1A-BE4F-4A28-A8C6-25FE053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41EC-4E89-4FDF-AE6D-57E7D2B1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0403A-A836-4856-9DB4-7F563C61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1F63-56B5-4656-BD9A-BD88AB5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A488-2E4A-4458-8BFC-CF96319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4429-39C3-4CC6-95AD-B8B3BF1E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6252-7F0D-4BE9-9D9C-CA16C65C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5842-0143-42EC-897F-7C935EB0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2296-7EA5-48F2-A725-E4275F5B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4BAA-E382-42AE-9967-73937D5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6F3-0AA0-4804-9A85-6CC6D08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671F-F637-4906-B298-C815F0F1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4E8D-D440-4AED-967C-4149923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F010-39E0-4DE1-8535-6407B832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4BF9-EA53-4AB1-A44B-6F640DC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88A0-1439-4CB7-A158-ABE3B1D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7DD2-CE69-4898-9251-6FDD398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8A69-88FA-43B5-A11D-C71E2A3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097A-D7D3-41C8-A476-3C6044F1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FE25-F15D-427F-86A0-67AC1A2F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1AD0-3F75-4BB4-803E-A6DF0DB0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FE7-2493-4F55-8E70-E3D2A3A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BC81-A1B9-4D61-B1A1-4E807D5C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7245-18F5-40ED-A306-C5DF8B18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2355-3602-4E3C-8706-476340D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6291-8192-4586-B679-FD049DB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6962-5C8D-496B-A7E3-0AFCCE21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3845-93B1-4CA1-A3E9-AEEB5BC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FC74-FDAE-4B7E-914F-76920BE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2634-D73C-42D1-BE4C-5DC7E4F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B6A2B-3743-4825-845D-D4B1341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2BD5C-0BD0-4614-9B55-9683E119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5DD-D968-44E7-8072-4EF7E47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2A2D-CFE3-42D2-A289-43E73FB4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D2EA-0BE9-4765-9865-D3CEBEF1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4CA4-E02F-4F6B-88A6-120F7FE9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918CA-0799-4F63-A13D-837E609A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8EFE-0BFA-4958-985F-1400ADD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BDEEE-5CA6-45B6-9AC0-830E36A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FF79-F9B8-445B-9910-FC1583A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8800-86A4-4A27-BC79-C3F6F70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3387-0A32-4DB6-BB89-5840105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CF0D4-D759-47EE-B525-4BED1F96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488-57BE-4FBB-930B-6DC6B1F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7D5A-1BB1-455F-88DC-FEB85CFE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4F75-B337-4831-93D2-04BB7148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CC1F-84A0-4088-923E-356E157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FA68-A062-4857-9904-DF0B150C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36D5-6638-4373-9D9C-43BF4A63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DEC4-6084-45D2-9BE8-0E8D924B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D1D3-2C71-4390-8B21-5132B79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A672-8722-4D9D-BB92-063A734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91A2B-D174-461B-AB42-16FC810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7A8C-09DD-4B59-B190-DDF09F9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B13-C140-4B2D-842F-57E0A9B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4481-D462-4D93-8914-1C90D76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1AA5-C382-4F6F-8A49-FF4D086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CE51-8DBB-4F11-B74D-F8F9634C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F1A3-E7AA-489B-AE1E-379E44DF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F81A-7F24-4278-909D-1A2FFE79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BFE2-43D7-4D71-8169-69BEE525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E512-A632-47BD-9594-B24A7822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EB1EF-562A-4A92-8A2D-BB83165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9DEBA-5412-4136-B064-67BFF02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A323E-F84A-47B5-9385-5351E05F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717-5052-4B53-B8AC-133FE16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1F746-3CB4-4106-ACB1-13E6FCA7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5FBD3-E7E0-4E7D-AB33-0997552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FBA4-F68A-4484-A798-C8CEDBA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9FE80-F553-4D51-9CC9-779521C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6BB81-12FB-4328-8E9F-18228C3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DBAB7-9CF6-48B9-A42A-FC18D7B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425C-FB47-4979-A2BE-62EBFC9C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DE098-2658-49B4-92B0-25C914BE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64DE-A351-45D8-A4A2-CDD5DA8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04202-70E0-45E6-97A6-5BEA753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465-C4A6-481E-ABC0-098E2B7EF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24E-38CE-4A31-AD30-DC548C2E1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0391-27CD-4DC9-B277-89327B389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981-997E-43AB-A737-9A09A43A0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9A95-22A1-4864-AC4E-007C12910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50BC-3D9D-4620-9513-E42FC8E34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DB4-0CC2-4DA9-9448-FE85BA6EC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ABFC-3044-4532-B2A6-23B901780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7414-7F71-45FE-BCB5-62C32F5E5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ED2B-5A65-40D0-AEF9-FBF28352B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9336-3A48-4D06-9AAD-2DD30121E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362-EC45-4F7D-85D6-A551080AA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literature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literature”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shed papers in conferences or jour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s in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mon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reports? Web pa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egree of authority does this source provi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literature”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ary / Terti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ummaries and review 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yclopedias (what about Wikipedia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tructure of a lit review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vide into main s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general areas does your question relate t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human perception of colour, colour-blindness, information visualizations, adaptive recolo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 want to say about each are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background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a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the issues / principles / approaches in each area of previous resear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gument do you want to make in each sec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1143000" y="92160"/>
            <a:ext cx="6781680" cy="6613560"/>
          </a:xfrm>
          <a:prstGeom prst="rect">
            <a:avLst/>
          </a:prstGeom>
          <a:ln w="19080">
            <a:solidFill>
              <a:srgbClr val="bebec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143000" y="92160"/>
            <a:ext cx="6781680" cy="6613560"/>
          </a:xfrm>
          <a:prstGeom prst="rect">
            <a:avLst/>
          </a:prstGeom>
          <a:ln w="19080">
            <a:solidFill>
              <a:srgbClr val="bebec1"/>
            </a:solidFill>
            <a:miter/>
          </a:ln>
        </p:spPr>
      </p:pic>
      <p:sp>
        <p:nvSpPr>
          <p:cNvPr id="521" name="Oval 2"/>
          <p:cNvSpPr/>
          <p:nvPr/>
        </p:nvSpPr>
        <p:spPr>
          <a:xfrm>
            <a:off x="5181480" y="914400"/>
            <a:ext cx="3124440" cy="2895480"/>
          </a:xfrm>
          <a:prstGeom prst="ellipse">
            <a:avLst/>
          </a:prstGeom>
          <a:noFill/>
          <a:ln w="76320">
            <a:solidFill>
              <a:srgbClr val="d92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From last week: what’s your problem / question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a literature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to read papers in your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you decide what to put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should it be organiz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ell me your problems…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pic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if know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a literature review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critical, analytical summary and synthesis of the current knowledge of a topic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o your readers need to know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understand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back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concepts and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believe your clai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is a probl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is worth solving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urrent best way to solve X is 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one has attempted Z as a solution to X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Not (good) literature review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s on what you r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hy should your reader read thi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maries without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“…and then Smith reported A [12]; and then Jones reported B [14]. OK, next topic: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ther than a chronological listing of previous work, though, literature reviews are usually organized thematically (different theoretical approaches, methodologies, or specific issues involved in the topic)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thematic organization makes it much easier to examine contrasting perspectives, and to analyze the strengths and weaknesses of previous research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literature review may offer new interpretations, theoretical approaches, or other ideas; if it is part of a research proposal or report it should demonstrate the relationship of the proposed or reported research to others' work; but whatever else it does, it must provide a critical overview of the current state of research efforts.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literature review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nd-alone lit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ACM Computing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terature review for a propos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nt proposal, thesis/dissertation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terature review for a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per or 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he reading cycl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40800" cy="3353040"/>
          </a:xfrm>
          <a:prstGeom prst="rect">
            <a:avLst/>
          </a:prstGeom>
          <a:ln w="28440">
            <a:solidFill>
              <a:srgbClr val="d4d4d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10-01T20:19:33Z</dcterms:modified>
  <cp:revision>122</cp:revision>
  <dc:subject/>
  <dc:title>CMPT 105 Building Interactive Systems</dc:title>
</cp:coreProperties>
</file>