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move the slide</a:t>
            </a:r>
            <a:endParaRPr b="0" lang="en-US" sz="4000" spc="-1" strike="noStrike">
              <a:solidFill>
                <a:srgbClr val="5a6378"/>
              </a:solidFill>
              <a:latin typeface="Calibri"/>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FFE2-C0A4-439E-A0B3-C821D07A4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1FFB-1D8F-4836-AF7C-EBA45B7C936B}"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8FC2E-C424-4222-B9F2-EC02B8E96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6815-A0D0-476F-9F2F-95D5B6F0E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9E476-D731-4EDB-80F9-38144A059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0706EB-F61F-404C-A3A2-648C42FDBB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23635E-9D21-449C-AD80-FB24583231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93AF4-306C-457D-A213-66F09FF69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3E52ED-0BE1-415F-BD4D-543B24EA64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A96517-5CF9-4F62-B383-86F9A0B8C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0403B4-F442-4895-BDB6-A80D554018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ACAA85-4C78-40B1-A9E9-8C6AE826D7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89B62E-B3E4-4576-BAEA-35AAD1F27E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F3D1F3-3B3C-4E90-8D5F-E5645A5517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8336B-F533-45D8-8F0E-6C5558A24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6781EA-16BB-499E-A961-6368F7B5DC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84F093-A82E-4EC1-96EA-C6CD056FD7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CAB5B0-5189-40F7-985D-227AC1B7CC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EDC578-2241-4C98-947D-AE089EB22D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19C566-FE16-476C-AE38-D27F42068D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B8AD01-B49E-40AC-980B-1C09546F85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584154-A763-4E5E-8BF1-92DB11CF07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C623D9-8783-47F8-B216-F9E6A97DF3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B70B03-5CBE-4B7A-822E-9AEA96F41C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0EDF42-8BEC-4CBE-BABD-C8C089572A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BE58F-BAD3-4BF3-ABA6-D9211B3C1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0CC78F-E8B8-4F7A-8AF2-3315F1A1E9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00D8B9-E4B0-44AF-A0AB-CE659D9DBC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43C378-2C43-467E-8555-F8871ABBCA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B6E279-F47A-4AA7-8053-8167785A2E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60D5CF-3A1A-494A-A312-E8BA7B5602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3D6FBC-901D-4E00-A653-B32C35282B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165845-6D33-4E0C-A7D5-2BCD3D6CB0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98809D-9B40-40EB-80A4-A3D9F068AC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6CEDE7-83EC-4087-9889-10DBE591DE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40CF64-815A-4D4C-BCAB-B2D1BE9078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9AAC1-99A7-4300-998D-20487DBD8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44EE6C-44BD-46FC-8873-C9FC44E2B4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43EF3A-7C26-41B8-A3BE-BED2127FB1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BF2CDD-0A29-4481-B84B-A25FE3F970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FFC007-0A25-4F40-9A23-7E88690836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45EA0D-00C6-4ED6-8350-3FCAB55886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774A68-6133-499A-852A-838C703F1B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0FEE4C-69B6-4E23-B00D-84593DF05F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22F430-C0F9-495D-A873-962B8CAB1E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C87686-55B4-4954-8F88-CF27C2CE3D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746BD2-5519-4D96-9FE3-A08F705936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6FDF2-D40F-4729-AAF9-3E8A50F89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E3AF74-707F-491F-9AE8-38813C4230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2DD0FA-40F5-494F-89B6-1B84686AE7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92BD99-80BC-40D3-8918-DBCEC46412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85EF85-D80F-4463-9739-DA23108943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DAEAF5-3E0D-44ED-8B21-7C8D9D2C8B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E293D-B8B9-45A4-BB9F-D418B49C6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6D48A-BCAB-438E-868E-01E2DA60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F71C4-199A-4FFB-BC90-DB3E027BE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F8957-9711-4E1C-B302-5EC97327E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83057-A9DC-43FC-BCC8-645EF008C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A0FD5-30EE-4A95-9FAF-CF229E8C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60BB9-86E8-44BD-976E-A96AAD1F7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80EE7-1FC0-4032-A8D2-D1459DFAE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977C1-958F-4B6C-B9F8-C7139C775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72253-FAA8-4806-A69F-9545F3692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E7D0F-35BB-40D5-A4E5-DFCF9B0D4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6DD5C0-877C-4827-BD45-00F9F7FFAC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CF413-CF6D-45AF-AB91-37A9BA57D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27230-5635-4418-BB9F-E23EDA7B8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B2010-FB1C-4872-9B73-F69818060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41C4F-F5C0-4325-A21E-51B993334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DB461-5DE1-4923-9525-6DFF4BAA7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A7441-059C-49CA-AC64-F56E4728A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58331-7778-4448-A333-3F6AFC98D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A6021-E211-4540-AC27-A51F62D42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F4CE5-3B7C-4462-B2F2-415B6057A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8C33B-F390-47F1-8384-161D0EDE5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258EB2-0AB1-468E-B1E3-E50FDE8846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9FC7E-7B31-4365-88ED-CA215FC48A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288D4E-9294-42EA-A343-E030B25DF8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5533D-A5ED-45BB-B4C5-1486AED713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39C92-31DA-4294-9452-7CFC795A6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2A7F9-C3D6-4789-BA9E-0BF041326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029B6-908E-4C76-A01F-5FE379999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17884-EDA0-49FF-86E7-2D822BE33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3A87D-DF62-428D-B85A-6EC724A80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F89B5-B81A-4B33-A8F6-3AC0D5128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86D88-A4C4-42DE-AF27-E747FF1F2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8ED25-1726-480C-82EE-155E0AC71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A7835-7F24-4DE2-86BA-754AB7975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299AB-F37B-4909-9B1A-F6B19D5EF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664A3-096C-469D-AAD8-472AB3A06A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A40893-229F-471F-A0B0-09290870E5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8DF9-9875-4D76-A3D2-9529D1670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FF3ED-D582-4685-B3BC-8F87D0E67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87380-D8FC-4C11-9BD9-1CFFDD3EDD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7E9BB0-DF73-424F-A858-751C77997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B6ABC-65E4-4F6A-A1AA-14FB17D3D7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E8A13-E3C8-4C04-9E50-5B41D7531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978BF8-29E4-40DD-BB22-0776E585F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1F542-9573-4068-8794-9C5FD29CE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BD291-8DEC-4E67-A449-1198C9243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A0FB6-709A-4729-8EAA-FB3271BB0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903126-6CFC-4920-B56D-3372EDF2AF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8BE8E-BA4C-4DA2-9A38-79E72436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02BB81-8D72-45B0-A108-7CF77046A7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E6A00D-A815-42D3-9A71-2EAA83E6F9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7A445-6343-4088-821F-E7F11938BF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AD2B89-E932-4EA3-802C-6222B87A63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BFA25D-F833-462E-8B05-30E821D55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9E4F3-8AB8-4D71-993C-C970E837B4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7FC364-E9CA-4FCA-9FEA-8C15ABFDB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C987D-4AA6-42DE-9B88-628970BC7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EA576-617D-4504-81C2-E94B0A44F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F8A49E-2985-482F-9200-CAFFF9B6E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2819-A9FE-47CC-8BFE-597D5662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77D241-F408-4B9E-9D3E-E52A59DA21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19236B-02FF-4625-8512-281FF9A392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1A1D67-26F0-4A33-8DA4-87D395327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D003A4-C9A5-4F11-A1B7-4E4E1A7288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0AFE2-3273-45A1-9E1C-A63CA8E56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B6E77-7AEE-4EB5-896A-251FC64BC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B473B-47DE-41F6-8669-E513EC6939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8CF89-D71F-4B04-8E2D-775F1A53FB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611CA-4969-4DE9-B46F-39E4BD426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776A8-9847-43D4-81C5-5E25C2644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23CE-9EC4-4293-9E85-01B2356B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181CE-8B73-4D6B-A3F8-BD9419BBF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FD4B4-5998-4AAC-896D-E9FB1A41D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29F01-A819-4ACD-A533-F6EF78ABC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77CB7D-1116-455B-BF71-C0CCC8DE9E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889812-27E0-487B-9EB4-530C20E514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9CCACB-E961-4610-BD70-B6F54995AF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811294-DFAD-4854-B7CD-91B4E1AA45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817B1E-776F-4FAD-9704-9610B5B89C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D210EF-7D27-42DA-9D54-A168EB7DE2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69DE5-CDD3-4FCC-9DE6-3297F88619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C38E-B5C7-4B40-B21E-988EA3C30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173A6-DFC5-4810-B3B1-B7C3A083E3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679C6-9ED6-4022-999E-68ACBDBEA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408AD2-3DCC-4D41-B01B-A91EB60F9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07343-85C4-4AAF-8DA4-446F0EC35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CB8F85-B015-4875-9210-52A405EAD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9BA740-CD36-4A97-9683-9A5328AB6A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6829D9-98D0-4BDB-AE95-6DBB5D42BC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69DDEE-1405-4583-ABC7-9C9BB6FF81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9D2BFF-462F-450B-9696-29DF72D2C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BBFEA3-72AC-44B7-8850-B88AF1E620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9"/>
          <p:cNvSpPr/>
          <p:nvPr/>
        </p:nvSpPr>
        <p:spPr>
          <a:xfrm>
            <a:off x="0" y="0"/>
            <a:ext cx="9144000" cy="6858000"/>
          </a:xfrm>
          <a:prstGeom prst="rect">
            <a:avLst/>
          </a:prstGeom>
          <a:solidFill>
            <a:srgbClr val="60b5cc"/>
          </a:solidFill>
          <a:ln w="12600">
            <a:solidFill>
              <a:srgbClr val="b07e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ounded Rectangle 7"/>
          <p:cNvSpPr/>
          <p:nvPr/>
        </p:nvSpPr>
        <p:spPr>
          <a:xfrm>
            <a:off x="63360" y="7632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1537-5A2E-4667-8EDD-EA3A3B7F49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85" name="Rectangle 8"/>
          <p:cNvSpPr/>
          <p:nvPr/>
        </p:nvSpPr>
        <p:spPr>
          <a:xfrm flipV="1">
            <a:off x="68400" y="4682160"/>
            <a:ext cx="9007200" cy="91800"/>
          </a:xfrm>
          <a:prstGeom prst="rect">
            <a:avLst/>
          </a:prstGeom>
          <a:solidFill>
            <a:srgbClr val="f0ad00"/>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Rectangle 10"/>
          <p:cNvSpPr/>
          <p:nvPr/>
        </p:nvSpPr>
        <p:spPr>
          <a:xfrm>
            <a:off x="68400" y="4649760"/>
            <a:ext cx="900720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Rectangle 11"/>
          <p:cNvSpPr/>
          <p:nvPr/>
        </p:nvSpPr>
        <p:spPr>
          <a:xfrm>
            <a:off x="68400" y="4773600"/>
            <a:ext cx="9007200" cy="4752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74D0-C992-4F3A-9071-4ABD330299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5"/>
          <p:cNvSpPr>
            <a:spLocks noGrp="1"/>
          </p:cNvSpPr>
          <p:nvPr>
            <p:ph type="sldNum" idx="3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E294-BC1D-4501-BBC9-9BD7063713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PlaceHolder 5"/>
          <p:cNvSpPr>
            <a:spLocks noGrp="1"/>
          </p:cNvSpPr>
          <p:nvPr>
            <p:ph type="sldNum" idx="3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6904-D769-4309-AAA4-BCB8E1E09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10"/>
          <p:cNvSpPr/>
          <p:nvPr/>
        </p:nvSpPr>
        <p:spPr>
          <a:xfrm>
            <a:off x="65160" y="69840"/>
            <a:ext cx="9013680" cy="6691320"/>
          </a:xfrm>
          <a:prstGeom prst="roundRect">
            <a:avLst>
              <a:gd name="adj" fmla="val 4931"/>
            </a:avLst>
          </a:prstGeom>
          <a:solidFill>
            <a:srgbClr val="ffffff"/>
          </a:solid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1"/>
          <p:cNvSpPr/>
          <p:nvPr/>
        </p:nvSpPr>
        <p:spPr>
          <a:xfrm>
            <a:off x="63360" y="1449360"/>
            <a:ext cx="9020160" cy="15271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4"/>
          <p:cNvSpPr/>
          <p:nvPr/>
        </p:nvSpPr>
        <p:spPr>
          <a:xfrm>
            <a:off x="63360" y="1397160"/>
            <a:ext cx="9020160" cy="120600"/>
          </a:xfrm>
          <a:prstGeom prst="rect">
            <a:avLst/>
          </a:prstGeom>
          <a:solidFill>
            <a:srgbClr val="f6d3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ectangle 15"/>
          <p:cNvSpPr/>
          <p:nvPr/>
        </p:nvSpPr>
        <p:spPr>
          <a:xfrm>
            <a:off x="63360" y="2976480"/>
            <a:ext cx="9020160" cy="111240"/>
          </a:xfrm>
          <a:prstGeom prst="rect">
            <a:avLst/>
          </a:prstGeom>
          <a:solidFill>
            <a:srgbClr val="e886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21DE-AAAE-4F3A-9EA3-6A22BB511A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1" name="PlaceHolder 3"/>
          <p:cNvSpPr>
            <a:spLocks noGrp="1"/>
          </p:cNvSpPr>
          <p:nvPr>
            <p:ph type="dt" idx="7"/>
          </p:nvPr>
        </p:nvSpPr>
        <p:spPr>
          <a:xfrm>
            <a:off x="59432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6854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9"/>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2AC1-A5F4-4645-AF40-35055958B8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 name="Rounded Rectangle 10"/>
          <p:cNvGrpSpPr/>
          <p:nvPr/>
        </p:nvGrpSpPr>
        <p:grpSpPr>
          <a:xfrm>
            <a:off x="60480" y="60480"/>
            <a:ext cx="9028080" cy="6711840"/>
            <a:chOff x="60480" y="60480"/>
            <a:chExt cx="9028080" cy="6711840"/>
          </a:xfrm>
        </p:grpSpPr>
        <p:pic>
          <p:nvPicPr>
            <p:cNvPr id="132" name="Rounded Rectangle 10" descr=""/>
            <p:cNvPicPr/>
            <p:nvPr/>
          </p:nvPicPr>
          <p:blipFill>
            <a:blip r:embed="rId2"/>
            <a:stretch/>
          </p:blipFill>
          <p:spPr>
            <a:xfrm>
              <a:off x="60480" y="60480"/>
              <a:ext cx="902808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Rectangle 11"/>
          <p:cNvSpPr/>
          <p:nvPr/>
        </p:nvSpPr>
        <p:spPr>
          <a:xfrm flipV="1">
            <a:off x="69840" y="2376000"/>
            <a:ext cx="9013680" cy="92160"/>
          </a:xfrm>
          <a:prstGeom prst="rect">
            <a:avLst/>
          </a:prstGeom>
          <a:solidFill>
            <a:srgbClr val="f0ad0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4"/>
          <p:cNvSpPr/>
          <p:nvPr/>
        </p:nvSpPr>
        <p:spPr>
          <a:xfrm>
            <a:off x="69840" y="2341440"/>
            <a:ext cx="901368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15"/>
          <p:cNvSpPr/>
          <p:nvPr/>
        </p:nvSpPr>
        <p:spPr>
          <a:xfrm>
            <a:off x="68400" y="2468520"/>
            <a:ext cx="9015120" cy="4608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5"/>
          <p:cNvSpPr>
            <a:spLocks noGrp="1"/>
          </p:cNvSpPr>
          <p:nvPr>
            <p:ph type="sldNum" idx="12"/>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B2E2-A592-4D53-BC49-C3E3CB73ED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3B18-7383-4FC8-960E-669BADD84F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PlaceHolder 5"/>
          <p:cNvSpPr>
            <a:spLocks noGrp="1"/>
          </p:cNvSpPr>
          <p:nvPr>
            <p:ph type="sldNum" idx="18"/>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0A1C-7EEB-49FF-80EC-64D9681999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5"/>
          <p:cNvSpPr>
            <a:spLocks noGrp="1"/>
          </p:cNvSpPr>
          <p:nvPr>
            <p:ph type="sldNum" idx="21"/>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2E06-D617-4A3C-A79B-CB5E512B5D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1A1E-D22D-496E-B2FA-6EBCF9DBF5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4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5"/>
          <p:cNvSpPr>
            <a:spLocks noGrp="1"/>
          </p:cNvSpPr>
          <p:nvPr>
            <p:ph type="sldNum" idx="27"/>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15FE-18D7-4778-8036-ED2A16327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MPT 880/890</a:t>
            </a:r>
            <a:br>
              <a:rPr sz="4000"/>
            </a:br>
            <a:r>
              <a:rPr b="0" lang="en-US" sz="4000" spc="-1" strike="noStrike">
                <a:solidFill>
                  <a:srgbClr val="5a6378"/>
                </a:solidFill>
                <a:latin typeface="Calibri"/>
              </a:rPr>
              <a:t>The Scientific Method</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Problem/Question based research</a:t>
            </a:r>
            <a:endParaRPr b="0" lang="en-US" sz="4000" spc="-1" strike="noStrike">
              <a:solidFill>
                <a:srgbClr val="5a6378"/>
              </a:solidFill>
              <a:latin typeface="Calibri"/>
            </a:endParaRPr>
          </a:p>
        </p:txBody>
      </p:sp>
      <p:sp>
        <p:nvSpPr>
          <p:cNvPr id="53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ifferent view of the research proces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What’s the probl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Who cares about this problem and wh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How can the problem be solved?</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What has to be done to solve the probl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 How can you show that your solution is a good </a:t>
            </a:r>
            <a:br>
              <a:rPr sz="2600"/>
            </a:br>
            <a:r>
              <a:rPr b="0" lang="en-US" sz="2600" spc="-1" strike="noStrike">
                <a:solidFill>
                  <a:srgbClr val="000000"/>
                </a:solidFill>
                <a:latin typeface="Calibri"/>
              </a:rPr>
              <a:t>     solution to the probl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scientific method</a:t>
            </a:r>
            <a:endParaRPr b="0" lang="en-US" sz="4000" spc="-1" strike="noStrike">
              <a:solidFill>
                <a:srgbClr val="5a6378"/>
              </a:solidFill>
              <a:latin typeface="Calibri"/>
            </a:endParaRPr>
          </a:p>
        </p:txBody>
      </p:sp>
      <p:sp>
        <p:nvSpPr>
          <p:cNvPr id="53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A body of techniques for investigating phenomena, acquiring new knowledge, or correcting and integrating previous knowledge” (Wikipedia)</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logical scheme used by scientists searching for answers to the questions posed within science” (Dodig-Crnkovic)</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Hypothesis testing”</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Hypothesis testing</a:t>
            </a:r>
            <a:endParaRPr b="0" lang="en-US" sz="4000" spc="-1" strike="noStrike">
              <a:solidFill>
                <a:srgbClr val="5a6378"/>
              </a:solidFill>
              <a:latin typeface="Calibri"/>
            </a:endParaRPr>
          </a:p>
        </p:txBody>
      </p:sp>
      <p:sp>
        <p:nvSpPr>
          <p:cNvPr id="54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ques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ther information and resources (observ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 hypothesi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form experiment and collect data</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data</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pret data and draw conclusions that serve as a starting point for new hypothesi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blish resul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plicate (done by other scientists)</a:t>
            </a:r>
            <a:endParaRPr b="0" lang="en-US" sz="2600" spc="-1" strike="noStrike">
              <a:solidFill>
                <a:srgbClr val="000000"/>
              </a:solidFill>
              <a:latin typeface="Calibri"/>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Hypothesis </a:t>
            </a:r>
            <a:r>
              <a:rPr b="0" lang="en-US" sz="4000" spc="-1" strike="noStrike">
                <a:solidFill>
                  <a:srgbClr val="5a6378"/>
                </a:solidFill>
                <a:latin typeface="Wingdings"/>
                <a:ea typeface="Wingdings"/>
              </a:rPr>
              <a:t></a:t>
            </a:r>
            <a:r>
              <a:rPr b="0" lang="en-US" sz="4000" spc="-1" strike="noStrike">
                <a:solidFill>
                  <a:srgbClr val="5a6378"/>
                </a:solidFill>
                <a:latin typeface="Calibri"/>
              </a:rPr>
              <a:t> theory</a:t>
            </a:r>
            <a:endParaRPr b="0" lang="en-US" sz="4000" spc="-1" strike="noStrike">
              <a:solidFill>
                <a:srgbClr val="5a6378"/>
              </a:solidFill>
              <a:latin typeface="Calibri"/>
            </a:endParaRPr>
          </a:p>
        </p:txBody>
      </p:sp>
      <p:sp>
        <p:nvSpPr>
          <p:cNvPr id="54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When consistency is obtained, the hypothesis becomes a theory and provides a coherent set of propositions that define a new class of phenomena or a new theoretical concept” (Dodig-Crnkovic)</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e that theories can never be prove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ccumulate more and more evidenc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t>
            </a:r>
            <a:r>
              <a:rPr b="0" i="1" lang="en-US" sz="2400" spc="-1" strike="noStrike">
                <a:solidFill>
                  <a:srgbClr val="000000"/>
                </a:solidFill>
                <a:latin typeface="Calibri"/>
              </a:rPr>
              <a:t>can</a:t>
            </a:r>
            <a:r>
              <a:rPr b="0" lang="en-US" sz="2400" spc="-1" strike="noStrike">
                <a:solidFill>
                  <a:srgbClr val="000000"/>
                </a:solidFill>
                <a:latin typeface="Calibri"/>
              </a:rPr>
              <a:t> be dispro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ttributes for the scientific method</a:t>
            </a:r>
            <a:endParaRPr b="0" lang="en-US" sz="4000" spc="-1" strike="noStrike">
              <a:solidFill>
                <a:srgbClr val="5a6378"/>
              </a:solidFill>
              <a:latin typeface="Calibri"/>
            </a:endParaRPr>
          </a:p>
        </p:txBody>
      </p:sp>
      <p:sp>
        <p:nvSpPr>
          <p:cNvPr id="54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it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cis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nesty and opennes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er review</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disclosur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oes it really work that way?</a:t>
            </a:r>
            <a:endParaRPr b="0" lang="en-US" sz="4000" spc="-1" strike="noStrike">
              <a:solidFill>
                <a:srgbClr val="5a6378"/>
              </a:solidFill>
              <a:latin typeface="Calibri"/>
            </a:endParaRPr>
          </a:p>
        </p:txBody>
      </p:sp>
      <p:sp>
        <p:nvSpPr>
          <p:cNvPr id="54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hypothetico-deductive’ schema was not developed as a method at all: It was intended as a logical analysis of how scientific theories derive support from evidence, and it was developed in a process that intentionally excluded consideration of the process of discovery in science.” (Halw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 1 is “define the question”…how do you do th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role of observation</a:t>
            </a:r>
            <a:endParaRPr b="0" lang="en-US" sz="4000" spc="-1" strike="noStrike">
              <a:solidFill>
                <a:srgbClr val="5a6378"/>
              </a:solidFill>
              <a:latin typeface="Calibri"/>
            </a:endParaRPr>
          </a:p>
        </p:txBody>
      </p:sp>
      <p:sp>
        <p:nvSpPr>
          <p:cNvPr id="54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til 1803, occasional reports of rocks falling from the sky were not believed by scientists. Then, in late August of that year, many people in the Village of Laigle, France, saw bright lights streaking across the sky, followed by "three violent detonations," after which "nearly 3000 stones fell into the fields with loud hissing noises." Each of the stones was found resting in the center of a small crater: the stones smelled of sulfur. Scientists heard the report and investigated the site, and proposed that the stones had come from space.</a:t>
            </a:r>
            <a:r>
              <a:rPr b="0" lang="en-US" sz="2600" spc="-1" strike="noStrike">
                <a:solidFill>
                  <a:srgbClr val="000000"/>
                </a:solidFill>
                <a:latin typeface="Calibri"/>
              </a:rPr>
              <a:t>	</a:t>
            </a:r>
            <a:r>
              <a:rPr b="0" lang="en-US" sz="2600" spc="-1" strike="noStrike">
                <a:solidFill>
                  <a:srgbClr val="000000"/>
                </a:solidFill>
                <a:latin typeface="Calibri"/>
              </a:rPr>
              <a:t>(Halw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role of theory in modeling</a:t>
            </a:r>
            <a:endParaRPr b="0" lang="en-US" sz="4000" spc="-1" strike="noStrike">
              <a:solidFill>
                <a:srgbClr val="5a6378"/>
              </a:solidFill>
              <a:latin typeface="Calibri"/>
            </a:endParaRPr>
          </a:p>
        </p:txBody>
      </p:sp>
      <p:sp>
        <p:nvSpPr>
          <p:cNvPr id="55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all revisions of theories are based on new evidence; for example, an improved theory may result from logical and mathematical work that makes possible a better understanding of the existing evidence.  (Halw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role of interest and fun</a:t>
            </a:r>
            <a:endParaRPr b="0" lang="en-US" sz="4000" spc="-1" strike="noStrike">
              <a:solidFill>
                <a:srgbClr val="5a6378"/>
              </a:solidFill>
              <a:latin typeface="Calibri"/>
            </a:endParaRPr>
          </a:p>
        </p:txBody>
      </p:sp>
      <p:sp>
        <p:nvSpPr>
          <p:cNvPr id="55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tists don't only test hypotheses in order to test theories. Scientists explore their world, just like children do. When a good theory is available to serve as a map, is gets used. If no theory / map is available, the exploration goes on anyway.    (Halw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nother traditional criticism…</a:t>
            </a:r>
            <a:endParaRPr b="0" lang="en-US" sz="4000" spc="-1" strike="noStrike">
              <a:solidFill>
                <a:srgbClr val="5a6378"/>
              </a:solidFill>
              <a:latin typeface="Calibri"/>
            </a:endParaRPr>
          </a:p>
        </p:txBody>
      </p:sp>
      <p:sp>
        <p:nvSpPr>
          <p:cNvPr id="55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scientific method is not open to new kinds of knowledge, and puts too much emphasis on experimentation, evidence and repeatability” </a:t>
            </a:r>
            <a:r>
              <a:rPr b="0" lang="en-US" sz="2600" spc="-1" strike="noStrike">
                <a:solidFill>
                  <a:srgbClr val="000000"/>
                </a:solidFill>
                <a:latin typeface="Calibri"/>
              </a:rPr>
              <a:t>	</a:t>
            </a:r>
            <a:r>
              <a:rPr b="0" lang="en-US" sz="2600" spc="-1" strike="noStrike">
                <a:solidFill>
                  <a:srgbClr val="000000"/>
                </a:solidFill>
                <a:latin typeface="Calibri"/>
              </a:rPr>
              <a:t>(An ESP researcher)</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this a valid criticis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MOTD</a:t>
            </a:r>
            <a:endParaRPr b="0" lang="en-US" sz="4000" spc="-1" strike="noStrike">
              <a:solidFill>
                <a:srgbClr val="5a6378"/>
              </a:solidFill>
              <a:latin typeface="Calibri"/>
            </a:endParaRPr>
          </a:p>
        </p:txBody>
      </p:sp>
      <p:sp>
        <p:nvSpPr>
          <p:cNvPr id="52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cientific method is a valuable tool</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M is not the only way of doing 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M fits into a larger research proces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specific ways to do CS research</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d the science behind the inven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ummary</a:t>
            </a:r>
            <a:endParaRPr b="0" lang="en-US" sz="4000" spc="-1" strike="noStrike">
              <a:solidFill>
                <a:srgbClr val="5a6378"/>
              </a:solidFill>
              <a:latin typeface="Calibri"/>
            </a:endParaRPr>
          </a:p>
        </p:txBody>
      </p:sp>
      <p:sp>
        <p:nvSpPr>
          <p:cNvPr id="55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legitimate concerns with the metho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enough focus on observat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 fiction constructed at the end of the projec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gnores other aspects of scientific practic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 it is still the best way of assessing truth</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with other methods of determining truth:</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of tenacit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of authorit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of congruity</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tributes of the SM are critic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Problem/Question based research</a:t>
            </a:r>
            <a:endParaRPr b="0" lang="en-US" sz="4000" spc="-1" strike="noStrike">
              <a:solidFill>
                <a:srgbClr val="5a6378"/>
              </a:solidFill>
              <a:latin typeface="Calibri"/>
            </a:endParaRPr>
          </a:p>
        </p:txBody>
      </p:sp>
      <p:sp>
        <p:nvSpPr>
          <p:cNvPr id="55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bout problem solving in C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What’s the probl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Who cares about this problem and wh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How can the problem be solved?</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What has to be done to solve the problem?</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 How can you show that your solution is a good </a:t>
            </a:r>
            <a:br>
              <a:rPr sz="2600"/>
            </a:br>
            <a:r>
              <a:rPr b="0" lang="en-US" sz="2600" spc="-1" strike="noStrike">
                <a:solidFill>
                  <a:srgbClr val="000000"/>
                </a:solidFill>
                <a:latin typeface="Calibri"/>
              </a:rPr>
              <a:t>     solution to the probl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Research methods in CS</a:t>
            </a:r>
            <a:endParaRPr b="0" lang="en-US" sz="4000" spc="-1" strike="noStrike">
              <a:solidFill>
                <a:srgbClr val="5a6378"/>
              </a:solidFill>
              <a:latin typeface="Calibri"/>
            </a:endParaRPr>
          </a:p>
        </p:txBody>
      </p:sp>
      <p:sp>
        <p:nvSpPr>
          <p:cNvPr id="56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serv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ing</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or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ulation (?)</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ntion (?)</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bservational methods in CS</a:t>
            </a:r>
            <a:endParaRPr b="0" lang="en-US" sz="4000" spc="-1" strike="noStrike">
              <a:solidFill>
                <a:srgbClr val="5a6378"/>
              </a:solidFill>
              <a:latin typeface="Calibri"/>
            </a:endParaRPr>
          </a:p>
        </p:txBody>
      </p:sp>
      <p:sp>
        <p:nvSpPr>
          <p:cNvPr id="56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l and introspective observa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 your eyes open, think about your own experience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se studi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ailed observation / analysis of a particular situation</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eld method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from anthropology and sociology</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servation of trac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logs and record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is is the way one part of the world act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Modeling</a:t>
            </a:r>
            <a:endParaRPr b="0" lang="en-US" sz="4000" spc="-1" strike="noStrike">
              <a:solidFill>
                <a:srgbClr val="5a6378"/>
              </a:solidFill>
              <a:latin typeface="Calibri"/>
            </a:endParaRPr>
          </a:p>
        </p:txBody>
      </p:sp>
      <p:sp>
        <p:nvSpPr>
          <p:cNvPr id="56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ing is simplifica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s important in this set of observation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s not important?</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l models: descriptions in precise language with rules about how the descriptions work</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right level of abstrac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se are the underlying princip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ory</a:t>
            </a:r>
            <a:endParaRPr b="0" lang="en-US" sz="4000" spc="-1" strike="noStrike">
              <a:solidFill>
                <a:srgbClr val="5a6378"/>
              </a:solidFill>
              <a:latin typeface="Calibri"/>
            </a:endParaRPr>
          </a:p>
        </p:txBody>
      </p:sp>
      <p:sp>
        <p:nvSpPr>
          <p:cNvPr id="56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S theory is different from a scientific theory</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hematics rather than natural science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orem and proof, not hypothesis and test</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y?</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logical systems with stringent definitions of axioms </a:t>
            </a:r>
            <a:br>
              <a:rPr sz="2400"/>
            </a:br>
            <a:r>
              <a:rPr b="0" lang="en-US" sz="2400" spc="-1" strike="noStrike">
                <a:solidFill>
                  <a:srgbClr val="000000"/>
                </a:solidFill>
                <a:latin typeface="Calibri"/>
              </a:rPr>
              <a:t>and rules for deriving and proving theorems” (Dodig)</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Here are truths in a formal syst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Experimentation</a:t>
            </a:r>
            <a:endParaRPr b="0" lang="en-US" sz="4000" spc="-1" strike="noStrike">
              <a:solidFill>
                <a:srgbClr val="5a6378"/>
              </a:solidFill>
              <a:latin typeface="Calibri"/>
            </a:endParaRPr>
          </a:p>
        </p:txBody>
      </p:sp>
      <p:sp>
        <p:nvSpPr>
          <p:cNvPr id="56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purpos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ation (observation) (“formativ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summativ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tter first with the classical scientific method</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different experimental method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on this in a later clas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Here is evidence for (or against) a hypothesi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ose other methods…</a:t>
            </a:r>
            <a:endParaRPr b="0" lang="en-US" sz="4000" spc="-1" strike="noStrike">
              <a:solidFill>
                <a:srgbClr val="5a6378"/>
              </a:solidFill>
              <a:latin typeface="Calibri"/>
            </a:endParaRPr>
          </a:p>
        </p:txBody>
      </p:sp>
      <p:sp>
        <p:nvSpPr>
          <p:cNvPr id="57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ula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ly a modeling or experimentation tool</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ntion and desig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have built an X that solves problem 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scientific knowledg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reason that X is able to solve 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y to identify the science behind the invention</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methods were in the papers?</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utline</a:t>
            </a:r>
            <a:endParaRPr b="0" lang="en-US" sz="4000" spc="-1" strike="noStrike">
              <a:solidFill>
                <a:srgbClr val="5a6378"/>
              </a:solidFill>
              <a:latin typeface="Calibri"/>
            </a:endParaRPr>
          </a:p>
        </p:txBody>
      </p:sp>
      <p:sp>
        <p:nvSpPr>
          <p:cNvPr id="52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inders about 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view of the research proces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cientific method</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versy about the scientific method</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methods in C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Remember ‘science’</a:t>
            </a:r>
            <a:endParaRPr b="0" lang="en-US" sz="4000" spc="-1" strike="noStrike">
              <a:solidFill>
                <a:srgbClr val="5a6378"/>
              </a:solidFill>
              <a:latin typeface="Calibri"/>
            </a:endParaRPr>
          </a:p>
        </p:txBody>
      </p:sp>
      <p:sp>
        <p:nvSpPr>
          <p:cNvPr id="52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A connected body of demonstrated truths or observed fac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Science is the systematic study of the properties of the physical world, by means of repeatable experiments and  measurements, and the development of universal theories that are capable of describing and predicting observation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ig-Crnkovic)</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cientific knowledge and truth</a:t>
            </a:r>
            <a:endParaRPr b="0" lang="en-US" sz="4000" spc="-1" strike="noStrike">
              <a:solidFill>
                <a:srgbClr val="5a6378"/>
              </a:solidFill>
              <a:latin typeface="Calibri"/>
            </a:endParaRPr>
          </a:p>
        </p:txBody>
      </p:sp>
      <p:sp>
        <p:nvSpPr>
          <p:cNvPr id="52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we add to scientific knowledg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we determine whether to believe someone’s claim of new scientific knowledg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research process</a:t>
            </a:r>
            <a:endParaRPr b="0" lang="en-US" sz="4000" spc="-1" strike="noStrike">
              <a:solidFill>
                <a:srgbClr val="5a6378"/>
              </a:solidFill>
              <a:latin typeface="Calibri"/>
            </a:endParaRPr>
          </a:p>
        </p:txBody>
      </p:sp>
      <p:sp>
        <p:nvSpPr>
          <p:cNvPr id="52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tific knowledge has two part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w informat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ries that explain and predict</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these fit togeth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research process</a:t>
            </a:r>
            <a:endParaRPr b="0" lang="en-US" sz="4000" spc="-1" strike="noStrike">
              <a:solidFill>
                <a:srgbClr val="5a6378"/>
              </a:solidFill>
              <a:latin typeface="Calibri"/>
            </a:endParaRPr>
          </a:p>
        </p:txBody>
      </p:sp>
      <p:sp>
        <p:nvSpPr>
          <p:cNvPr id="53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servation of the worl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hering raw data</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ing and theory forma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uping and classifying observation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ing about underlying principles and generalizat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ing explanations for observations</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ory testing</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ictive hypothesis generat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mental testing</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ation of experimental resul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research process</a:t>
            </a:r>
            <a:endParaRPr b="0" lang="en-US" sz="4000" spc="-1" strike="noStrike">
              <a:solidFill>
                <a:srgbClr val="5a6378"/>
              </a:solidFill>
              <a:latin typeface="Calibri"/>
            </a:endParaRPr>
          </a:p>
        </p:txBody>
      </p:sp>
      <p:sp>
        <p:nvSpPr>
          <p:cNvPr id="53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servation of the worl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ere is some information about the world”</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ing and theory forma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ere is a way of organizing our observation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think this is why things happened the way they did”</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ory testing</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think this will happen when I try it this way”</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as I righ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ere is some more information about the wor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How does this fit with CS?</a:t>
            </a:r>
            <a:endParaRPr b="0" lang="en-US" sz="4000" spc="-1" strike="noStrike">
              <a:solidFill>
                <a:srgbClr val="5a6378"/>
              </a:solidFill>
              <a:latin typeface="Calibri"/>
            </a:endParaRPr>
          </a:p>
        </p:txBody>
      </p:sp>
      <p:sp>
        <p:nvSpPr>
          <p:cNvPr id="53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kinds of research were in the five pape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gutwin</dc:creator>
  <dc:description/>
  <dc:language>en-US</dc:language>
  <cp:lastModifiedBy>Carl Gutwin</cp:lastModifiedBy>
  <dcterms:modified xsi:type="dcterms:W3CDTF">2008-09-17T19:42:24Z</dcterms:modified>
  <cp:revision>98</cp:revision>
  <dc:subject/>
  <dc:title>CMPT 105 Building Interactive Systems</dc:title>
</cp:coreProperties>
</file>