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96AD-E4CA-4792-BC5B-C5ACF4ED5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7ECF-B158-4452-A565-05C94D3CF8A5}" type="slidenum">
              <a:rPr b="0" lang="en-C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889-DDED-448D-9942-CC4F1C86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E49-D1D1-4414-BC6C-2977BD92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CD9D9-A99D-4A73-A72F-937B780B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63340-B2D5-467E-A264-77A7B713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6F05D-B675-4999-9A3C-11040BED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C1618-C113-49BC-A606-5971CEFA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8EA2E-3525-481D-9236-4BAEC1EF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E49FA-E784-4B83-BBD1-94369D0D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486B1-6AAC-4E2A-95F2-7D6F3CD3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3A278-A50D-418F-A427-82253B9B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73AA4-0940-4812-A433-52FAA5C0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0DF70-0865-4B70-A51F-27752805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D94-DCC3-4E49-AC4C-FB2E3A98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65703-E6D5-4ADE-ABBD-4E68CA80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3B0A5-D6AD-4EFC-9ABD-375EAE7F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07D6F-1210-43DF-A106-C1C6887D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9EE0A-4AD3-46E9-A815-E2F621E1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DA980-4463-4F16-B6C5-44D042DF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C9367-A83D-43AB-A707-CF7D4ACC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FD944-72D5-4A2F-B97D-681916B1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48F4D-6F0C-4DA7-9C16-A20FA994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AA9F3-B03F-4660-B8D7-17CB193C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7A894-EEB6-4A44-ACAB-580FA5FE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139-1CDA-4C38-8032-5D12F50A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0E4AC-0B83-4F98-9FF7-D2E0DA5E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7AC6F-39ED-4253-924F-C0F129A1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C0CD6-F092-4852-A458-03358055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6669F-59A3-4168-9302-21139B6F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09546-2F5F-4A32-8832-C40A5B28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3FF3C-24A5-4B08-AE2E-F37B2E23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B0E21-5B49-4740-A2BD-49590257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AD3C5-042E-4322-9869-A9DC4D21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518D4-5E35-4631-A75E-AD5CEAB5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75CDF-75F2-4511-A29C-E7713B26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FD6A-5635-4EEE-AF7A-84AC35B7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40874-2E5F-4303-88BC-71A839C7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4D916-6E49-4F7B-9DD4-425502C1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C9AD6-6BE7-44F3-9D10-021D1A91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75D5B-366E-4886-8BC3-2EC75602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0C563-C516-4FF3-9C25-DA9DFA95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A7904-D11D-4484-9190-D34B574E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C713A-0838-4473-9CDA-18708159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C84EE-4A7D-4719-B3E7-DBF4F56D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6141F-FACF-4E44-AC0F-F2E15719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049DB-ABA3-4B7E-8461-F3064870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5C05-6516-449A-BB6E-AE540BB6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3859E-6779-49E6-AE4C-0FCBDD85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5D446-81A2-48BA-A761-B74CD547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742BE-F1D7-485E-BF3C-F510F20D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C56D3-699D-4BBC-8D4A-CA9BCA61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7076D-FE51-436C-A8A5-F82B45E0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E6D9-CAD2-4594-BD36-DD173778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EB32-AEA8-45FD-9096-0DE1A5AA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C1F1-67B4-42A9-80E9-A17D2653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62BF-33F4-4E74-89DE-866FBA40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CB91-81F6-4FAD-9B71-37180250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7049-8062-4BF2-A34A-8590DDC5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4D59-C400-4C84-ACAD-8C25DBF9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4F7A-0378-4D25-AF80-08F44A38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465A-426B-432C-8432-A80B3253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AF36-1C77-4947-9771-421B85C8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ECE2-E1AE-4DB0-9521-E49A3C98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1BF7-98C2-41E2-A044-925B7601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11DA7-E925-416B-BFD7-5434406D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CA27-E39A-4755-8EAA-C04B8CF4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8E69B-A6EF-49BE-9A41-480FE84A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27904-B681-4200-A7B5-C7E45EA2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DBF-C8B1-4385-9615-4254EC43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89398-E3D4-44F8-8A23-737273FF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68FA0-8131-467B-9759-F9F235F7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98006-71D1-40B6-BC89-CE7EF4FE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44792-41AC-4F37-8F23-982CFCD0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E08F9-D30D-454A-9710-4E34F631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2F801-DC2F-4D08-A46A-94E4F39F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0DD0-4C48-41F5-B550-EAA5C6C6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68338-43DB-4D10-9B2D-8564E9F2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39940-2C9B-4216-8FA1-9794C7CF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40C9B-1A51-49BD-B902-E4B63EAC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1E9-1EF6-4D6E-8AC7-979BE6AA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E8579-8920-4B8B-B84F-EA91846B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2D40F-48CE-4D95-A546-04D953DD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CEFC6-E045-4C1E-858B-0D9BA68E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C1229-8659-42BC-A0F3-474239F0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92B9B-BCF0-4988-89D7-C7B8240C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89DD7-5A2A-4D01-AE52-8F9B20CA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220FA-F512-41A3-9785-BC62CA40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CD2B4-70E5-4939-B9F8-4CC247AF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75B0E-230D-40CB-B640-35F31A6D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34389-E788-4C92-AF7C-4DB3CD8F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3C1-92C3-4178-AC9F-02D4505C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DA122-1004-42AF-A6F2-0315F851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1BB43-1425-4F2B-9D10-37626167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1DC50-9D7D-40CE-86FE-8710338D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92057-3E06-4DA1-9906-8ADD917C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FB212-6AE7-4E16-806F-363B9A4A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D2927-97FF-48F2-A5A7-ACBAFEA0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0B743-E6EF-4215-932B-3FC2B4D3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7E4D8-A10A-4477-AE1B-86958CDA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0205C-4FD4-4788-A335-D76B0F61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4D8C2-9416-4D2A-A13E-CA6270C0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D7E-F6ED-43C7-BD41-38C46BB5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62343-0C1D-48E9-BA76-2E6A1264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6ECED-F380-4E49-B210-F43D9C79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9A3A2-8E30-4FF9-891C-A2E93A6B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C067C-BFCC-45D9-8943-79AF90EB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C6E03-5E86-4B3B-B504-2751F26D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69CDF-D33A-4957-822D-3C4C319E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88FE8-7E39-420C-9E94-41ADF7DD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E4B42-19D8-40D6-BD7E-D4A82AC2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C1A0F-2F21-4D03-9434-00EE3F85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D3571-6B86-4F2F-A6F0-819F8E52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726-0A15-419C-9763-6914B677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C2BC3-0C27-4CC3-9A24-5E6EDEB0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83C8D-2589-4775-8116-1B989702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E2B60-CF0E-4027-A586-80F11D91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F4312-D117-443F-AC06-DBF5354D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6E98D-F93D-4F3E-B634-9E9744F9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72E9F-3F58-4261-9723-59DD4C85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3690B-FBB0-47CB-8966-80F22B67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BA694-5775-41F7-B09C-DCC8F77B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1D52F-54D8-4E52-A850-8952F5B8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389B9-26B2-4AB1-9978-CCCF6D12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3DE-E7A0-48C2-9F6C-4A7C6944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27622-40A1-453C-AB8D-E706A594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CE3F0-E6F1-4681-9366-226D4210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1034F-A2B5-4D0E-A442-C9A914F2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D8547-21AF-47EE-AEFD-9C769332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35CE5-C94A-45F2-ACEE-2D697561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76FC7-53D0-48E5-AFA0-007BF299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A3887-0664-443A-A343-0B918C2E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6F9A4-6798-49C9-B394-5C9705F4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7B8B2-C3C1-4949-AF0D-268A1608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B1999-9A83-4E0C-B3F7-EC6246FA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00B-5FEB-48E4-9D1F-7F53162A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9BC6F-10D2-443F-A6C7-1B058024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FAEB2-FAF0-494B-B4CB-3A162D05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3904F-2C91-4EDF-A64A-E8ABE140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6C20F-12E4-4468-80B6-79A5A4B9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5F4E4-A19F-4DEB-9444-9EC1CC6E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39B71-C65D-495D-89E1-4201FC0D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D77D2-FDCB-4B16-B30B-2FDCE2A1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CD022-C34A-4165-ADD4-4B69558B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994EC-54ED-46A4-B121-78B175AF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8EB82-C606-4AF4-A943-D318B1AB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b5cc"/>
          </a:solidFill>
          <a:ln w="1260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7632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7544-88B0-439B-A0EE-3A3FCB5F0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B0D4-9C6C-4D9F-8EED-28EDDB4DA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2B59-1A9D-48AD-BD9D-52D57365B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1823-F5BC-4D7F-BB32-B4A407F10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solidFill>
            <a:srgbClr val="ffffff"/>
          </a:solidFill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FF49-CFD1-4853-A503-FD329DFE9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9432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854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8213-5DCE-487E-8CE7-9C09646B9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6CE3-8191-4631-8FD7-7F6387F42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DADC-0258-421B-9542-F113505109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1572-861C-4770-90E3-5040C3D1E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C4A3-D689-4097-8F9E-3ACAE1233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8AF4-0D53-41BA-B9DF-FB6E74055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e66c7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e66c7d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5F46-65BC-42AD-B355-3269FB391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MPT 880/890</a:t>
            </a:r>
            <a:br>
              <a:rPr sz="4000"/>
            </a:b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riting lab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emplates for research writing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y kinds of research papers and theses have very similar structures and sto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mplates: a fill-in-the-blanks approa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good way to get started with technical wri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also useful throughout your caree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wo templat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 / motivation / solution / evalua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im / reason / evidenc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Calibri"/>
              </a:rPr>
              <a:t>Problem/Motivation/Solution/Evaluation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’s the contribution”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roblem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any areas of computer science, our research is about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olving probl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s of the real wor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374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“it is too time to learn a foreign languag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s defined by the research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374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“there is no known constant-time algorithm for XYZ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Calibri"/>
              </a:rPr>
              <a:t>Problem/Motivation/Solution/Evaluation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Motivat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is the problem worth solv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o cares, and wh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you relate the problem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pp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Calibri"/>
              </a:rPr>
              <a:t>Problem/Motivation/Solution/Evaluation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olut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did you do about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what did you do to make it easier to learn a foreign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you found a constant-time algorithm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How did you go about solving the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Calibri"/>
              </a:rPr>
              <a:t>Problem/Motivation/Solution/Evaluation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valuat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do we know that your solution is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goo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olution to the original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rt to think in terms of problems, motivations, solutions, and evaluations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Argument templat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i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a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id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 III of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The Craft of Resear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Finding problems in writing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ro to the writing part of 8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unication in resear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view of top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mmar qui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writing as templ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374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“problem / motivation / solution / evaluation”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374"/>
              </a:spcBef>
              <a:buClr>
                <a:srgbClr val="f6d3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“claim / reason / evidence”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ing probl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Writing assignments in 880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mmaries of Wednesday read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ing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mmarization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 you remember to do the reading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small writing assign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ing for different audi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ptive paragrap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gnizing problems and ed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gumentation exerc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wo-page pap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ommunication in research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itical to success in resear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it that you’re trying to communicat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you have something of value to offer your research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’s the contribution?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unication is more than just written Englis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languages for argumentation (e.g., proof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ing presentations, creating po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l conversations (e.g., the ‘elevator pitch’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Communication in research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od writing is (much) more than just gramm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rgum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you’re making is more import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ty (“What’s the contribution?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sual elements can be vit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ts, tables, animations, vide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Types of research writing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Overview of topic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rocess of writing and becoming a good wri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ammar and the mechanics of wri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tence-level, paragraph-level, section-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gumentation and the structure of an argu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arts and structure of papers and th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sections, why are they there, how do they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mplates for research writing and arg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 does a research paper hap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Overview of topics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ing presen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diting, revision cycles, and peer edi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enting information visual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ing for different audi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review 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374"/>
              </a:spcBef>
              <a:buClr>
                <a:srgbClr val="60b5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happens to your paper after you submit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od writing hab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ing and communication resour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Calibri"/>
              </a:rPr>
              <a:t>Grammar quiz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utwin</dc:creator>
  <dc:description/>
  <dc:language>en-US</dc:language>
  <cp:lastModifiedBy>Carl Gutwin</cp:lastModifiedBy>
  <dcterms:modified xsi:type="dcterms:W3CDTF">2008-09-12T20:20:21Z</dcterms:modified>
  <cp:revision>76</cp:revision>
  <dc:subject/>
  <dc:title>CMPT 105 Building Interactive Systems</dc:title>
</cp:coreProperties>
</file>