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513" name="PlaceHolder 2"/>
          <p:cNvSpPr>
            <a:spLocks noGrp="1"/>
          </p:cNvSpPr>
          <p:nvPr>
            <p:ph type="dt" idx="37"/>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51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move the slide</a:t>
            </a:r>
            <a:endParaRPr b="0" lang="en-US" sz="4000" spc="-1" strike="noStrike">
              <a:solidFill>
                <a:srgbClr val="5a6378"/>
              </a:solidFill>
              <a:latin typeface="Calibri"/>
            </a:endParaRPr>
          </a:p>
        </p:txBody>
      </p:sp>
      <p:sp>
        <p:nvSpPr>
          <p:cNvPr id="51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6" name="PlaceHolder 5"/>
          <p:cNvSpPr>
            <a:spLocks noGrp="1"/>
          </p:cNvSpPr>
          <p:nvPr>
            <p:ph type="ftr" idx="3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517" name="PlaceHolder 6"/>
          <p:cNvSpPr>
            <a:spLocks noGrp="1"/>
          </p:cNvSpPr>
          <p:nvPr>
            <p:ph type="sldNum" idx="39"/>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E4EE-EBAB-4389-BE84-AF7431865F39}"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A55B-93A2-4141-9F04-131531809714}" type="slidenum">
              <a:rPr b="0" lang="en-CA" sz="1300" spc="-1" strike="noStrike">
                <a:solidFill>
                  <a:srgbClr val="000000"/>
                </a:solidFill>
                <a:latin typeface="Calibri"/>
              </a:rPr>
              <a:t>&lt;number&gt;</a:t>
            </a:fld>
            <a:endParaRPr b="0" lang="en-US" sz="1300" spc="-1" strike="noStrike">
              <a:solidFill>
                <a:srgbClr val="000000"/>
              </a:solidFill>
              <a:latin typeface="Arial"/>
            </a:endParaRPr>
          </a:p>
        </p:txBody>
      </p:sp>
      <p:sp>
        <p:nvSpPr>
          <p:cNvPr id="577" name="PlaceHolder 1"/>
          <p:cNvSpPr>
            <a:spLocks noGrp="1"/>
          </p:cNvSpPr>
          <p:nvPr>
            <p:ph type="sldImg"/>
          </p:nvPr>
        </p:nvSpPr>
        <p:spPr>
          <a:xfrm>
            <a:off x="1257480" y="720720"/>
            <a:ext cx="4800600" cy="3600360"/>
          </a:xfrm>
          <a:prstGeom prst="rect">
            <a:avLst/>
          </a:prstGeom>
          <a:ln w="0">
            <a:noFill/>
          </a:ln>
        </p:spPr>
      </p:sp>
      <p:sp>
        <p:nvSpPr>
          <p:cNvPr id="5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069BF-4E1D-45BE-B837-F73B6C48E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5BB29-BC35-4ED9-85AD-AA5FF7F1A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1BB845-738B-42D2-9278-7CA0768461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7A346F-738F-4807-B755-7DDFF3BD03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F579EC-93A8-421B-B19D-5C230FBA23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1EC622-DA7C-466B-ABBF-232ABEE35E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6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ADCDD6-5274-47DD-9A41-93B83F5280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6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00DCFE-CA76-49C8-B417-63A27162EA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3D9AE8-86CB-4A37-B00B-619CDDB1BD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1AAEAB-E087-404C-84C3-EC3B16116B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BA317D-EEA6-4ECA-AA5F-C9A7892BD6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F23374E-6514-44D4-BC10-EE3551599D4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C54E0-752B-4CFB-90EF-2FC395BE9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9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AB62F9-2194-4F24-A5D2-DC1E16C2A7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9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194751-DA42-4AC6-9E9A-F6FB032DC1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9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0DF5572-3374-4D8D-AEC2-0C7DEEC7FD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BD456E-5E63-4037-8CC0-5A23925817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12F5C6-ADEE-4D90-A01B-80E246991E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0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6212F6-C4AD-42CF-A805-7A067B6CEE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0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A219F9-E46E-4387-883C-B2A5CD1175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B386EB-3BF8-4DE9-9594-85F200875C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1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D13FED-7FEE-4567-87C4-1CFACDC1F8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56B0707-AC49-44F1-9952-BC332D9F1F7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BEC4D-E5D4-4740-966A-E22BBF67A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2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A8BB523-6E4D-4EBA-853F-81ADC95DFD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0C9EA54-FE99-4B75-A086-B8FB884F16D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3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FB64B0-CCEF-4FBE-8DCD-D98A11FCF8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3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2D13E3-3308-485B-BD1E-4ECEA7618F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3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6230C5-2304-420A-A489-6C8703276D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FB6ADB-ED75-461A-B0E6-DA219D82CD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E227F1-4026-47B4-9054-B19CA1F4F8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4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ED2951-EC8C-425B-A72D-4A45BFC5AB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4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797351-3D63-44F0-AE1D-C4F26EFF5D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5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A239D5-FFA7-4DC3-A21B-C130059722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6B4856-ACF0-4C3D-B0D8-7980490511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5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34C77D-7D33-43ED-8FD9-3F0F5018FF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5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6AD9F9-AC23-43EE-9A14-673FC5651DB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6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ACEFBAF-CB91-476D-AA1D-A62FB730E15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E7C2750-130E-4BCD-AF28-B24B7DDECEC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7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6F03F6-42D5-426E-A213-EC08880811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7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20A3886-64BF-4F94-B2CA-D812EB3152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8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19F83A-ABCF-4FFF-942D-16D86D5317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20F94C-A48A-4430-A434-CDF5FF829D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B20CAE-5134-4488-9836-53B8D4CB7B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8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490B92-F659-4275-BB69-5BDAC7F948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6C422-F088-4E22-8A3E-2BDA94FC5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10967D-4191-4A1B-8A2E-3C975F6F9B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009BEC-BDCC-4E4D-8D99-0950557668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9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362635-09A1-4379-B4AD-58D432B161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0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437FAB5-8A3F-41D9-A908-A2832D55E60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0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1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68DAC70-120A-4A45-8D13-B1CED9ACCBD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06D3A-FD7C-48D0-B78A-82EB53D3E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C655C-412A-4645-9E14-F0C2FD402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5CDC3-5824-4B58-89B7-6920801CF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B8716-6461-4A70-BF25-FC742CF69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78CBD-3A76-4C47-AD64-43B9F7386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FF43C-9021-4E57-B18B-AD1BE081F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DBB99-DD49-40B2-8AA7-5CA313FED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EC731-2FE3-4828-8CD9-5262E5D80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E60AE-4806-49AF-8E30-C81647046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85E218-4B8E-4DD5-9793-BE61CF446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51C69A-BA6A-46AF-A1C2-DDDFCB411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31A951-D4F2-48F2-A5B0-D1A1B9B86A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9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0839E4-6E3A-4F25-B27D-463DD996FC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9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CD39EF-F9BA-4613-AD7B-C44D9DB23E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9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7E97B8-58DE-4CA5-94F1-D4BA728B56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C2B20A-840B-44BE-9EFD-EFAB3560A1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11A1B-1E7B-431B-8077-6D8D0651F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94DDE4-CBA7-456B-8877-DCC57DCEE2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0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659862-44AC-4945-A832-9D781CB4C8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0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7B7DF4-872E-41BA-A3F8-B62C467A78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75458B-66C9-4A81-818F-EAC5243A46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1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8AD9FD-9B3D-4AC2-AEE9-968EA53531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668F23-D7BE-4852-82A5-317306C87D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2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3E9A86-AB02-4D75-A4AC-A4CC7789F4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658079-E662-49E9-A5CD-E238437C4F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4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33E0EA-788D-4C8E-89B3-4579E57FCA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4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B2D8CD-C0AA-4B82-947B-50C011737E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0F5B3-A795-4118-ADE0-2B47BF63D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4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A241F1-221B-40B0-A008-A5F240C020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D904E0-2F60-4C98-ADE2-1C0F4B613A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CE9AED-45DA-46DC-9E6D-6C339D4DAC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5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BBD5E7-8867-423E-97B9-015ADBE7A4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500D39-78CF-4D40-BA6A-82330F89CA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82E26F-8C3C-4703-9C0F-E8BCF02D5A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6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2B3512-6CFC-4962-A6C7-86DE141072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6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CFF2F7-594C-44AD-B10A-3AA165437D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7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01E4E5-6103-47EB-9262-19FC7A7B9A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C77E8A-71F9-496E-B71D-E70651682A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AA2F7-1B64-4C9C-90BF-F8093AC70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8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43CE76-D96F-4AC9-9274-8B1A2C6C58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8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7761BB-F2AD-424E-ACD1-0FAB962E5E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8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728F28-6552-459E-A953-46D4DD3A76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CD514A-4B00-4023-8CA9-327A6BCDF0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906326-51A7-4A8C-8041-FBF6691FEA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1A4476-9FE4-4C47-8A45-9C771B8B28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8D4064-AF2E-4572-AFFC-FD68A241ED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0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8E2751-3BBA-4D10-8127-7995CBB88B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0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C70188-51E2-4813-AAC0-C3E149DE1C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0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E3947F-846C-4577-8A36-85005701C5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D4CC9-D1A8-48FD-A277-8EBEA56B8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1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43A1E5-9AB4-4753-9725-9D60A27980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1642AA-F60F-4CA8-B792-D6AEB3B49F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2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4A5A99-D75A-41D8-8F5E-7C6E51DE46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2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4A59AF-A80A-4D21-B080-410BAAA01A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2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434DA5-C78A-4E60-9A9C-C385084F0B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9AD9BB-942A-41E8-A835-7D20148616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A2D9F2-5CB5-4FAD-930E-5A09D8CBAE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888B5C-ABD9-4550-B228-A89ECFAD5C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3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B2F977-FB41-49EF-A9FF-7F0C66543E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4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A3C697-AA88-4694-942A-E17036F841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4A967-11F2-4368-9DAB-923DBDD44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4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6D8510-6195-46BD-8284-64493555A8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4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1C17DD-D886-4A64-8096-92B52335BA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5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BA12FD-CEEB-4103-B055-2C68B97DEF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790A8E-1814-4031-82AD-EDB0E0D60C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6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F73FD2-7BBE-4DAE-A0C4-C702E2A45F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6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BCCA3F-E7A9-41B5-847E-6066118CBD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DFAA0E-8E47-423B-9555-7141382C70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D60AC8-6FED-4496-9CEB-2AC2F17646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A8AC53-7E07-4271-9AA2-118211DFF9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7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590C78-76ED-4C84-AA4B-E59891D0B6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093F1-D6A8-45C0-BFD2-155BC0241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7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CF761E-B99D-46DC-BEF7-0131AC4DC9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8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1CA149-3044-4018-AD96-D46E43B639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8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DD66ED-5D4D-4EE5-B6C4-01031273B5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9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6E088F-0DBE-49EE-A6A8-2068CD6F30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9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C78031-C80B-4920-A983-9A29E35588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93049E-A7E6-4477-9D03-01616948D1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0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DFB179-AF27-4153-A8C2-027D9F347F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0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818DB0-E477-4825-9A51-C74CDC1569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1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58CF6E-7C40-4E6C-8258-5FB605D4D2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A4E3EE-991D-4C7C-AB23-4CFA45F9C3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E6B1A-8B74-4199-9A22-BB9F8D6EB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BA9F43-5740-41BC-A609-8C5D5FF5AD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1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915405-62E5-4368-96E4-BDE22BF030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D3A0A1-AF85-44CA-A55E-6A26BFDB32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3D37DD-3782-4C76-98D5-28619E3C69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29A9BB-5957-4373-98EC-9B3F5679E1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3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B02A62-A6B2-4EAC-BBB3-86D5D50056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3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AC842E-5FE6-4F72-829B-3C5EFB5E72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9AC786-384A-4EC5-A57A-5141901E13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A7C014-6B8C-4676-97E6-F7E8F100FD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C9BEA2-E989-49EA-AA41-F64E2C72DC1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0" name="Rectangle 9"/>
          <p:cNvSpPr/>
          <p:nvPr/>
        </p:nvSpPr>
        <p:spPr>
          <a:xfrm>
            <a:off x="0" y="0"/>
            <a:ext cx="9144000" cy="6858000"/>
          </a:xfrm>
          <a:prstGeom prst="rect">
            <a:avLst/>
          </a:prstGeom>
          <a:solidFill>
            <a:srgbClr val="60b5cc"/>
          </a:solidFill>
          <a:ln w="1260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7632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DCF0-BDFD-409C-980F-9FCFA4983659}"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385" name="Rectangle 8"/>
          <p:cNvSpPr/>
          <p:nvPr/>
        </p:nvSpPr>
        <p:spPr>
          <a:xfrm flipV="1">
            <a:off x="68400" y="4682160"/>
            <a:ext cx="9007200" cy="91800"/>
          </a:xfrm>
          <a:prstGeom prst="rect">
            <a:avLst/>
          </a:prstGeom>
          <a:solidFill>
            <a:srgbClr val="f0ad00"/>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0"/>
          <p:cNvSpPr/>
          <p:nvPr/>
        </p:nvSpPr>
        <p:spPr>
          <a:xfrm>
            <a:off x="68400" y="4649760"/>
            <a:ext cx="9007200" cy="46080"/>
          </a:xfrm>
          <a:prstGeom prst="rect">
            <a:avLst/>
          </a:prstGeom>
          <a:solidFill>
            <a:srgbClr val="f6d3aa"/>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1"/>
          <p:cNvSpPr/>
          <p:nvPr/>
        </p:nvSpPr>
        <p:spPr>
          <a:xfrm>
            <a:off x="68400" y="4773600"/>
            <a:ext cx="9007200" cy="47520"/>
          </a:xfrm>
          <a:prstGeom prst="rect">
            <a:avLst/>
          </a:prstGeom>
          <a:solidFill>
            <a:srgbClr val="e88651"/>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8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90" name="PlaceHolder 3"/>
          <p:cNvSpPr>
            <a:spLocks noGrp="1"/>
          </p:cNvSpPr>
          <p:nvPr>
            <p:ph type="dt" idx="28"/>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391" name="PlaceHolder 4"/>
          <p:cNvSpPr>
            <a:spLocks noGrp="1"/>
          </p:cNvSpPr>
          <p:nvPr>
            <p:ph type="ftr" idx="29"/>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5"/>
          <p:cNvSpPr>
            <a:spLocks noGrp="1"/>
          </p:cNvSpPr>
          <p:nvPr>
            <p:ph type="sldNum" idx="30"/>
          </p:nvPr>
        </p:nvSpPr>
        <p:spPr>
          <a:xfrm>
            <a:off x="213120" y="62755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2AC5E-9BC6-46D4-AA1D-F46DAB6D5C5C}"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43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31" name="PlaceHolder 3"/>
          <p:cNvSpPr>
            <a:spLocks noGrp="1"/>
          </p:cNvSpPr>
          <p:nvPr>
            <p:ph type="dt" idx="3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432" name="PlaceHolder 4"/>
          <p:cNvSpPr>
            <a:spLocks noGrp="1"/>
          </p:cNvSpPr>
          <p:nvPr>
            <p:ph type="ftr" idx="3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C363-80AB-4576-8071-964961D37F62}"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47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72" name="PlaceHolder 3"/>
          <p:cNvSpPr>
            <a:spLocks noGrp="1"/>
          </p:cNvSpPr>
          <p:nvPr>
            <p:ph type="dt" idx="3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473" name="PlaceHolder 4"/>
          <p:cNvSpPr>
            <a:spLocks noGrp="1"/>
          </p:cNvSpPr>
          <p:nvPr>
            <p:ph type="ftr" idx="3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5"/>
          <p:cNvSpPr>
            <a:spLocks noGrp="1"/>
          </p:cNvSpPr>
          <p:nvPr>
            <p:ph type="sldNum" idx="36"/>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24667-469E-4E2E-BD4D-34262742033E}"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4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solidFill>
            <a:srgbClr val="ffffff"/>
          </a:solid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f6d3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e886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4E8C-102A-4EC9-930B-CAC975EC81B3}"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9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91" name="PlaceHolder 3"/>
          <p:cNvSpPr>
            <a:spLocks noGrp="1"/>
          </p:cNvSpPr>
          <p:nvPr>
            <p:ph type="dt" idx="7"/>
          </p:nvPr>
        </p:nvSpPr>
        <p:spPr>
          <a:xfrm>
            <a:off x="59432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6854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C2D6-9039-4A32-A527-C3FF44E4E131}"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13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Rounded Rectangle 10"/>
          <p:cNvGrpSpPr/>
          <p:nvPr/>
        </p:nvGrpSpPr>
        <p:grpSpPr>
          <a:xfrm>
            <a:off x="60480" y="60480"/>
            <a:ext cx="9028080" cy="6711840"/>
            <a:chOff x="60480" y="60480"/>
            <a:chExt cx="9028080" cy="6711840"/>
          </a:xfrm>
        </p:grpSpPr>
        <p:pic>
          <p:nvPicPr>
            <p:cNvPr id="132" name="Rounded Rectangle 10" descr=""/>
            <p:cNvPicPr/>
            <p:nvPr/>
          </p:nvPicPr>
          <p:blipFill>
            <a:blip r:embed="rId2"/>
            <a:stretch/>
          </p:blipFill>
          <p:spPr>
            <a:xfrm>
              <a:off x="60480" y="60480"/>
              <a:ext cx="9028080" cy="6711840"/>
            </a:xfrm>
            <a:prstGeom prst="rect">
              <a:avLst/>
            </a:prstGeom>
            <a:ln w="0">
              <a:noFill/>
            </a:ln>
          </p:spPr>
        </p:pic>
        <p:sp>
          <p:nvSpPr>
            <p:cNvPr id="13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Rectangle 11"/>
          <p:cNvSpPr/>
          <p:nvPr/>
        </p:nvSpPr>
        <p:spPr>
          <a:xfrm flipV="1">
            <a:off x="69840" y="2376000"/>
            <a:ext cx="9013680" cy="92160"/>
          </a:xfrm>
          <a:prstGeom prst="rect">
            <a:avLst/>
          </a:prstGeom>
          <a:solidFill>
            <a:srgbClr val="f0ad00"/>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2"/>
          <p:cNvSpPr/>
          <p:nvPr/>
        </p:nvSpPr>
        <p:spPr>
          <a:xfrm>
            <a:off x="69840" y="2341440"/>
            <a:ext cx="9013680" cy="46080"/>
          </a:xfrm>
          <a:prstGeom prst="rect">
            <a:avLst/>
          </a:prstGeom>
          <a:solidFill>
            <a:srgbClr val="f6d3aa"/>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4"/>
          <p:cNvSpPr/>
          <p:nvPr/>
        </p:nvSpPr>
        <p:spPr>
          <a:xfrm>
            <a:off x="68400" y="2468520"/>
            <a:ext cx="9015120" cy="46080"/>
          </a:xfrm>
          <a:prstGeom prst="rect">
            <a:avLst/>
          </a:prstGeom>
          <a:solidFill>
            <a:srgbClr val="e88651"/>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13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39"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140" name="PlaceHolder 4"/>
          <p:cNvSpPr>
            <a:spLocks noGrp="1"/>
          </p:cNvSpPr>
          <p:nvPr>
            <p:ph type="ftr" idx="11"/>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213120" y="62755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02961-2D25-4E64-952A-E7E19B9A9E0B}"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17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80"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181"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C200-2498-4344-AE75-891E8D544BA6}"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22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21"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222"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0FF63-48AC-4AAB-A727-C61E5AB337F8}"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26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62"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263" name="PlaceHolder 4"/>
          <p:cNvSpPr>
            <a:spLocks noGrp="1"/>
          </p:cNvSpPr>
          <p:nvPr>
            <p:ph type="ftr" idx="20"/>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3244F-8053-493B-9D31-FB7A7752C42A}"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0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03"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304"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5"/>
          <p:cNvSpPr>
            <a:spLocks noGrp="1"/>
          </p:cNvSpPr>
          <p:nvPr>
            <p:ph type="sldNum" idx="24"/>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D41F7-8A2A-41AD-82B3-088C7F53194E}"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34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4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46"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347"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PlaceHolder 5"/>
          <p:cNvSpPr>
            <a:spLocks noGrp="1"/>
          </p:cNvSpPr>
          <p:nvPr>
            <p:ph type="sldNum" idx="27"/>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5D6D-F153-40DC-A67E-935DE44B4EDB}"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MPT 880/890</a:t>
            </a:r>
            <a:br>
              <a:rPr sz="4000"/>
            </a:br>
            <a:r>
              <a:rPr b="0" lang="en-US" sz="4000" spc="-1" strike="noStrike">
                <a:solidFill>
                  <a:srgbClr val="5a6378"/>
                </a:solidFill>
                <a:latin typeface="Calibri"/>
              </a:rPr>
              <a:t>Writing labs</a:t>
            </a:r>
            <a:endParaRPr b="0" lang="en-US" sz="4000" spc="-1" strike="noStrike">
              <a:solidFill>
                <a:srgbClr val="5a6378"/>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Summarize rather than describe</a:t>
            </a:r>
            <a:endParaRPr b="0" lang="en-US" sz="4000" spc="-1" strike="noStrike">
              <a:solidFill>
                <a:srgbClr val="5a6378"/>
              </a:solidFill>
              <a:latin typeface="Calibri"/>
            </a:endParaRPr>
          </a:p>
        </p:txBody>
      </p:sp>
      <p:sp>
        <p:nvSpPr>
          <p:cNvPr id="536"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s the articl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article focuses on the growing problem and cause of noise pollution.  It explores the effects of population growth, urban sprawl, and the increase of traffic and aircraft prevalence on noise levels.  This article offers specific information regarding decibel measurements and risks of prolonged exposure.  The author provides specific decibel levels for a variety of machines and situ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Summarize rather than describe</a:t>
            </a:r>
            <a:endParaRPr b="0" lang="en-US" sz="4000" spc="-1" strike="noStrike">
              <a:solidFill>
                <a:srgbClr val="5a6378"/>
              </a:solidFill>
              <a:latin typeface="Calibri"/>
            </a:endParaRPr>
          </a:p>
        </p:txBody>
      </p:sp>
      <p:sp>
        <p:nvSpPr>
          <p:cNvPr id="538"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mmarizes by providing content and limited detail:</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article provides information on the growing problem and causes of noise pollution.  Population growth, urban sprawl, and increases in traffic and aircraft transportation are having a marked effect on noise levels.  Escalating decibel levels and prolonged exposure increase the risks to hearing and health.  In the United States, 30 million employees are vulnerable to the possibility of hearing loss because of hazardous noise levels on the job.  Children and animals are also at risk to the physical effects of noise, such as stress, elevated blood pressure, and increased heart rate.  Various decibel measuring machines are available for various situations.  In conclusion, the article show that  health and hearing risks due to combined decibel levels and extended exposures occur in everyday lif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s a summary for, anyway?</a:t>
            </a:r>
            <a:endParaRPr b="0" lang="en-US" sz="4000" spc="-1" strike="noStrike">
              <a:solidFill>
                <a:srgbClr val="5a6378"/>
              </a:solidFill>
              <a:latin typeface="Calibri"/>
            </a:endParaRPr>
          </a:p>
        </p:txBody>
      </p:sp>
      <p:sp>
        <p:nvSpPr>
          <p:cNvPr id="540"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writing your related work section</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rt paper: 5 articles summarized in one paragraph</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ference paper: 20 articles summarized in one page</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Sc. Thesis: 75 articles summarized in one chapter</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keeping track of what you’ve read</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notated bibliograp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Exercise</a:t>
            </a:r>
            <a:endParaRPr b="0" lang="en-US" sz="4000" spc="-1" strike="noStrike">
              <a:solidFill>
                <a:srgbClr val="5a6378"/>
              </a:solidFill>
              <a:latin typeface="Calibri"/>
            </a:endParaRPr>
          </a:p>
        </p:txBody>
      </p:sp>
      <p:sp>
        <p:nvSpPr>
          <p:cNvPr id="542"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mmarize the colour-blindness artic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Arguments</a:t>
            </a:r>
            <a:endParaRPr b="0" lang="en-US" sz="4000" spc="-1" strike="noStrike">
              <a:solidFill>
                <a:srgbClr val="5a6378"/>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The structure of an argument</a:t>
            </a:r>
            <a:endParaRPr b="0" lang="en-US" sz="4000" spc="-1" strike="noStrike">
              <a:solidFill>
                <a:srgbClr val="5a6378"/>
              </a:solidFill>
              <a:latin typeface="Calibri"/>
            </a:endParaRPr>
          </a:p>
        </p:txBody>
      </p:sp>
      <p:sp>
        <p:nvSpPr>
          <p:cNvPr id="545"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im</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ason(s) for the claim</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idence for the reason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important to understand the argument before you write the paragraph / paper!</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the argument out in point form firs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Questions (for the writer)</a:t>
            </a:r>
            <a:endParaRPr b="0" lang="en-US" sz="4000" spc="-1" strike="noStrike">
              <a:solidFill>
                <a:srgbClr val="5a6378"/>
              </a:solidFill>
              <a:latin typeface="Calibri"/>
            </a:endParaRPr>
          </a:p>
        </p:txBody>
      </p:sp>
      <p:sp>
        <p:nvSpPr>
          <p:cNvPr id="547" name=""/>
          <p:cNvSpPr txBox="1"/>
          <p:nvPr/>
        </p:nvSpPr>
        <p:spPr>
          <a:xfrm>
            <a:off x="685440" y="1447920"/>
            <a:ext cx="80010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my claim?</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reasons support my claim?</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evidence supports my reason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 I acknowledge and respond to likely objection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principle makes my reasons relevant to my clai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Argument exercise</a:t>
            </a:r>
            <a:endParaRPr b="0" lang="en-US" sz="4000" spc="-1" strike="noStrike">
              <a:solidFill>
                <a:srgbClr val="5a6378"/>
              </a:solidFill>
              <a:latin typeface="Calibri"/>
            </a:endParaRPr>
          </a:p>
        </p:txBody>
      </p:sp>
      <p:sp>
        <p:nvSpPr>
          <p:cNvPr id="549"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claim, reason(s), warrants, and evidence about which programming language should be taught in first-year computer science classe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clude (for practice) all the element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up the evidence (but make it sound believab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the main claim?</a:t>
            </a:r>
            <a:endParaRPr b="0" lang="en-US" sz="4000" spc="-1" strike="noStrike">
              <a:solidFill>
                <a:srgbClr val="5a6378"/>
              </a:solidFill>
              <a:latin typeface="Calibri"/>
            </a:endParaRPr>
          </a:p>
        </p:txBody>
      </p:sp>
      <p:sp>
        <p:nvSpPr>
          <p:cNvPr id="551"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ython should be taught in first-year C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our reason for this claim?</a:t>
            </a:r>
            <a:endParaRPr b="0" lang="en-US" sz="4000" spc="-1" strike="noStrike">
              <a:solidFill>
                <a:srgbClr val="5a6378"/>
              </a:solidFill>
              <a:latin typeface="Calibri"/>
            </a:endParaRPr>
          </a:p>
        </p:txBody>
      </p:sp>
      <p:sp>
        <p:nvSpPr>
          <p:cNvPr id="553"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caus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te that there are several possible reason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e syntax</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libraries available</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 IDEs</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the moment, choose one</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e syntax</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cause its syntax is simpl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cause its syntax is simpler than other language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Outline</a:t>
            </a:r>
            <a:endParaRPr b="0" lang="en-US" sz="4000" spc="-1" strike="noStrike">
              <a:solidFill>
                <a:srgbClr val="5a6378"/>
              </a:solidFill>
              <a:latin typeface="Calibri"/>
            </a:endParaRPr>
          </a:p>
        </p:txBody>
      </p:sp>
      <p:sp>
        <p:nvSpPr>
          <p:cNvPr id="520" name="PlaceHolder 2"/>
          <p:cNvSpPr>
            <a:spLocks noGrp="1"/>
          </p:cNvSpPr>
          <p:nvPr>
            <p:ph/>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edback and summarie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ing argument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our reason for this claim?</a:t>
            </a:r>
            <a:endParaRPr b="0" lang="en-US" sz="4000" spc="-1" strike="noStrike">
              <a:solidFill>
                <a:srgbClr val="5a6378"/>
              </a:solidFill>
              <a:latin typeface="Calibri"/>
            </a:endParaRPr>
          </a:p>
        </p:txBody>
      </p:sp>
      <p:sp>
        <p:nvSpPr>
          <p:cNvPr id="555"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wo issues here: </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we have made another claim</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Python has simple syntax</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ill have to be defended as well</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we have to make sure that people will understand why the reason is relevant to the claim.</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connects reason to claim?</a:t>
            </a:r>
            <a:endParaRPr b="0" lang="en-US" sz="4000" spc="-1" strike="noStrike">
              <a:solidFill>
                <a:srgbClr val="5a6378"/>
              </a:solidFill>
              <a:latin typeface="Calibri"/>
            </a:endParaRPr>
          </a:p>
        </p:txBody>
      </p:sp>
      <p:sp>
        <p:nvSpPr>
          <p:cNvPr id="557"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our warrant?</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 principle underlying our reason/claim pair</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udents who are new to programming often have great difficulty with syntax, and lowering this barrier will help them focus on learning algorithmic concept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ssible addition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e syntax is important because..."</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which is the purpose of first-year CS"</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Return to the second claim</a:t>
            </a:r>
            <a:endParaRPr b="0" lang="en-US" sz="4000" spc="-1" strike="noStrike">
              <a:solidFill>
                <a:srgbClr val="5a6378"/>
              </a:solidFill>
              <a:latin typeface="Calibri"/>
            </a:endParaRPr>
          </a:p>
        </p:txBody>
      </p:sp>
      <p:sp>
        <p:nvSpPr>
          <p:cNvPr id="559"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at Python has simple syntax)</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we need another reason for this claim?</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we have evidence?</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ume we want to give another reason</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rst, we could make the claim more specific:</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ython is simpler than languages like C++ and Java“</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ason:</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Because Python is a scripting language, and scripting languages have simpler syntax than system languag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Evidence</a:t>
            </a:r>
            <a:endParaRPr b="0" lang="en-US" sz="4000" spc="-1" strike="noStrike">
              <a:solidFill>
                <a:srgbClr val="5a6378"/>
              </a:solidFill>
              <a:latin typeface="Calibri"/>
            </a:endParaRPr>
          </a:p>
        </p:txBody>
      </p:sp>
      <p:sp>
        <p:nvSpPr>
          <p:cNvPr id="561"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can make general statements about the languag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Python, statements are terminated with an end-of-line, rather than a semicolon“</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lock structure is indicated by indentation, rather than with bracket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ie your evidence back to the main claim:</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micolons and brackets are common stumbling blocks for beginning programmer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Evidence</a:t>
            </a:r>
            <a:endParaRPr b="0" lang="en-US" sz="4000" spc="-1" strike="noStrike">
              <a:solidFill>
                <a:srgbClr val="5a6378"/>
              </a:solidFill>
              <a:latin typeface="Calibri"/>
            </a:endParaRPr>
          </a:p>
        </p:txBody>
      </p:sp>
      <p:sp>
        <p:nvSpPr>
          <p:cNvPr id="563"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 example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ollowing code is a common bracketing error in C++ or Java:”</a:t>
            </a:r>
            <a:endParaRPr b="0" lang="en-US" sz="2600" spc="-1" strike="noStrike">
              <a:solidFill>
                <a:srgbClr val="000000"/>
              </a:solidFill>
              <a:latin typeface="Calibri"/>
            </a:endParaRPr>
          </a:p>
          <a:p>
            <a:pPr lvl="2" marL="82224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if (x &lt; 0)</a:t>
            </a:r>
            <a:endParaRPr b="0" lang="en-US" sz="2000" spc="-1" strike="noStrike">
              <a:solidFill>
                <a:srgbClr val="000000"/>
              </a:solidFill>
              <a:latin typeface="Calibri"/>
            </a:endParaRPr>
          </a:p>
          <a:p>
            <a:pPr lvl="2" marL="82224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cout &lt;&lt; "x was negative";</a:t>
            </a:r>
            <a:endParaRPr b="0" lang="en-US" sz="2000" spc="-1" strike="noStrike">
              <a:solidFill>
                <a:srgbClr val="000000"/>
              </a:solidFill>
              <a:latin typeface="Calibri"/>
            </a:endParaRPr>
          </a:p>
          <a:p>
            <a:pPr lvl="2" marL="82224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 = -x;</a:t>
            </a:r>
            <a:endParaRPr b="0" lang="en-US" sz="20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The corresponding Python executes as expected, since the indentation itself determines the block:”</a:t>
            </a:r>
            <a:endParaRPr b="0" lang="en-US" sz="2600" spc="-1" strike="noStrike">
              <a:solidFill>
                <a:srgbClr val="000000"/>
              </a:solidFill>
              <a:latin typeface="Calibri"/>
            </a:endParaRPr>
          </a:p>
          <a:p>
            <a:pPr lvl="2" marL="82224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if x &lt; 0:</a:t>
            </a:r>
            <a:endParaRPr b="0" lang="en-US" sz="2000" spc="-1" strike="noStrike">
              <a:solidFill>
                <a:srgbClr val="000000"/>
              </a:solidFill>
              <a:latin typeface="Calibri"/>
            </a:endParaRPr>
          </a:p>
          <a:p>
            <a:pPr lvl="2" marL="82224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print "x was negative"</a:t>
            </a:r>
            <a:endParaRPr b="0" lang="en-US" sz="2000" spc="-1" strike="noStrike">
              <a:solidFill>
                <a:srgbClr val="000000"/>
              </a:solidFill>
              <a:latin typeface="Calibri"/>
            </a:endParaRPr>
          </a:p>
          <a:p>
            <a:pPr lvl="2" marL="82224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 = -x</a:t>
            </a:r>
            <a:endParaRPr b="0" lang="en-US" sz="2000" spc="-1" strike="noStrike">
              <a:solidFill>
                <a:srgbClr val="000000"/>
              </a:solidFill>
              <a:latin typeface="Calibri"/>
            </a:endParaRPr>
          </a:p>
          <a:p>
            <a:pPr marL="272880" indent="-272880">
              <a:lnSpc>
                <a:spcPct val="100000"/>
              </a:lnSpc>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Evidence</a:t>
            </a:r>
            <a:endParaRPr b="0" lang="en-US" sz="4000" spc="-1" strike="noStrike">
              <a:solidFill>
                <a:srgbClr val="5a6378"/>
              </a:solidFill>
              <a:latin typeface="Calibri"/>
            </a:endParaRPr>
          </a:p>
        </p:txBody>
      </p:sp>
      <p:sp>
        <p:nvSpPr>
          <p:cNvPr id="565"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vide other example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sen so that the audience will understand</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other example is the ubiquitous 'Hello World' program. In C++, the following is required:”</a:t>
            </a:r>
            <a:endParaRPr b="0" lang="en-US" sz="2600" spc="-1" strike="noStrike">
              <a:solidFill>
                <a:srgbClr val="000000"/>
              </a:solidFill>
              <a:latin typeface="Calibri"/>
            </a:endParaRPr>
          </a:p>
          <a:p>
            <a:pPr lvl="3" marL="1096920" indent="-228600">
              <a:lnSpc>
                <a:spcPct val="10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nclude &lt;iostream.h&gt; </a:t>
            </a:r>
            <a:endParaRPr b="0" lang="en-US" sz="1600" spc="-1" strike="noStrike">
              <a:solidFill>
                <a:srgbClr val="000000"/>
              </a:solidFill>
              <a:latin typeface="Calibri"/>
            </a:endParaRPr>
          </a:p>
          <a:p>
            <a:pPr lvl="3" marL="1096920" indent="-228600">
              <a:lnSpc>
                <a:spcPct val="10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nt main()</a:t>
            </a:r>
            <a:endParaRPr b="0" lang="en-US" sz="1600" spc="-1" strike="noStrike">
              <a:solidFill>
                <a:srgbClr val="000000"/>
              </a:solidFill>
              <a:latin typeface="Calibri"/>
            </a:endParaRPr>
          </a:p>
          <a:p>
            <a:pPr lvl="3" marL="1096920" indent="-228600">
              <a:lnSpc>
                <a:spcPct val="10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3" marL="1096920" indent="-228600">
              <a:lnSpc>
                <a:spcPct val="10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out &lt;&lt; "Hello World!"; </a:t>
            </a:r>
            <a:endParaRPr b="0" lang="en-US" sz="1600" spc="-1" strike="noStrike">
              <a:solidFill>
                <a:srgbClr val="000000"/>
              </a:solidFill>
              <a:latin typeface="Calibri"/>
            </a:endParaRPr>
          </a:p>
          <a:p>
            <a:pPr lvl="3" marL="1096920" indent="-228600">
              <a:lnSpc>
                <a:spcPct val="10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In Python, simple programs really are simple:”</a:t>
            </a:r>
            <a:endParaRPr b="0" lang="en-US" sz="2600" spc="-1" strike="noStrike">
              <a:solidFill>
                <a:srgbClr val="000000"/>
              </a:solidFill>
              <a:latin typeface="Calibri"/>
            </a:endParaRPr>
          </a:p>
          <a:p>
            <a:pPr lvl="3" marL="1096920" indent="-228600">
              <a:lnSpc>
                <a:spcPct val="10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rint "Hello World!"</a:t>
            </a:r>
            <a:endParaRPr b="0" lang="en-US" sz="1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 from (Zelle, 200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Deal with potential objections</a:t>
            </a:r>
            <a:endParaRPr b="0" lang="en-US" sz="4000" spc="-1" strike="noStrike">
              <a:solidFill>
                <a:srgbClr val="5a6378"/>
              </a:solidFill>
              <a:latin typeface="Calibri"/>
            </a:endParaRPr>
          </a:p>
        </p:txBody>
      </p:sp>
      <p:sp>
        <p:nvSpPr>
          <p:cNvPr id="567"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are the potential objections to Python?</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ed for indenting</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ynamically typed</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ripting language, not a 'real' language</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Scheme would be better”</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ich should be dealt with in this paragraph?</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o is the audience?</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objections are they likely to share?</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this example, assume indenting is important to the audienc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Deal with potential objections</a:t>
            </a:r>
            <a:endParaRPr b="0" lang="en-US" sz="4000" spc="-1" strike="noStrike">
              <a:solidFill>
                <a:srgbClr val="5a6378"/>
              </a:solidFill>
              <a:latin typeface="Calibri"/>
            </a:endParaRPr>
          </a:p>
        </p:txBody>
      </p:sp>
      <p:sp>
        <p:nvSpPr>
          <p:cNvPr id="569"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te the objection</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e of the criticisms of Python is that students may have difficulty with the strict indenting rule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ld also bridge from the earlier exampl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though Python's indenting rules provide a simple mechanism for determining a block, ...“</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to deal with the objection?</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im, reason, evidence</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Deal with potential objections</a:t>
            </a:r>
            <a:endParaRPr b="0" lang="en-US" sz="4000" spc="-1" strike="noStrike">
              <a:solidFill>
                <a:srgbClr val="5a6378"/>
              </a:solidFill>
              <a:latin typeface="Calibri"/>
            </a:endParaRPr>
          </a:p>
        </p:txBody>
      </p:sp>
      <p:sp>
        <p:nvSpPr>
          <p:cNvPr id="571"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im:</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ntation, however, is not likely to be a problem“</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ason:</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cause current editors and IDEs for Python provide extensive indentation support, such as automatic indenting and highlighting the current block“</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idenc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can be seen in the popular SPE editor shown in Figure 1."</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eck: is this enough of a reason for the audienc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Deal with potential objections</a:t>
            </a:r>
            <a:endParaRPr b="0" lang="en-US" sz="4000" spc="-1" strike="noStrike">
              <a:solidFill>
                <a:srgbClr val="5a6378"/>
              </a:solidFill>
              <a:latin typeface="Calibri"/>
            </a:endParaRPr>
          </a:p>
        </p:txBody>
      </p:sp>
      <p:sp>
        <p:nvSpPr>
          <p:cNvPr id="573"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it enough to counter the objection?</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s on your audience</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possible that the real fight is over the objections, not the main claim</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ld add other reasons or other claim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addition, researchers in the area of CS education have suggested that correct program indentation is an important skill that should be taught early, and that Python's focus on indentation helps students practice and master this skill from the start (Zelle, 2000)."</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Feedback on first summary</a:t>
            </a:r>
            <a:endParaRPr b="0" lang="en-US" sz="4000" spc="-1" strike="noStrike">
              <a:solidFill>
                <a:srgbClr val="5a6378"/>
              </a:solidFill>
              <a:latin typeface="Calibri"/>
            </a:endParaRPr>
          </a:p>
        </p:txBody>
      </p:sp>
      <p:sp>
        <p:nvSpPr>
          <p:cNvPr id="522"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ts of room for improvement</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 problem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mmar and mechanic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clear sentence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ganization of paragraph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all organization of summa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onclude</a:t>
            </a:r>
            <a:endParaRPr b="0" lang="en-US" sz="4000" spc="-1" strike="noStrike">
              <a:solidFill>
                <a:srgbClr val="5a6378"/>
              </a:solidFill>
              <a:latin typeface="Calibri"/>
            </a:endParaRPr>
          </a:p>
        </p:txBody>
      </p:sp>
      <p:sp>
        <p:nvSpPr>
          <p:cNvPr id="575"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e back out from the detail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mind the reader of the main points </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 reason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ions that have been answered</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tate the main claim</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summary, Python's simple syntax, which allows students to focus on important concepts, and its lack of substantial drawbacks, make it an ideal choice for first-year computer scienc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Feedback on first summary</a:t>
            </a:r>
            <a:endParaRPr b="0" lang="en-US" sz="4000" spc="-1" strike="noStrike">
              <a:solidFill>
                <a:srgbClr val="5a6378"/>
              </a:solidFill>
              <a:latin typeface="Calibri"/>
            </a:endParaRPr>
          </a:p>
        </p:txBody>
      </p:sp>
      <p:sp>
        <p:nvSpPr>
          <p:cNvPr id="524"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ammar and mechanics: </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ticles (</a:t>
            </a:r>
            <a:r>
              <a:rPr b="0" i="1" lang="en-US" sz="2400" spc="-1" strike="noStrike">
                <a:solidFill>
                  <a:srgbClr val="000000"/>
                </a:solidFill>
                <a:latin typeface="Calibri"/>
              </a:rPr>
              <a:t>a</a:t>
            </a:r>
            <a:r>
              <a:rPr b="0" lang="en-US" sz="2400" spc="-1" strike="noStrike">
                <a:solidFill>
                  <a:srgbClr val="000000"/>
                </a:solidFill>
                <a:latin typeface="Calibri"/>
              </a:rPr>
              <a:t>, </a:t>
            </a:r>
            <a:r>
              <a:rPr b="0" i="1" lang="en-US" sz="2400" spc="-1" strike="noStrike">
                <a:solidFill>
                  <a:srgbClr val="000000"/>
                </a:solidFill>
                <a:latin typeface="Calibri"/>
              </a:rPr>
              <a:t>an, the, </a:t>
            </a:r>
            <a:r>
              <a:rPr b="0" lang="en-US" sz="2400" spc="-1" strike="noStrike">
                <a:solidFill>
                  <a:srgbClr val="000000"/>
                </a:solidFill>
                <a:latin typeface="Calibri"/>
              </a:rPr>
              <a:t>etc.)</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pitalization</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ting sentences with ‘and’ and ‘but’</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lling (!)</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tle and author of the passage</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Feedback on first summary</a:t>
            </a:r>
            <a:endParaRPr b="0" lang="en-US" sz="4000" spc="-1" strike="noStrike">
              <a:solidFill>
                <a:srgbClr val="5a6378"/>
              </a:solidFill>
              <a:latin typeface="Calibri"/>
            </a:endParaRPr>
          </a:p>
        </p:txBody>
      </p:sp>
      <p:sp>
        <p:nvSpPr>
          <p:cNvPr id="526"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clear sentence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tences that are difficult to parse</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tences whose meaning is difficult to determine</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tences that seem to mean nothing at all</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d choi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Feedback on first summary</a:t>
            </a:r>
            <a:endParaRPr b="0" lang="en-US" sz="4000" spc="-1" strike="noStrike">
              <a:solidFill>
                <a:srgbClr val="5a6378"/>
              </a:solidFill>
              <a:latin typeface="Calibri"/>
            </a:endParaRPr>
          </a:p>
        </p:txBody>
      </p:sp>
      <p:sp>
        <p:nvSpPr>
          <p:cNvPr id="528"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agraph organization</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mmaries should be written in paragraph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aragraph should convey a single idea</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that I read were collections of statements, seemingly extracted from the reading at random</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Feedback on first summary</a:t>
            </a:r>
            <a:endParaRPr b="0" lang="en-US" sz="4000" spc="-1" strike="noStrike">
              <a:solidFill>
                <a:srgbClr val="5a6378"/>
              </a:solidFill>
              <a:latin typeface="Calibri"/>
            </a:endParaRPr>
          </a:p>
        </p:txBody>
      </p:sp>
      <p:sp>
        <p:nvSpPr>
          <p:cNvPr id="530"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verall organization of the summary</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author trying to say?</a:t>
            </a:r>
            <a:endParaRPr b="0" lang="en-US" sz="2400" spc="-1" strike="noStrike">
              <a:solidFill>
                <a:srgbClr val="000000"/>
              </a:solidFill>
              <a:latin typeface="Calibri"/>
            </a:endParaRPr>
          </a:p>
          <a:p>
            <a:pPr lvl="2" marL="822240" indent="-228600">
              <a:spcBef>
                <a:spcPts val="374"/>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main claim?</a:t>
            </a:r>
            <a:endParaRPr b="0" lang="en-US" sz="20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re the main ideas, arguments, reason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ing the paper vs. summarizing the content</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Look familiar?</a:t>
            </a:r>
            <a:endParaRPr b="0" lang="en-US" sz="4000" spc="-1" strike="noStrike">
              <a:solidFill>
                <a:srgbClr val="5a6378"/>
              </a:solidFill>
              <a:latin typeface="Calibri"/>
            </a:endParaRPr>
          </a:p>
        </p:txBody>
      </p:sp>
      <p:sp>
        <p:nvSpPr>
          <p:cNvPr id="532" name=""/>
          <p:cNvSpPr txBox="1"/>
          <p:nvPr/>
        </p:nvSpPr>
        <p:spPr>
          <a:xfrm>
            <a:off x="685800" y="1447920"/>
            <a:ext cx="7772400" cy="4572000"/>
          </a:xfrm>
          <a:prstGeom prst="rect">
            <a:avLst/>
          </a:prstGeom>
          <a:noFill/>
          <a:ln w="0">
            <a:noFill/>
          </a:ln>
        </p:spPr>
        <p:txBody>
          <a:bodyPr anchor="t">
            <a:normAutofit fontScale="94000"/>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ther key aspect of this thesis is availability. This is defined as how accessible an individual is.  It is in many ways the other half of the natural interaction of awareness. While others are aware of you, you are available to them. In this context, it is the level of social interaction that you are capable of or willing to be a part of. Whereas awareness is the interpretation by others of data about you, availability relates more to the raw data (embodiment, location, activity) about you as an individual. Where awareness is the metaphor for the social status you provide, availability contains the semantic information that you presen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riting a summary</a:t>
            </a:r>
            <a:endParaRPr b="0" lang="en-US" sz="4000" spc="-1" strike="noStrike">
              <a:solidFill>
                <a:srgbClr val="5a6378"/>
              </a:solidFill>
              <a:latin typeface="Calibri"/>
            </a:endParaRPr>
          </a:p>
        </p:txBody>
      </p:sp>
      <p:sp>
        <p:nvSpPr>
          <p:cNvPr id="534" name=""/>
          <p:cNvSpPr txBox="1"/>
          <p:nvPr/>
        </p:nvSpPr>
        <p:spPr>
          <a:xfrm>
            <a:off x="685800" y="1447920"/>
            <a:ext cx="7772400" cy="4572000"/>
          </a:xfrm>
          <a:prstGeom prst="rect">
            <a:avLst/>
          </a:prstGeom>
          <a:noFill/>
          <a:ln w="0">
            <a:noFill/>
          </a:ln>
        </p:spPr>
        <p:txBody>
          <a:bodyPr anchor="t">
            <a:normAutofit fontScale="99000"/>
          </a:bodyPr>
          <a:p>
            <a:pPr marL="270000" indent="-27000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ad the passage carefully.</a:t>
            </a:r>
            <a:endParaRPr b="0" lang="en-US" sz="2600" spc="-1" strike="noStrike">
              <a:solidFill>
                <a:srgbClr val="000000"/>
              </a:solidFill>
              <a:latin typeface="Calibri"/>
            </a:endParaRPr>
          </a:p>
          <a:p>
            <a:pPr marL="270000" indent="-27000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termine the passage’s structure.</a:t>
            </a:r>
            <a:endParaRPr b="0" lang="en-US" sz="2600" spc="-1" strike="noStrike">
              <a:solidFill>
                <a:srgbClr val="000000"/>
              </a:solidFill>
              <a:latin typeface="Calibri"/>
            </a:endParaRPr>
          </a:p>
          <a:p>
            <a:pPr marL="270000" indent="-27000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author's purpose in writing.</a:t>
            </a:r>
            <a:endParaRPr b="0" lang="en-US" sz="2600" spc="-1" strike="noStrike">
              <a:solidFill>
                <a:srgbClr val="000000"/>
              </a:solidFill>
              <a:latin typeface="Calibri"/>
            </a:endParaRPr>
          </a:p>
          <a:p>
            <a:pPr marL="270000" indent="-27000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read, divide, label, and underline.</a:t>
            </a:r>
            <a:endParaRPr b="0" lang="en-US" sz="2600" spc="-1" strike="noStrike">
              <a:solidFill>
                <a:srgbClr val="000000"/>
              </a:solidFill>
              <a:latin typeface="Calibri"/>
            </a:endParaRPr>
          </a:p>
          <a:p>
            <a:pPr lvl="1" marL="541800" indent="-22608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s important?</a:t>
            </a:r>
            <a:endParaRPr b="0" lang="en-US" sz="2400" spc="-1" strike="noStrike">
              <a:solidFill>
                <a:srgbClr val="000000"/>
              </a:solidFill>
              <a:latin typeface="Calibri"/>
            </a:endParaRPr>
          </a:p>
          <a:p>
            <a:pPr marL="270000" indent="-27000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one-sentence summaries of each main point.</a:t>
            </a:r>
            <a:endParaRPr b="0" lang="en-US" sz="2600" spc="-1" strike="noStrike">
              <a:solidFill>
                <a:srgbClr val="000000"/>
              </a:solidFill>
              <a:latin typeface="Calibri"/>
            </a:endParaRPr>
          </a:p>
          <a:p>
            <a:pPr marL="270000" indent="-27000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one-sentence summary of the entire passage.</a:t>
            </a:r>
            <a:endParaRPr b="0" lang="en-US" sz="2600" spc="-1" strike="noStrike">
              <a:solidFill>
                <a:srgbClr val="000000"/>
              </a:solidFill>
              <a:latin typeface="Calibri"/>
            </a:endParaRPr>
          </a:p>
          <a:p>
            <a:pPr lvl="1" marL="541800" indent="-22608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uld express the central idea of the passage</a:t>
            </a:r>
            <a:endParaRPr b="0" lang="en-US" sz="2400" spc="-1" strike="noStrike">
              <a:solidFill>
                <a:srgbClr val="000000"/>
              </a:solidFill>
              <a:latin typeface="Calibri"/>
            </a:endParaRPr>
          </a:p>
          <a:p>
            <a:pPr marL="270000" indent="-27000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first draft of your summary.</a:t>
            </a:r>
            <a:endParaRPr b="0" lang="en-US" sz="2600" spc="-1" strike="noStrike">
              <a:solidFill>
                <a:srgbClr val="000000"/>
              </a:solidFill>
              <a:latin typeface="Calibri"/>
            </a:endParaRPr>
          </a:p>
          <a:p>
            <a:pPr marL="270000" indent="-27000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read, check your summary, revis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gutwin</dc:creator>
  <dc:description/>
  <dc:language>en-US</dc:language>
  <cp:lastModifiedBy>Carl Gutwin</cp:lastModifiedBy>
  <dcterms:modified xsi:type="dcterms:W3CDTF">2008-10-03T16:46:27Z</dcterms:modified>
  <cp:revision>132</cp:revision>
  <dc:subject/>
  <dc:title>CMPT 105 Building Interactive Systems</dc:title>
</cp:coreProperties>
</file>