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dt" idx="37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6840" rIns="96840" tIns="48240" bIns="482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6378"/>
                </a:solidFill>
                <a:latin typeface="Calibri"/>
              </a:rPr>
              <a:t>Click to move the slide</a:t>
            </a: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 type="ftr" idx="38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 type="sldNum" idx="39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12C4F-1E54-435F-8BE5-F75A2C06215A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83EA9-9F66-43D6-B99D-616DF738D50F}" type="slidenum">
              <a:rPr b="0" lang="en-CA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86AEC-E7D0-4381-BB10-37E1D1C15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C8D6C-57B2-49EE-AF65-2DCBAF55C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3F577F-BBD7-4582-B73C-FA9151E24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D96C9D-1FD1-4996-A9B6-6D34BD9F3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759178-C5F5-4296-8ADC-48085EA64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D901EC-07A2-4B3C-BF53-44B9009DA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FEA189-C69E-4605-A632-8E6A21E72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989536-4632-46F5-8B26-5754A1534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D9BC87-0D24-457D-872B-1DEA8D8D4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31F391-23F6-4D8F-95A0-A1583FCAE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8DD23E-43A6-4184-B68F-1EF824374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1EEF0E-91E7-48B9-9920-7A5D70219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5002D-EFDC-46B0-898A-008A92D40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7B27C6-9667-4453-890C-C552CD67A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352215-2BED-4C8A-8266-699BE205B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F7885F-2BCC-48AE-8AE3-742CCE6A8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F91647-01A3-46E6-BB4F-1E49076A0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694403-40AB-4EC5-840E-AA6C9A5F1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B40342-8BBA-4DB8-9FC5-7D3BEC10C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7838AF-9404-46D0-A891-2FB7E6D2E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C43208-7396-4DC2-8113-8BBF3E1A0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4EA54C-C35E-4F99-A856-8BAF4B240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6FBB58-A9F2-4007-A103-5CF9D5C59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6426B-70FC-4945-96B8-46B802DDB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D41093-B070-41C8-8EA5-EAE0B62C9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55222F-4F5B-44EA-A757-935E1D9B6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3E7F0F-64B7-405F-921C-AEF596CCE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9846F7-3056-4390-8455-34909DF86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C13B0B-9339-48A5-A013-B2EA5A3F6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6D9C5C-0A58-4B01-AC1C-258580C28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3336C3-360C-4204-8FAB-ED1C873EE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8912C8-0E64-4437-A371-E78C3121B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73E8D6-6E4F-4C55-9EF8-DF5FBE50E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04ED42-8814-4162-9FFB-7B8584748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0D1BD-E48C-4E25-9F6C-CF8E8186C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B5F7E7-E05C-4475-BB35-7274D19B5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8130B1-1F8E-4816-9310-29AABF1E4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8B4EAF-7533-4BFB-A90E-9DEE8CAE4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14ADBC-64E7-4C45-9D8B-207193A4F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955DA2-3928-436E-A79B-187145F38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3FA6EF-8B37-4C72-9F53-641E95D09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3EB192-A378-4D15-9498-9B834BE7F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DECC88-DE82-467E-A62B-98E664523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225AC5-BAFE-49A4-AC3E-AB64587B3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8E8631-FA40-4AB9-9751-89B6B87BC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E9C7B-4A08-4EA5-A619-BBCB2FBCA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28722E-6621-4AE8-B8F2-058679734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12BBC6-DA99-48B8-A55D-728F9BDF3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94C193-A5C9-4151-875E-13A4CE0FE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4EFCE8-751C-440E-BFB3-ECDFB1073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0EF16F-8438-4B48-94B9-CB1B53D5C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C566E-BDD2-4BA3-9A3B-68A3A3ED2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BF105-FC7C-4D02-AA77-2CCBBFAA5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9AF63-5812-414E-9CEA-EDBBEC2A8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C5A05-6D5B-45A9-972E-31C9AC9C3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1CB6F-03A6-4F65-B304-60B7B8E0E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B2D6F-60ED-4B00-A0F9-071969B00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0BCA1-C4F2-4450-8A06-1272515EF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A3201-A1FA-4F9D-A030-BC2427447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CAB78-07A0-456A-930D-CBBFBE48B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D603B-EABB-4A23-9CD6-4543666FE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E424C-70D7-4EA6-8E05-972989888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76B764-6F23-4690-B18E-9D8A752B4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8D71FA-FFD4-4158-AAE9-1C9DFF2CD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63A2CD-B46C-4C3A-AB1D-0E09B927D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BDA56A-29B7-4F22-B33B-7D4E88184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4DCCA3-C650-4010-A210-D72515F34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24B12-0A4D-4408-8EB4-D998590D5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B8B9B7-2636-454F-82F6-0C2E83F9E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ABEA2C-4009-4665-B339-FBB39A8C7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89A547-9208-486A-ABF7-88B1A7F8D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50BDBA-9D94-48F8-AB54-3196C6D85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D3F5BE-40A7-47B4-8541-3470E6F55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148ABD-27EC-4FFC-AD05-AE1D2093F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4AAA72-133F-4B40-9BB7-4D38331DF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0BD802-18D8-400D-837E-570ED8FD1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07EBEC-FFC9-4716-8B37-6FB82D3A5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7DB034-E614-44B4-9664-30AD409E7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22043-5E2B-4213-A8CA-7E58817FE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6DE922-4526-4400-9342-7E73CF1E7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4C193D-1FDD-4C72-B4D4-86C532F05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0BD062-EC1E-4C0B-B7FD-39E3B0769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045C4D-8243-4755-8492-A0B1694E6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C9F743-2609-4761-AC1A-A783CEC65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5CEB28-CA73-4265-BE23-8AEAB19CA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35CC34-2169-4676-B4D5-54D47E888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D757B1-0BF8-494D-BE7A-A70B5603B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24F85B-343E-4148-AC2A-02EC788DA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45BF74-516F-45F4-B9E0-098BE3E55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3613D-7773-4B60-9EFC-350F4EF0C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71D0E9-E30D-4EF5-8740-60E565614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465590-1423-4A66-A128-7E78AD621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DCBCE6-7981-48FD-8AB3-44C15E8CB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947D85-7A68-46C3-8E8A-A426669C8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783FD6-DFD5-4735-B584-6F95995F6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3102AF-2214-455C-B618-6144FDCF0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EC1DDF-9A3B-46AB-B2BF-ED213F58B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0BE4A4-BF8B-4A87-BBF9-566CC2ECB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DC5975-7238-43D3-8576-969CE1746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992A0E-4FE0-4F23-B3AC-11E2A5A77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E4FEA-B8E9-41B0-8FAA-F275593AC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F47720-BB57-4495-82A2-E94C72402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81DEBE-A5FE-4BDA-B8AB-46CC7DA00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12F102-CC56-45CC-A2D5-0559B8ED6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2F95BF-DF8F-4A48-AFA7-D18B4CF90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7DFE13-8232-4387-948C-76C6CABC6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C53883-2A9A-499D-ADD9-AACC74340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98F66A-EEB5-4FFC-8EDD-97F686442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19063A-DEB6-4205-B437-46DFFA704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401E5B-5E1C-41FC-949E-CAC9651DC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FDF9FF-279B-436E-A2FA-42D219253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FB1D3-D8E9-44F1-A005-6C594FE51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4A9ED0-6C36-4A1C-A6BF-22F0E3FF7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42841C-954E-49C8-88A2-8CB762EA7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82DA52-A679-4B91-B755-D8D034405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CB2E2D-B731-4F8B-AEE1-A2F63CF2D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2B2064-B684-4F8B-9043-A25506C8E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12619B-4B71-4FE2-B81C-85869606A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FB4E03-206F-4572-83F2-E5A4AD8F5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A5EA9F-CA33-4C94-9562-705268D89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0D494D-0AFF-4BA9-B283-207F9FF8A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8CB9E8-1393-4BF8-998F-672CE8DC4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4CF34-9C19-4461-A383-B97045D4C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461F31-39E0-45D9-818E-577387F22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E0B0D7-B09E-4621-B393-072049D3E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B7FE74-CC47-40C2-9527-E19682746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9F08E4-913A-4250-928A-7E1391E63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CAC12C-1EAA-4FB9-8612-55544881C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1A62A4-69FF-4DE8-B7AA-E7096840C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0DFB86-975F-4410-8625-23A0AB634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2AD777-315E-4859-8EB7-13243F351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0E1344-8918-4692-B08C-42C4D653F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5578CA-0A94-403F-A50D-289D193F6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F8D53-C646-41DD-BF66-7E3B1E76C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A197D5-3E62-4593-A31E-72CE458B0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A31F31-60CF-492B-944E-0816184CB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B8C35A-618A-4677-820D-8F874E448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0F7579-89E0-412C-AFB4-AE8F2C760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CF6B21-A0AE-4E0D-B7FA-45219D1A0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802C60-60E9-47F5-9102-CD18AFC1D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267C44-91CF-49F0-8555-836645E8B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85B53E-6814-4C77-AA2B-2552FA31C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735D55-ED33-4E81-9492-37C313AF1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7D5F02-4509-442F-94CC-66B59AFCE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aaaa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60b5cc"/>
          </a:solidFill>
          <a:ln w="1260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ounded Rectangle 7"/>
          <p:cNvSpPr/>
          <p:nvPr/>
        </p:nvSpPr>
        <p:spPr>
          <a:xfrm>
            <a:off x="63360" y="7632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6378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575"/>
              </a:spcBef>
              <a:buClr>
                <a:srgbClr val="60b5c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575"/>
              </a:spcBef>
              <a:buClr>
                <a:srgbClr val="f6d3a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575"/>
              </a:spcBef>
              <a:buClr>
                <a:srgbClr val="e66c7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575"/>
              </a:spcBef>
              <a:buClr>
                <a:srgbClr val="e66c7d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DFD6D-C0F0-4904-A37B-07C73FD72B60}" type="slidenum">
              <a:rPr b="0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aaaa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8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f6d3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ectangle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e886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6378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575"/>
              </a:spcBef>
              <a:buClr>
                <a:srgbClr val="60b5c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575"/>
              </a:spcBef>
              <a:buClr>
                <a:srgbClr val="f6d3a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575"/>
              </a:spcBef>
              <a:buClr>
                <a:srgbClr val="e66c7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575"/>
              </a:spcBef>
              <a:buClr>
                <a:srgbClr val="e66c7d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 type="dt" idx="28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 type="ftr" idx="29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 type="sldNum" idx="30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763B8-AC32-483A-8E39-B8AC5E620497}" type="slidenum">
              <a:rPr b="0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aaaa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6378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575"/>
              </a:spcBef>
              <a:buClr>
                <a:srgbClr val="60b5c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575"/>
              </a:spcBef>
              <a:buClr>
                <a:srgbClr val="f6d3a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575"/>
              </a:spcBef>
              <a:buClr>
                <a:srgbClr val="e66c7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575"/>
              </a:spcBef>
              <a:buClr>
                <a:srgbClr val="e66c7d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 type="dt" idx="3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 type="ftr" idx="3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 type="sldNum" idx="3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DAB0F-273B-410B-87ED-91C0BB67D6AB}" type="slidenum">
              <a:rPr b="0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aaaa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6378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575"/>
              </a:spcBef>
              <a:buClr>
                <a:srgbClr val="60b5c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575"/>
              </a:spcBef>
              <a:buClr>
                <a:srgbClr val="f6d3a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575"/>
              </a:spcBef>
              <a:buClr>
                <a:srgbClr val="e66c7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575"/>
              </a:spcBef>
              <a:buClr>
                <a:srgbClr val="e66c7d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dt" idx="3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 type="ftr" idx="3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 type="sldNum" idx="3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652AB-8FF7-4E5B-9FD9-FEE6F55C4427}" type="slidenum">
              <a:rPr b="0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aaaa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ounded Rectangle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solidFill>
            <a:srgbClr val="ffffff"/>
          </a:solidFill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f6d3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e886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6378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575"/>
              </a:spcBef>
              <a:buClr>
                <a:srgbClr val="60b5c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575"/>
              </a:spcBef>
              <a:buClr>
                <a:srgbClr val="f6d3a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575"/>
              </a:spcBef>
              <a:buClr>
                <a:srgbClr val="e66c7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575"/>
              </a:spcBef>
              <a:buClr>
                <a:srgbClr val="e66c7d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271ED-2CC2-4EF9-97AE-08AC52F4A3F3}" type="slidenum">
              <a:rPr b="0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aaaa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6378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575"/>
              </a:spcBef>
              <a:buClr>
                <a:srgbClr val="60b5c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575"/>
              </a:spcBef>
              <a:buClr>
                <a:srgbClr val="f6d3a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575"/>
              </a:spcBef>
              <a:buClr>
                <a:srgbClr val="e66c7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575"/>
              </a:spcBef>
              <a:buClr>
                <a:srgbClr val="e66c7d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59432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6854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CDDC9-D80E-473B-A1A6-8FC98AF69FEA}" type="slidenum">
              <a:rPr b="0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aaaa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Rounded Rectangle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132" name="Rounded Rectangle 10" descr=""/>
            <p:cNvPicPr/>
            <p:nvPr/>
          </p:nvPicPr>
          <p:blipFill>
            <a:blip r:embed="rId2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Rectangle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f6d3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e886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6378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575"/>
              </a:spcBef>
              <a:buClr>
                <a:srgbClr val="60b5c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575"/>
              </a:spcBef>
              <a:buClr>
                <a:srgbClr val="f6d3a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575"/>
              </a:spcBef>
              <a:buClr>
                <a:srgbClr val="e66c7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575"/>
              </a:spcBef>
              <a:buClr>
                <a:srgbClr val="e66c7d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91F8D-FB2F-40F5-97F8-9507DCF8AA15}" type="slidenum">
              <a:rPr b="0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aaaa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6378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575"/>
              </a:spcBef>
              <a:buClr>
                <a:srgbClr val="60b5c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575"/>
              </a:spcBef>
              <a:buClr>
                <a:srgbClr val="f6d3a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575"/>
              </a:spcBef>
              <a:buClr>
                <a:srgbClr val="e66c7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575"/>
              </a:spcBef>
              <a:buClr>
                <a:srgbClr val="e66c7d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00881-C387-41B4-9A02-A169167880D6}" type="slidenum">
              <a:rPr b="0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aaaa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6378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575"/>
              </a:spcBef>
              <a:buClr>
                <a:srgbClr val="60b5c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575"/>
              </a:spcBef>
              <a:buClr>
                <a:srgbClr val="f6d3a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575"/>
              </a:spcBef>
              <a:buClr>
                <a:srgbClr val="e66c7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575"/>
              </a:spcBef>
              <a:buClr>
                <a:srgbClr val="e66c7d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16B1E-B3A1-48DB-B69B-74EF1C57947E}" type="slidenum">
              <a:rPr b="0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aaaa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6378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575"/>
              </a:spcBef>
              <a:buClr>
                <a:srgbClr val="60b5c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575"/>
              </a:spcBef>
              <a:buClr>
                <a:srgbClr val="f6d3a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575"/>
              </a:spcBef>
              <a:buClr>
                <a:srgbClr val="e66c7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575"/>
              </a:spcBef>
              <a:buClr>
                <a:srgbClr val="e66c7d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2C840-7243-4C1A-A788-BDAF211D8110}" type="slidenum">
              <a:rPr b="0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aaaa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6378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575"/>
              </a:spcBef>
              <a:buClr>
                <a:srgbClr val="60b5c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575"/>
              </a:spcBef>
              <a:buClr>
                <a:srgbClr val="f6d3a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575"/>
              </a:spcBef>
              <a:buClr>
                <a:srgbClr val="e66c7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575"/>
              </a:spcBef>
              <a:buClr>
                <a:srgbClr val="e66c7d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dt" idx="22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ftr" idx="23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 type="sldNum" idx="24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67784-DB31-4C95-8131-301092090B75}" type="slidenum">
              <a:rPr b="0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aaaa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ounded Rectangle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6378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575"/>
              </a:spcBef>
              <a:buClr>
                <a:srgbClr val="60b5c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575"/>
              </a:spcBef>
              <a:buClr>
                <a:srgbClr val="f6d3a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575"/>
              </a:spcBef>
              <a:buClr>
                <a:srgbClr val="e66c7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575"/>
              </a:spcBef>
              <a:buClr>
                <a:srgbClr val="e66c7d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 type="dt" idx="25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 type="ftr" idx="26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 type="sldNum" idx="27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88476-A1E1-4742-8EE2-27E74A46F72C}" type="slidenum">
              <a:rPr b="0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34a5a"/>
                </a:solidFill>
                <a:latin typeface="Calibri"/>
              </a:rPr>
              <a:t>CMPT 880/890</a:t>
            </a:r>
            <a:br>
              <a:rPr sz="4000"/>
            </a:br>
            <a:r>
              <a:rPr b="0" lang="en-US" sz="4000" spc="-1" strike="noStrike">
                <a:solidFill>
                  <a:srgbClr val="434a5a"/>
                </a:solidFill>
                <a:latin typeface="Calibri"/>
              </a:rPr>
              <a:t>Reviewing</a:t>
            </a: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6378"/>
                </a:solidFill>
                <a:latin typeface="Calibri"/>
              </a:rPr>
              <a:t>How are reviewers chosen?</a:t>
            </a: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536" name=""/>
          <p:cNvSpPr txBox="1"/>
          <p:nvPr/>
        </p:nvSpPr>
        <p:spPr>
          <a:xfrm>
            <a:off x="6858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epends on the publica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n most cases, the AC tries to find the most expert reviewers for the pap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374"/>
              </a:spcBef>
              <a:buClr>
                <a:srgbClr val="60b5c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volves reading the paper careful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374"/>
              </a:spcBef>
              <a:buClr>
                <a:srgbClr val="60b5c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o does the paper cite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374"/>
              </a:spcBef>
              <a:buClr>
                <a:srgbClr val="60b5c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earn a bit about the area, and who the experts a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374"/>
              </a:spcBef>
              <a:buClr>
                <a:srgbClr val="60b5c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rite to people and as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n some cases, automatic assignment from a DB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6378"/>
                </a:solidFill>
                <a:latin typeface="Calibri"/>
              </a:rPr>
              <a:t>Rules for reviewing anything</a:t>
            </a: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6858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ead the instructions to find out what you are being asked to do and wh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f you receive no instructions and are not clear about what you are being invited to do, ask for more information or decline the reques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eview the work not the person (unless you have been asked to do this), and don’t try to be clev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dmit your limitat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Be as objective as possible and take account of (and declare) any conflicts of interest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6378"/>
                </a:solidFill>
                <a:latin typeface="Calibri"/>
              </a:rPr>
              <a:t>How to review</a:t>
            </a: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540" name=""/>
          <p:cNvSpPr txBox="1"/>
          <p:nvPr/>
        </p:nvSpPr>
        <p:spPr>
          <a:xfrm>
            <a:off x="6858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1. Get the invita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67120" indent="-26712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2. Determine whether you can do the review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67120" indent="-26712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3. Read the paper for a general overview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67120" indent="-26712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4. Read the publication’s review criteri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67120" indent="-26712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5. Read the paper again, asking yourself quest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36400" indent="-223920">
              <a:spcBef>
                <a:spcPts val="374"/>
              </a:spcBef>
              <a:buClr>
                <a:srgbClr val="60b5c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e next slid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7120" indent="-26712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6. Decide on your score for the pap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67120" indent="-26712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7. Write your review, arguing for or against the pap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67120" indent="-26712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8. Decide on your expertis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67120" indent="-26712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9. Submit your review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6378"/>
                </a:solidFill>
                <a:latin typeface="Calibri"/>
              </a:rPr>
              <a:t>How to review</a:t>
            </a: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542" name=""/>
          <p:cNvSpPr txBox="1"/>
          <p:nvPr/>
        </p:nvSpPr>
        <p:spPr>
          <a:xfrm>
            <a:off x="6858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ree questions to ask of every research repor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o I understand it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374"/>
              </a:spcBef>
              <a:buClr>
                <a:srgbClr val="60b5c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re the question and the methods clearly explained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o I believe it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374"/>
              </a:spcBef>
              <a:buClr>
                <a:srgbClr val="60b5c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re the conclusions justified by the data and are the methods valid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o I care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374"/>
              </a:spcBef>
              <a:buClr>
                <a:srgbClr val="60b5c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s the question important and interesting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6378"/>
                </a:solidFill>
                <a:latin typeface="Calibri"/>
              </a:rPr>
              <a:t>How to review</a:t>
            </a: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6858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hat is the research problem or question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s the problem/question well motivated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s the solution/answer appropriate to the question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s the evaluation appropriate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re the conclusions valid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s the work new compared to previous work?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s the work exciting and interesting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s the work well presented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oes the paper adequately refer to previous work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hould the research be published in this venue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6378"/>
                </a:solidFill>
                <a:latin typeface="Calibri"/>
              </a:rPr>
              <a:t>How to review</a:t>
            </a: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546" name=""/>
          <p:cNvSpPr txBox="1"/>
          <p:nvPr/>
        </p:nvSpPr>
        <p:spPr>
          <a:xfrm>
            <a:off x="6858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Often specific questions will be given to you in the review for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374"/>
              </a:spcBef>
              <a:buClr>
                <a:srgbClr val="60b5c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.g., domain-specific ques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epends on the venu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6378"/>
                </a:solidFill>
                <a:latin typeface="Calibri"/>
              </a:rPr>
              <a:t>How to review</a:t>
            </a: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548" name=""/>
          <p:cNvSpPr txBox="1"/>
          <p:nvPr/>
        </p:nvSpPr>
        <p:spPr>
          <a:xfrm>
            <a:off x="6858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tructure of your review repor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374"/>
              </a:spcBef>
              <a:buClr>
                <a:srgbClr val="60b5c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often specified by the publicatio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1. Summary of review and decis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374"/>
              </a:spcBef>
              <a:buClr>
                <a:srgbClr val="60b5c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in reasons for decis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2. Summary of paper and main contribu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374"/>
              </a:spcBef>
              <a:buClr>
                <a:srgbClr val="60b5c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at is the author claiming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3. The review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374"/>
              </a:spcBef>
              <a:buClr>
                <a:srgbClr val="60b5c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iscussion of earlier ques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4. Summar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6378"/>
                </a:solidFill>
                <a:latin typeface="Calibri"/>
              </a:rPr>
              <a:t>Online review systems</a:t>
            </a: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6858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our of PC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1" name="Picture 2" descr=""/>
          <p:cNvPicPr/>
          <p:nvPr/>
        </p:nvPicPr>
        <p:blipFill>
          <a:blip r:embed="rId1"/>
          <a:stretch/>
        </p:blipFill>
        <p:spPr>
          <a:xfrm>
            <a:off x="1219320" y="2057400"/>
            <a:ext cx="6858000" cy="424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6378"/>
                </a:solidFill>
                <a:latin typeface="Calibri"/>
              </a:rPr>
              <a:t>How to get invited?</a:t>
            </a: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553" name=""/>
          <p:cNvSpPr txBox="1"/>
          <p:nvPr/>
        </p:nvSpPr>
        <p:spPr>
          <a:xfrm>
            <a:off x="6858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dd your name to the review database for your conferenc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sk your advisor to practice on their reviewing du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6378"/>
                </a:solidFill>
                <a:latin typeface="Calibri"/>
              </a:rPr>
              <a:t>When </a:t>
            </a:r>
            <a:r>
              <a:rPr b="0" i="1" lang="en-US" sz="4000" spc="-1" strike="noStrike">
                <a:solidFill>
                  <a:srgbClr val="5a6378"/>
                </a:solidFill>
                <a:latin typeface="Calibri"/>
              </a:rPr>
              <a:t>not</a:t>
            </a:r>
            <a:r>
              <a:rPr b="0" lang="en-US" sz="4000" spc="-1" strike="noStrike">
                <a:solidFill>
                  <a:srgbClr val="5a6378"/>
                </a:solidFill>
                <a:latin typeface="Calibri"/>
              </a:rPr>
              <a:t> to review?</a:t>
            </a: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6858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n some cases you should not accept the reques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1. You have a conflict of interes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2. You are not enough of an exper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374"/>
              </a:spcBef>
              <a:buClr>
                <a:srgbClr val="60b5c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at is enough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3. You will not be able to complete the review properly in the required tim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f you are going to refuse, best to do so right awa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6378"/>
                </a:solidFill>
                <a:latin typeface="Calibri"/>
              </a:rPr>
              <a:t>Outline</a:t>
            </a: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hat is peer review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hy review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e review proces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ypes of review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How to review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5335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6378"/>
                </a:solidFill>
                <a:latin typeface="Calibri"/>
              </a:rPr>
              <a:t>arXiv - a peer review counterexample</a:t>
            </a: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557" name=""/>
          <p:cNvSpPr txBox="1"/>
          <p:nvPr/>
        </p:nvSpPr>
        <p:spPr>
          <a:xfrm>
            <a:off x="6858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rXiv.org is an archive of preprints in physics and math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374"/>
              </a:spcBef>
              <a:buClr>
                <a:srgbClr val="60b5c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re than 500,000 artic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Calibri"/>
              </a:rPr>
              <a:t>not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peer review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374"/>
              </a:spcBef>
              <a:buClr>
                <a:srgbClr val="60b5c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ow do they maintain quality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lf-governanc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oderato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‘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ndorsements’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6378"/>
                </a:solidFill>
                <a:latin typeface="Calibri"/>
              </a:rPr>
              <a:t>arXiv - a counterexample</a:t>
            </a: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559" name=""/>
          <p:cNvSpPr txBox="1"/>
          <p:nvPr/>
        </p:nvSpPr>
        <p:spPr>
          <a:xfrm>
            <a:off x="6858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lack of peer-review, while a concern to some, is not considered a hindrance to those who use the arXiv. Many authors exercise care in what they post. A majority of the e-prints are also submitted to journals for publication, but some work, including some very influential papers, remain purely as e-prints and are never published in a peer-reviewed journal. A well-known example is a potential proof of the Poincaré conjecture uploaded by Grigori Perelman in November 2002. Perelman appears content to forgo the traditional peer-reviewed journal process, stating "If anybody is interested in my way of solving the problem, it's all there [on the arXiv] - let them go and read about it.“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hile the arXiv does contain some dubious e-prints, such as those claiming to refute famous theorems or proving famous conjectures such as Fermat's last theorem using only high school mathematics, they are "surprisingly rare”. The arXiv generally re-classifies these works, e.g. in "General mathematics", rather than deleting them. Prominent parapsychologists - for example, Nobel laureate Brian Josephson, have complained that this reclassification amounts to academic censorship, and that the arXiv ought to have no bar to entry.”        - Wikiped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6378"/>
                </a:solidFill>
                <a:latin typeface="Calibri"/>
              </a:rPr>
              <a:t>What is peer review?</a:t>
            </a: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522" name=""/>
          <p:cNvSpPr txBox="1"/>
          <p:nvPr/>
        </p:nvSpPr>
        <p:spPr>
          <a:xfrm>
            <a:off x="6858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 formal system whereby a piece of academic work is scrutinised by people who were not involved in its creation but are considered knowledgeable about the subject.”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lso used to describe professional appraisal processes used to assess the performance of an individual, team, or department.”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374"/>
              </a:spcBef>
              <a:buClr>
                <a:srgbClr val="60b5c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Wager, Godlee, and Jeffers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6378"/>
                </a:solidFill>
                <a:latin typeface="Calibri"/>
              </a:rPr>
              <a:t>Types of reviews</a:t>
            </a: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6858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egree of formali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374"/>
              </a:spcBef>
              <a:buClr>
                <a:srgbClr val="60b5c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fficial review for a publication or agenc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374"/>
              </a:spcBef>
              <a:buClr>
                <a:srgbClr val="60b5c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formal review for a colleagu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nonymi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hat are you reviewing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374"/>
              </a:spcBef>
              <a:buClr>
                <a:srgbClr val="60b5c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pap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374"/>
              </a:spcBef>
              <a:buClr>
                <a:srgbClr val="60b5c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grant propos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374"/>
              </a:spcBef>
              <a:buClr>
                <a:srgbClr val="60b5c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person (for hiring or promotio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r papers, type of publica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374"/>
              </a:spcBef>
              <a:buClr>
                <a:srgbClr val="60b5c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ference paper, journal article, book chapter, boo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6378"/>
                </a:solidFill>
                <a:latin typeface="Calibri"/>
              </a:rPr>
              <a:t>Why review?</a:t>
            </a: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6858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eer review is a cornerstone of scienc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hy do we need review at all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374"/>
              </a:spcBef>
              <a:buClr>
                <a:srgbClr val="60b5c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e (the research community) need to judge whether a proposed piece of work is in fact a contribu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hy </a:t>
            </a:r>
            <a:r>
              <a:rPr b="0" i="1" lang="en-US" sz="2600" spc="-1" strike="noStrike">
                <a:solidFill>
                  <a:srgbClr val="000000"/>
                </a:solidFill>
                <a:latin typeface="Calibri"/>
              </a:rPr>
              <a:t>peer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review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374"/>
              </a:spcBef>
              <a:buClr>
                <a:srgbClr val="60b5c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e are the experts who can best judge the contribu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hy not judge everything for yourself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374"/>
              </a:spcBef>
              <a:buClr>
                <a:srgbClr val="60b5c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ot enough tim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374"/>
              </a:spcBef>
              <a:buClr>
                <a:srgbClr val="60b5c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ferences and journals provide authority about what is worth read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6378"/>
                </a:solidFill>
                <a:latin typeface="Calibri"/>
              </a:rPr>
              <a:t>Why review?</a:t>
            </a: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528" name=""/>
          <p:cNvSpPr txBox="1"/>
          <p:nvPr/>
        </p:nvSpPr>
        <p:spPr>
          <a:xfrm>
            <a:off x="6858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hen there are resources or prizes at stake, there is a need to decide on quali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374"/>
              </a:spcBef>
              <a:buClr>
                <a:srgbClr val="60b5c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imited number of spaces at a confere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374"/>
              </a:spcBef>
              <a:buClr>
                <a:srgbClr val="60b5c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imited number of pages in a journ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374"/>
              </a:spcBef>
              <a:buClr>
                <a:srgbClr val="60b5c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imited budget for a granting agenc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374"/>
              </a:spcBef>
              <a:buClr>
                <a:srgbClr val="60b5c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imited number of Ph.D. dissertation scholarship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cademic organizations are cheap!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374"/>
              </a:spcBef>
              <a:buClr>
                <a:srgbClr val="60b5c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o money to pay expert review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374"/>
              </a:spcBef>
              <a:buClr>
                <a:srgbClr val="60b5c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ll peer review is voluntary and unpai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6378"/>
                </a:solidFill>
                <a:latin typeface="Calibri"/>
              </a:rPr>
              <a:t>Why review?</a:t>
            </a: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6858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Keep yourself up to da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374"/>
              </a:spcBef>
              <a:buClr>
                <a:srgbClr val="60b5c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You get to look at the latest researc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374"/>
              </a:spcBef>
              <a:buClr>
                <a:srgbClr val="60b5c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Can’t talk about it though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Build your care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374"/>
              </a:spcBef>
              <a:buClr>
                <a:srgbClr val="60b5c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viewing is one of the checkmark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6378"/>
                </a:solidFill>
                <a:latin typeface="Calibri"/>
              </a:rPr>
              <a:t>The review process</a:t>
            </a: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6858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HI – a large conference on HCI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e players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374"/>
              </a:spcBef>
              <a:buClr>
                <a:srgbClr val="60b5c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wo program co-chairs (“the chairs”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374"/>
              </a:spcBef>
              <a:buClr>
                <a:srgbClr val="60b5c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ssociate chairs (“the ACs“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374"/>
              </a:spcBef>
              <a:buClr>
                <a:srgbClr val="f6d3a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ow many? number of submissions / 1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374"/>
              </a:spcBef>
              <a:buClr>
                <a:srgbClr val="60b5c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secondary AC for a paper (“the 2AC”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374"/>
              </a:spcBef>
              <a:buClr>
                <a:srgbClr val="60b5c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submitted papers (“the papers”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374"/>
              </a:spcBef>
              <a:buClr>
                <a:srgbClr val="60b5c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authors of the papers (“the authors”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374"/>
              </a:spcBef>
              <a:buClr>
                <a:srgbClr val="60b5c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peers who review the papers (“the reviewers”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6378"/>
                </a:solidFill>
                <a:latin typeface="Calibri"/>
              </a:rPr>
              <a:t>The review process</a:t>
            </a: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534" name=""/>
          <p:cNvSpPr txBox="1"/>
          <p:nvPr/>
        </p:nvSpPr>
        <p:spPr>
          <a:xfrm>
            <a:off x="6858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timelin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60b5c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ptember 20: paper submission deadlin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60b5c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ptember 25: papers assigned to ACs by chai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60b5c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ptember 30: papers assigned to reviewers by AC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60b5c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October 30: review deadline (for reviewer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60b5c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ovember 5: meta-review deadline (for AC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60b5c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ovember 10: reviews released to authors for rebutt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60b5c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ovember 15: rebuttal deadline (for author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60b5c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ovember 15-25: discussion period (reviewers and AC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60b5c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ovember 25: assignment of 2AC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60b5c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cember 5: program committee (PC) meet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60b5c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cember 12: decisions sent to autho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gutwin</dc:creator>
  <dc:description/>
  <dc:language>en-US</dc:language>
  <cp:lastModifiedBy>Carl Gutwin</cp:lastModifiedBy>
  <dcterms:modified xsi:type="dcterms:W3CDTF">2008-10-29T20:21:43Z</dcterms:modified>
  <cp:revision>214</cp:revision>
  <dc:subject/>
  <dc:title>CMPT 105 Building Interactive Systems</dc:title>
</cp:coreProperties>
</file>