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BB4-E5B2-4EBE-89E3-6AEDA7D68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75C-E667-4D4A-B239-244AE236C27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DC1-1AE1-4D1F-9E3F-4B4B0A40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989-A2DC-49AE-BEB2-45EFA6F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1F755-CA15-4D44-B2F2-DB69BF17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7C86-A0BC-42D2-83CF-F8E70C5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B10E2-8FB7-4DF6-BFF1-6061098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DED0D-E12E-4BB1-98D6-AF5A1E2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56F6-5718-4179-BC05-445EF5D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F2EFD-73C1-4D41-BA54-DED5156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4D294-D67B-42DF-B768-8FDC3906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72799-D2AC-4030-8082-35375B43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3406C-6C53-44A9-A00C-DE59DF98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5CAB2-972F-4164-BBB4-9BCCD63C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4A6-E68A-42EA-8673-7F2964FD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00A73-6D30-48E8-BCF6-95F664DA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D4726-BC50-4893-99E8-DE6326E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D4228-AB59-4E7A-B739-B441E4E2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35B88-B7C8-4CCA-B685-10D75F3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9C487-37D4-456A-82E3-0280E4F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7BB6E-F47F-4004-A65F-809934C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786C8-B118-4DE1-94D0-1FE5072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D57F8-A19C-4AAA-8D48-C79E635E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04165-77BB-45AC-A730-AC9FA5C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2410C-D14B-4FEE-8649-4987D100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BEC-CDEF-483B-BAF7-72173CB7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68EF1-884F-4384-8DCD-BCD6EA32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0697E-DDD7-4D90-A006-D0AE3D1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B8539-EBEB-45EE-935D-1EEF908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1030D-5527-482E-8749-2BA87954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D71A3-F6AB-4EAC-8F21-B5766C7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6580D-7D26-4DDD-AE7C-150DAF3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FE5CA-CCB9-4DF3-8BAD-7A22C71C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F1F7-A3FF-42BE-A696-7DBD05E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A4EF5-26BA-4E85-A8CF-C8ABBD4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CBB8F-FA40-45E5-A171-C56206F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9187-4CA9-493D-B9EF-754CE9F8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44FA1-3117-463B-BE6D-BF864277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BDDDB-28F0-4B5D-ADF6-6529D35D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9854F-04B6-4F6A-B1B7-7AFD73A3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4A047-523F-4D27-9115-633856AA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754F4-02BE-42FB-BE3D-B497C940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8E934-D932-4C88-A625-CAE1CBB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46AA8-7358-4491-B173-4F61F9A6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CD7AD-10AB-4FE1-9DFC-6649A2A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0DA07-2B71-407E-A0A3-8A78DA9D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AAB2B-AF05-4A02-BBC2-EF65834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A35-BA0E-4815-9600-AE32639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DBDB7-36C8-4F5B-9365-7BD91D21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02681-BF80-4670-84DD-A6F5B10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B3097-961A-4773-A359-184F3FC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6D748-B6B0-49BF-AE05-3730F831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6C783-FEC1-4F3A-99D7-9CAD0608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417-A07C-4E0D-A363-FD129EE8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E2D-D437-4E7F-AA18-95CAC105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5B3-CA44-4C0B-861A-F2268CF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6578-B420-46E2-BDA9-C125D76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F212-2654-4ABD-A0BD-AFC0EBA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2D4-A9C5-4BF2-BCC2-BF119B2C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C913-3E6B-4384-BD45-420F69E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4B68-23BD-43D1-8999-88E6AD0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0870-7E8E-4860-B15D-5217A4E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BC25-F9CB-4207-8824-D280CEA8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11BE-F836-444E-A15B-21EEF5A4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AEF5-5E43-42E5-8E7B-CCBCFFEF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2929-D6DB-4772-A6CE-7F137907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54B5-CFC3-4687-AB9B-2C2E6C0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E8B3-3AFE-44E7-86DA-4F18F802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8B1E-0883-40D2-8787-E6B5B32E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C93-21E3-4018-88C3-CEEC8B7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F215-1B09-47E9-9934-69D6BBB7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F3D8-176E-4B7F-B0B1-AD0B5FA3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2D36-28F4-4DF5-B031-992CB99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FF49-DFE0-41A5-9732-4C54814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5B71-3451-4980-BF3C-35AC5C6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8B68-E52C-439F-838A-823EFA97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C9B8-8BCA-4784-A325-0899B359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5D7B-6040-494C-A738-296212FD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3F52-33AA-47F1-A3B3-1C9EEBE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ADE4-68FE-4538-A4F1-6C75FD55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874-8A04-435E-A1E0-24BA494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4264-5FF7-44B9-BEEC-FC90D857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44DF-E035-4EF4-A0C8-C19B344B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9314-0D2C-42A2-ACA7-019FD27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8880-184E-467C-BA2A-8B54E8F9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AC14-5B25-44A6-AE08-6DD6AD5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4D00-57E4-4F76-A844-68BEE37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47BE-8B09-42DD-AC24-8D9E052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46D6-4F04-463B-8070-1C09BC31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20FD-E925-4AE4-A45C-FA004C1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FCF2-924C-40C2-87F4-5694378F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83C-E1B6-446A-BDDA-85FCBEAD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4FB10-D130-4FE3-8AED-C783D281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0CA8-F03F-4CDE-9C1F-8F58CB36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E4DBA-D6AE-4181-B45C-9B384B3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A00D-4F24-4671-A5C3-31DE49F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DFC8-2CED-4BF7-B008-05A9DE4C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990E-3396-4187-8C0A-149CF00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3463-285F-46DE-9DB3-5A2FCF1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22F1-BA34-4B7C-AB42-C2800ABA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75EC2-FD25-4301-969C-C112DAE3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D3604-C929-4B12-A8B9-A8CADE4E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98D-6676-41A0-8336-543B6D9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3E19-5C76-466A-B2A8-A8A4F46C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BCE8-E8DF-4471-B52A-77C02C2D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C166-A458-4679-943D-9D03FFE6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6BD7-41D1-4EA0-B7C4-596597C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C6B1-2914-4790-AF23-3FC953DD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E201-9135-4EDF-AE28-24F7A399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A730-41F6-4040-AD67-15C678E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E3D94-608E-40E4-90A2-1002CD7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FA63-BA4F-4DD4-9EE3-F4D351E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3793-A35C-452F-AB54-AF5FC6F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FEA-67B1-4AC6-84FC-B80A554C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6807-AFDF-4C70-96EF-EC63A64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8828-C3FE-4EF1-A7F7-7C10C909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4E25-16D7-4706-965F-DD255D9F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85D7-5240-4013-B2EA-7D223D1D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FEF0-F33E-4D03-AF1F-D764378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D0BAA-5A71-451C-BB93-BF7C8C7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121D-E872-41E2-B57A-7E40664C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0014-C5C5-49B5-8DFE-62EB903B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4864-958A-4B58-87CB-1BB6BB0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6BABF-56B8-4520-896E-44038B0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113-1919-4F85-9021-5166B80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EEF9-B137-48BB-830D-1E2EDD5B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31C86-1451-485F-AA3B-5908A56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8B23-5823-4962-9819-69DA5D6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DC49B-8EA7-43BC-BA50-A1E36269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2FA78-97AD-4528-AD88-BD4EFB48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2B208-AFA2-4024-AAF0-D4263503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5144B-C9D0-4C8F-9E41-BF5D83A4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3D31B-86B4-4E45-8291-E1F5BD6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FEEAF-9B59-42F3-B96C-37C105DA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9C4B0-19BA-409D-84B1-07EDB93A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CD4-E825-4B38-981A-0A6D5AD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E968C-6E62-46C3-8C7C-BDD25202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54FF-62F9-4922-BB05-3FEDEAB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C9B64-5BFB-44AD-9F37-98B1A642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76939-F50A-4F5A-BFFD-A9F0B0A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042D6-55A5-4C78-A725-EA33A0A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ADC0-5792-4062-AF40-85ED45A9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243A1-2975-4489-A420-3964DDD0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1A9B-89B4-4D7C-B93A-B3E790C4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C7EC9-9572-4B9B-8986-2AEBBA29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46787-F11D-4073-A91F-11B0E18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E741-B34F-430B-B348-571F6FEB0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1E40-D441-4EE0-87AB-C9270C821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DE39-D207-458F-B36A-9A05E40EB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AEF-19A1-43B9-B960-ACFAB9735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4C5A-E236-445B-9F8B-3F1A5B352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9812-B3CD-4AA7-97E7-4D105BDA3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2BFD-24F7-4CC7-B1B6-26123A537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B66B-89D5-4756-93D0-152524FA1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3C9A-8D5B-4099-9D8B-562A9E5D6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D170-9880-4CC6-9D9B-F9E265D2B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6D5-0FBC-4692-BF2D-78675138A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168D-2F07-48B6-860E-311542FDA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Giving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Speaking sty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husia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ze 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rvous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n doubt, write it ou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isual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h, PowerPoint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most important of all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most important of all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y “Thank You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most important of all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y “Thank You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tell your audience when to c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a goal and a message in every talk you give. Once you have those, everything else is eas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ic elements of 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ing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asic element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goa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messag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content will you pres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will you provide cont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speaking sty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visuals will you u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Your goal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are you giving the presenta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up the presentation to achieve your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Your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 want people to rememb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up the presentation so that people remember your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stuff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rd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ntex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have we be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are we go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11-19T03:38:45Z</dcterms:modified>
  <cp:revision>215</cp:revision>
  <dc:subject/>
  <dc:title>CMPT 105 Building Interactive Systems</dc:title>
</cp:coreProperties>
</file>