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wmf" ContentType="image/x-wmf"/>
  <Override PartName="/ppt/media/image12.png" ContentType="image/png"/>
  <Override PartName="/ppt/media/image6.jpeg" ContentType="image/jpeg"/>
  <Override PartName="/ppt/media/glass.wav" ContentType="audio/x-wav"/>
  <Override PartName="/ppt/media/camera.wav" ContentType="audio/x-wav"/>
  <Override PartName="/ppt/media/rabbit_fowl.WAV" ContentType="audio/x-wav"/>
  <Override PartName="/ppt/media/image5.gif" ContentType="image/gif"/>
  <Override PartName="/ppt/media/carbrake.wav" ContentType="audio/x-wav"/>
  <Override PartName="/ppt/media/image8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ricochet.wav" ContentType="audio/x-wav"/>
  <Override PartName="/ppt/media/image13.gif" ContentType="image/gif"/>
  <Override PartName="/ppt/media/clap.wav" ContentType="audio/x-wav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5.wmf" ContentType="image/x-wmf"/>
  <Override PartName="/ppt/media/image3.jpeg" ContentType="image/jpeg"/>
  <Override PartName="/ppt/media/drumroll.wav" ContentType="audio/x-wav"/>
  <Override PartName="/ppt/media/image14.wmf" ContentType="image/x-wmf"/>
  <Override PartName="/ppt/media/image10.jpeg" ContentType="image/jpeg"/>
  <Override PartName="/ppt/media/explode.wav" ContentType="audio/x-wav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C04-6469-4E97-B570-F40027F4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A75-1F10-4C5A-A26E-05E1C9B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D09-3D26-45F9-B943-6C5903A5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AAB-9E42-4C8B-9F47-C51A75AB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2777-75E7-4279-9CBD-1231818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772C-9D16-40D8-982E-7E34D7CD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26AB-10CF-4635-9037-E36DBDD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E42-456C-4CCC-83BA-80EE2329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66C-8FB0-4F3B-A966-040E7666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10E-0289-4847-A54E-E40F624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B8C-CC2C-4C76-A90F-20D7141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B75-44DF-4AC1-8BBE-0995C261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5F4-4DCF-42F6-B0E5-7351962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7B4-9E58-426D-BA91-545C1B9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AAF2-D8C2-4854-8D5C-B6F76C47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17B7-8438-4F14-93E5-EDEE1067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DC4B-1053-4528-8F40-EF0FF7BC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63A8-6456-4EDC-884A-08995C21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3D0B-EF5D-46E9-81A8-0FAAD7A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B56E-B6D5-4DC5-8799-EBDDAAC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E48F-51FC-457C-B153-003C3CDA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8F15-C1D7-4908-BEA7-9C18736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295-9D81-4BE8-AE19-6F10BF7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680C-4DE2-49A3-ACDB-8B53197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664E-C30E-4DB4-A001-3E0EA40C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B2B3-32AB-430F-8B05-735ED0E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6A85-C7EB-45A0-9429-511801A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E54C-7321-4D61-BCB7-5E6CE75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D273-13E1-4A09-AE24-B2C0701D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8A4E-CEDC-4DCB-962B-00C307FA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1BA-45F8-4583-9E0F-B9AAC64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5C6-7147-4713-AAFD-7642DD21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54B-3EFE-4382-99BD-983C364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E4D-9BF2-496E-9FAB-0666C76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6AC-5671-465D-9882-5462503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21E-2E83-4E7F-9512-891A830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4AD1-1834-4B26-9C3A-54CD8D621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5D5B-1956-4A2C-A1C7-C14239CA07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461-A8B2-4DE6-A69B-2E19CED336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carbrake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drumroll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rabbit_fowl.WAV" TargetMode="External"/><Relationship Id="rId3" Type="http://schemas.openxmlformats.org/officeDocument/2006/relationships/image" Target="../media/image7.wmf"/><Relationship Id="rId4" Type="http://schemas.openxmlformats.org/officeDocument/2006/relationships/audio" Target="../media/rabbit_fow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ff"/>
                </a:solidFill>
                <a:latin typeface="Parchment"/>
              </a:rPr>
              <a:t>How to 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25146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lackadder ITC"/>
              </a:rPr>
              <a:t>BA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9480" y="4191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Jokerman"/>
              </a:rPr>
              <a:t>PowerPoint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Script MT Bold"/>
                <a:ea typeface="Times New Roman"/>
              </a:rPr>
              <a:t>Memorize your talk word for word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  <a:ea typeface="Times New Roman"/>
              </a:rPr>
              <a:t>Then, if you lose your place, you can start all over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m lots of small size tex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very slide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43000" y="2286000"/>
            <a:ext cx="685800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, isn’t this legible from 20 feet awa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office/powerpoint/default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dezine.com/products/powerpoint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niacoleman.com/template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ebsiteestates.com/ppoin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ainybetty.com/20Percent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ainybetty.com/index1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microsoft.com/office/using/column08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esentingsolutions.com/effectivepresentations.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itbetter.com/powertip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werpointbackgrounds.com/powerpointtip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066680" y="91440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gatha"/>
              </a:rPr>
              <a:t>Start talking before the animation stop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523880" y="3505320"/>
            <a:ext cx="6096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Agatha"/>
              </a:rPr>
              <a:t>People tend to stop listening while they are watching,</a:t>
            </a:r>
            <a:br>
              <a:rPr sz="5400"/>
            </a:br>
            <a:r>
              <a:rPr b="0" lang="en-US" sz="5400" spc="-1" strike="noStrike">
                <a:solidFill>
                  <a:srgbClr val="00cc99"/>
                </a:solidFill>
                <a:latin typeface="Agatha"/>
              </a:rPr>
              <a:t> but who ca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1dfd"/>
            </a:gs>
            <a:gs pos="50000">
              <a:srgbClr val="fea008"/>
            </a:gs>
            <a:gs pos="100000">
              <a:srgbClr val="c21d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  <a:ea typeface="Times New Roman"/>
              </a:rPr>
              <a:t>Don’t use any logical progression in presenting your thoughts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  <a:ea typeface="Times New Roman"/>
              </a:rPr>
              <a:t>this will keep your audience guessing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Harlow Solid Italic"/>
                <a:ea typeface="Times New Roman"/>
              </a:rPr>
              <a:t>Use many special effec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220968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Harlow Solid Italic"/>
                <a:ea typeface="Times New Roman"/>
              </a:rPr>
              <a:t>and lots of animation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09480" y="434340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8000"/>
                </a:solidFill>
                <a:latin typeface="Harlow Solid Italic"/>
                <a:ea typeface="Times New Roman"/>
              </a:rPr>
              <a:t>everyone will be very impresse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BD10256_"/>
          <p:cNvPicPr/>
          <p:nvPr/>
        </p:nvPicPr>
        <p:blipFill>
          <a:blip r:embed="rId2"/>
          <a:stretch/>
        </p:blipFill>
        <p:spPr>
          <a:xfrm>
            <a:off x="1143000" y="3733920"/>
            <a:ext cx="6858000" cy="34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tick_figure"/>
          <p:cNvPicPr/>
          <p:nvPr/>
        </p:nvPicPr>
        <p:blipFill>
          <a:blip r:embed="rId3"/>
          <a:stretch/>
        </p:blipFill>
        <p:spPr>
          <a:xfrm>
            <a:off x="7391520" y="2209680"/>
            <a:ext cx="1233360" cy="12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Stick_figure"/>
          <p:cNvPicPr/>
          <p:nvPr/>
        </p:nvPicPr>
        <p:blipFill>
          <a:blip r:embed="rId4"/>
          <a:stretch/>
        </p:blipFill>
        <p:spPr>
          <a:xfrm>
            <a:off x="533520" y="5181480"/>
            <a:ext cx="1233360" cy="12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Stick_figure"/>
          <p:cNvPicPr/>
          <p:nvPr/>
        </p:nvPicPr>
        <p:blipFill>
          <a:blip r:embed="rId5"/>
          <a:stretch/>
        </p:blipFill>
        <p:spPr>
          <a:xfrm>
            <a:off x="7620120" y="5334120"/>
            <a:ext cx="1233360" cy="12333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split dir="in" orient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45720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Jokerman"/>
                <a:ea typeface="Times New Roman"/>
              </a:rPr>
              <a:t>Don’t worry about matching the design of your slides to the situation and top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SO00768_"/>
          <p:cNvPicPr/>
          <p:nvPr/>
        </p:nvPicPr>
        <p:blipFill>
          <a:blip r:embed="rId2"/>
          <a:stretch/>
        </p:blipFill>
        <p:spPr>
          <a:xfrm>
            <a:off x="5991120" y="0"/>
            <a:ext cx="315288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SY01197_"/>
          <p:cNvPicPr/>
          <p:nvPr/>
        </p:nvPicPr>
        <p:blipFill>
          <a:blip r:embed="rId3"/>
          <a:stretch/>
        </p:blipFill>
        <p:spPr>
          <a:xfrm>
            <a:off x="228600" y="3276720"/>
            <a:ext cx="8686800" cy="3319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914400" y="4952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"/>
                <a:ea typeface="Times New Roman"/>
              </a:rPr>
              <a:t>Go ahead and use a circus theme for an executive budget meet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cover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nap ITC"/>
                <a:ea typeface="Times New Roman"/>
              </a:rPr>
              <a:t>Zoom through the slides, and don’t add any more information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pull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n’t give any though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o pac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ut several unrelated ideas on a single slide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r string a single thought…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rough several sli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68600" y="2895480"/>
            <a:ext cx="61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emember Burma S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Pristina"/>
                <a:ea typeface="Times New Roman"/>
              </a:rPr>
              <a:t>Use different colors on every sli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Imprint MT Shadow"/>
                <a:ea typeface="Times New Roman"/>
              </a:rPr>
              <a:t>Don’t summarize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52388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Imprint MT Shadow"/>
                <a:ea typeface="Times New Roman"/>
              </a:rPr>
              <a:t>review the major point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09480" y="3429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Imprint MT Shadow"/>
                <a:ea typeface="Times New Roman"/>
              </a:rPr>
              <a:t>or bring your presentation full circle to a conclus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43000" y="152388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ff"/>
                </a:solidFill>
                <a:latin typeface="Stencil"/>
              </a:rPr>
              <a:t>And be sure to end with this view…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reated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with tongue firmly in cheek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6553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haron Barn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uth Central Kansas Library Syste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barnes@sckls.inf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urlz MT"/>
                <a:ea typeface="Times New Roman"/>
              </a:rPr>
              <a:t>Use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Ravie"/>
                <a:ea typeface="Times New Roman"/>
              </a:rPr>
              <a:t>lots</a:t>
            </a:r>
            <a:br>
              <a:rPr sz="8800"/>
            </a:br>
            <a:r>
              <a:rPr b="0" lang="en-US" sz="7200" spc="-1" strike="noStrike">
                <a:solidFill>
                  <a:srgbClr val="000000"/>
                </a:solidFill>
                <a:latin typeface="comic"/>
                <a:ea typeface="Times New Roman"/>
              </a:rPr>
              <a:t>of</a:t>
            </a:r>
            <a:br>
              <a:rPr sz="7200"/>
            </a:br>
            <a:r>
              <a:rPr b="1" lang="en-US" sz="9600" spc="-1" strike="noStrike">
                <a:solidFill>
                  <a:srgbClr val="000000"/>
                </a:solidFill>
                <a:latin typeface="Old English Text MT"/>
                <a:ea typeface="Times New Roman"/>
              </a:rPr>
              <a:t>fancy</a:t>
            </a:r>
            <a:r>
              <a:rPr b="1" lang="en-US" sz="9600" spc="-1" strike="noStrike">
                <a:solidFill>
                  <a:srgbClr val="000000"/>
                </a:solidFill>
                <a:latin typeface="Vivaldi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gonaut"/>
                <a:ea typeface="Times New Roman"/>
              </a:rPr>
              <a:t>fo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Don’t prepare any handout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Everyone will be paying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to your every wor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and will remember every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next week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dca"/>
                </a:solidFill>
                <a:latin typeface="Times New Roman"/>
                <a:ea typeface="Times New Roman"/>
              </a:rPr>
              <a:t>so who needs pap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Tahoma"/>
                <a:ea typeface="Times New Roman"/>
              </a:rPr>
              <a:t>Don’t worry about checking speling or grama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80"/>
                </a:solidFill>
                <a:latin typeface="Papyrus"/>
                <a:ea typeface="Times New Roman"/>
              </a:rPr>
              <a:t>Save your main point until the very end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41911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80"/>
                </a:solidFill>
                <a:latin typeface="Papyrus"/>
                <a:ea typeface="Times New Roman"/>
              </a:rPr>
              <a:t>then say it only onc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811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Baskerville Old Face"/>
                <a:ea typeface="Times New Roman"/>
              </a:rPr>
              <a:t>Don’t rehearse, and 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Baskerville Old Face"/>
                <a:ea typeface="Times New Roman"/>
              </a:rPr>
              <a:t>don’t check out the equipment or facility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Baskerville Old Face"/>
                <a:ea typeface="Times New Roman"/>
              </a:rPr>
              <a:t>before your presentation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Baskerville Old Face"/>
                <a:ea typeface="Times New Roman"/>
              </a:rPr>
              <a:t>starting tim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PC_cries"/>
          <p:cNvPicPr/>
          <p:nvPr/>
        </p:nvPicPr>
        <p:blipFill>
          <a:blip r:embed="rId1"/>
          <a:stretch/>
        </p:blipFill>
        <p:spPr>
          <a:xfrm>
            <a:off x="6781680" y="1447920"/>
            <a:ext cx="1146240" cy="1371600"/>
          </a:xfrm>
          <a:prstGeom prst="rect">
            <a:avLst/>
          </a:prstGeom>
          <a:ln w="0">
            <a:noFill/>
          </a:ln>
        </p:spPr>
      </p:pic>
    </p:spTree>
  </p:cSld>
  <p:transition advTm="10000">
    <p:cut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Bookman Old Style"/>
                <a:ea typeface="Times New Roman"/>
              </a:rPr>
              <a:t>Use monochromatic,</a:t>
            </a:r>
            <a:br>
              <a:rPr sz="6000"/>
            </a:br>
            <a:r>
              <a:rPr b="0" lang="en-US" sz="6000" spc="-1" strike="noStrike">
                <a:solidFill>
                  <a:srgbClr val="3366ff"/>
                </a:solidFill>
                <a:latin typeface="Bookman Old Style"/>
                <a:ea typeface="Times New Roman"/>
              </a:rPr>
              <a:t> low contrast col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3366ff"/>
                </a:solidFill>
                <a:latin typeface="Bookman Old Style"/>
              </a:rPr>
              <a:t>for text and backgr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rush Script MT"/>
                <a:ea typeface="Times New Roman"/>
              </a:rPr>
              <a:t>Use irrelevant graph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287964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Brush Script MT"/>
                <a:ea typeface="Times New Roman"/>
              </a:rPr>
              <a:t>and audio cl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480" y="464832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Brush Script MT"/>
                <a:ea typeface="Times New Roman"/>
              </a:rPr>
              <a:t>to distract your audienc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j00790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190512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advTm="14000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bbit_f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6:24:33Z</dcterms:created>
  <dc:creator>sbarnes</dc:creator>
  <dc:description/>
  <dc:language>en-US</dc:language>
  <cp:lastModifiedBy>Carl Gutwin</cp:lastModifiedBy>
  <cp:lastPrinted>2003-10-24T16:11:27Z</cp:lastPrinted>
  <dcterms:modified xsi:type="dcterms:W3CDTF">2008-11-19T03:16:11Z</dcterms:modified>
  <cp:revision>53</cp:revision>
  <dc:subject/>
  <dc:title>How to do Bad PowerPoint</dc:title>
</cp:coreProperties>
</file>